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EE6-9177-45C9-A814-89FF247E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CF1-3AF1-43A0-A936-4EFEF4BD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0E1-6CAD-421A-9923-DE17F977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788-EBC1-4D42-8CAD-38349FC8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A01-36C2-43EB-84B3-B7804BA4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468-09D9-40E8-A197-D377B9B8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D58-D012-4C8E-AF35-C8F27E90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730-5362-4B3F-9E88-D1144621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468-4DBC-408F-9BC5-8C8927B0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E0C-1DD8-4A65-83F8-72C2C37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6F9-D7C8-4571-BBD9-FF0AE501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6F9-4B46-4C9B-AC2F-1351DEB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98721-D261-4D5F-B264-A465B4ED31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2349000"/>
            <a:ext cx="936000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страницам С.Я.Маршака.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тематическая неделя для подготовительной к школе групп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5219640"/>
            <a:ext cx="9070920" cy="1494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и: Щукина В.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юкина О.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720" y="296820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е у детей интереса к творчеству С.Я.Марша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боты с детьми по образовательным област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Беседа о творчестве С.Я.Марш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онструирование способом оригами « Герои  сказки «Теремок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ворческое рассказывание на тему «Как бы я провел выходной день» ( по стихотворению «Хороший день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920000" y="6119640"/>
            <a:ext cx="1617840" cy="1258920"/>
            <a:chOff x="7920000" y="6119640"/>
            <a:chExt cx="1617840" cy="1258920"/>
          </a:xfrm>
        </p:grpSpPr>
        <p:sp>
          <p:nvSpPr>
            <p:cNvPr id="86" name=""/>
            <p:cNvSpPr/>
            <p:nvPr/>
          </p:nvSpPr>
          <p:spPr>
            <a:xfrm>
              <a:off x="7920000" y="6119640"/>
              <a:ext cx="1617840" cy="1258920"/>
            </a:xfrm>
            <a:prstGeom prst="roundRect">
              <a:avLst>
                <a:gd name="adj" fmla="val 28588"/>
              </a:avLst>
            </a:prstGeom>
            <a:noFill/>
            <a:ln w="288000">
              <a:solidFill>
                <a:srgbClr val="dc2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8612280" y="6388200"/>
              <a:ext cx="446040" cy="825480"/>
              <a:chOff x="8612280" y="6388200"/>
              <a:chExt cx="446040" cy="825480"/>
            </a:xfrm>
          </p:grpSpPr>
          <p:sp>
            <p:nvSpPr>
              <p:cNvPr id="88" name=""/>
              <p:cNvSpPr/>
              <p:nvPr/>
            </p:nvSpPr>
            <p:spPr>
              <a:xfrm>
                <a:off x="8744040" y="6388200"/>
                <a:ext cx="199800" cy="155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612280" y="6558120"/>
                <a:ext cx="446040" cy="338040"/>
              </a:xfrm>
              <a:custGeom>
                <a:avLst/>
                <a:gdLst/>
                <a:ahLst/>
                <a:rect l="l" t="t" r="r" b="b"/>
                <a:pathLst>
                  <a:path w="1244" h="944">
                    <a:moveTo>
                      <a:pt x="13" y="477"/>
                    </a:moveTo>
                    <a:lnTo>
                      <a:pt x="18" y="469"/>
                    </a:lnTo>
                    <a:lnTo>
                      <a:pt x="25" y="461"/>
                    </a:lnTo>
                    <a:lnTo>
                      <a:pt x="389" y="103"/>
                    </a:lnTo>
                    <a:lnTo>
                      <a:pt x="428" y="74"/>
                    </a:lnTo>
                    <a:lnTo>
                      <a:pt x="492" y="37"/>
                    </a:lnTo>
                    <a:lnTo>
                      <a:pt x="504" y="32"/>
                    </a:lnTo>
                    <a:lnTo>
                      <a:pt x="510" y="29"/>
                    </a:lnTo>
                    <a:lnTo>
                      <a:pt x="516" y="26"/>
                    </a:lnTo>
                    <a:lnTo>
                      <a:pt x="540" y="17"/>
                    </a:lnTo>
                    <a:lnTo>
                      <a:pt x="553" y="14"/>
                    </a:lnTo>
                    <a:lnTo>
                      <a:pt x="559" y="12"/>
                    </a:lnTo>
                    <a:lnTo>
                      <a:pt x="566" y="10"/>
                    </a:lnTo>
                    <a:lnTo>
                      <a:pt x="593" y="4"/>
                    </a:lnTo>
                    <a:lnTo>
                      <a:pt x="607" y="2"/>
                    </a:lnTo>
                    <a:lnTo>
                      <a:pt x="613" y="2"/>
                    </a:lnTo>
                    <a:lnTo>
                      <a:pt x="620" y="1"/>
                    </a:lnTo>
                    <a:lnTo>
                      <a:pt x="635" y="1"/>
                    </a:lnTo>
                    <a:lnTo>
                      <a:pt x="642" y="0"/>
                    </a:lnTo>
                    <a:lnTo>
                      <a:pt x="649" y="0"/>
                    </a:lnTo>
                    <a:lnTo>
                      <a:pt x="663" y="0"/>
                    </a:lnTo>
                    <a:lnTo>
                      <a:pt x="670" y="1"/>
                    </a:lnTo>
                    <a:lnTo>
                      <a:pt x="678" y="1"/>
                    </a:lnTo>
                    <a:lnTo>
                      <a:pt x="692" y="2"/>
                    </a:lnTo>
                    <a:lnTo>
                      <a:pt x="699" y="3"/>
                    </a:lnTo>
                    <a:lnTo>
                      <a:pt x="705" y="4"/>
                    </a:lnTo>
                    <a:lnTo>
                      <a:pt x="733" y="10"/>
                    </a:lnTo>
                    <a:lnTo>
                      <a:pt x="758" y="17"/>
                    </a:lnTo>
                    <a:lnTo>
                      <a:pt x="784" y="26"/>
                    </a:lnTo>
                    <a:lnTo>
                      <a:pt x="794" y="32"/>
                    </a:lnTo>
                    <a:lnTo>
                      <a:pt x="800" y="34"/>
                    </a:lnTo>
                    <a:lnTo>
                      <a:pt x="806" y="37"/>
                    </a:lnTo>
                    <a:lnTo>
                      <a:pt x="827" y="50"/>
                    </a:lnTo>
                    <a:lnTo>
                      <a:pt x="848" y="64"/>
                    </a:lnTo>
                    <a:lnTo>
                      <a:pt x="866" y="79"/>
                    </a:lnTo>
                    <a:lnTo>
                      <a:pt x="882" y="96"/>
                    </a:lnTo>
                    <a:lnTo>
                      <a:pt x="896" y="112"/>
                    </a:lnTo>
                    <a:lnTo>
                      <a:pt x="902" y="120"/>
                    </a:lnTo>
                    <a:lnTo>
                      <a:pt x="906" y="129"/>
                    </a:lnTo>
                    <a:lnTo>
                      <a:pt x="1235" y="820"/>
                    </a:lnTo>
                    <a:lnTo>
                      <a:pt x="1239" y="829"/>
                    </a:lnTo>
                    <a:lnTo>
                      <a:pt x="1240" y="834"/>
                    </a:lnTo>
                    <a:lnTo>
                      <a:pt x="1241" y="836"/>
                    </a:lnTo>
                    <a:lnTo>
                      <a:pt x="1241" y="838"/>
                    </a:lnTo>
                    <a:lnTo>
                      <a:pt x="1242" y="843"/>
                    </a:lnTo>
                    <a:lnTo>
                      <a:pt x="1243" y="845"/>
                    </a:lnTo>
                    <a:lnTo>
                      <a:pt x="1243" y="847"/>
                    </a:lnTo>
                    <a:lnTo>
                      <a:pt x="1243" y="852"/>
                    </a:lnTo>
                    <a:lnTo>
                      <a:pt x="1243" y="854"/>
                    </a:lnTo>
                    <a:lnTo>
                      <a:pt x="1243" y="856"/>
                    </a:lnTo>
                    <a:lnTo>
                      <a:pt x="1243" y="860"/>
                    </a:lnTo>
                    <a:lnTo>
                      <a:pt x="1242" y="863"/>
                    </a:lnTo>
                    <a:lnTo>
                      <a:pt x="1242" y="865"/>
                    </a:lnTo>
                    <a:lnTo>
                      <a:pt x="1240" y="874"/>
                    </a:lnTo>
                    <a:lnTo>
                      <a:pt x="1238" y="878"/>
                    </a:lnTo>
                    <a:lnTo>
                      <a:pt x="1237" y="880"/>
                    </a:lnTo>
                    <a:lnTo>
                      <a:pt x="1237" y="882"/>
                    </a:lnTo>
                    <a:lnTo>
                      <a:pt x="1234" y="886"/>
                    </a:lnTo>
                    <a:lnTo>
                      <a:pt x="1234" y="888"/>
                    </a:lnTo>
                    <a:lnTo>
                      <a:pt x="1233" y="890"/>
                    </a:lnTo>
                    <a:lnTo>
                      <a:pt x="1230" y="894"/>
                    </a:lnTo>
                    <a:lnTo>
                      <a:pt x="1229" y="896"/>
                    </a:lnTo>
                    <a:lnTo>
                      <a:pt x="1227" y="898"/>
                    </a:lnTo>
                    <a:lnTo>
                      <a:pt x="1222" y="905"/>
                    </a:lnTo>
                    <a:lnTo>
                      <a:pt x="1218" y="909"/>
                    </a:lnTo>
                    <a:lnTo>
                      <a:pt x="1216" y="911"/>
                    </a:lnTo>
                    <a:lnTo>
                      <a:pt x="1214" y="912"/>
                    </a:lnTo>
                    <a:lnTo>
                      <a:pt x="1211" y="916"/>
                    </a:lnTo>
                    <a:lnTo>
                      <a:pt x="1209" y="917"/>
                    </a:lnTo>
                    <a:lnTo>
                      <a:pt x="1207" y="918"/>
                    </a:lnTo>
                    <a:lnTo>
                      <a:pt x="1198" y="925"/>
                    </a:lnTo>
                    <a:lnTo>
                      <a:pt x="1189" y="929"/>
                    </a:lnTo>
                    <a:lnTo>
                      <a:pt x="1179" y="934"/>
                    </a:lnTo>
                    <a:lnTo>
                      <a:pt x="1168" y="938"/>
                    </a:lnTo>
                    <a:lnTo>
                      <a:pt x="1168" y="938"/>
                    </a:lnTo>
                    <a:lnTo>
                      <a:pt x="1157" y="940"/>
                    </a:lnTo>
                    <a:lnTo>
                      <a:pt x="1145" y="942"/>
                    </a:lnTo>
                    <a:lnTo>
                      <a:pt x="1140" y="942"/>
                    </a:lnTo>
                    <a:lnTo>
                      <a:pt x="1137" y="943"/>
                    </a:lnTo>
                    <a:lnTo>
                      <a:pt x="1133" y="943"/>
                    </a:lnTo>
                    <a:lnTo>
                      <a:pt x="1123" y="943"/>
                    </a:lnTo>
                    <a:lnTo>
                      <a:pt x="1118" y="942"/>
                    </a:lnTo>
                    <a:lnTo>
                      <a:pt x="1114" y="942"/>
                    </a:lnTo>
                    <a:lnTo>
                      <a:pt x="1111" y="942"/>
                    </a:lnTo>
                    <a:lnTo>
                      <a:pt x="1106" y="942"/>
                    </a:lnTo>
                    <a:lnTo>
                      <a:pt x="1103" y="941"/>
                    </a:lnTo>
                    <a:lnTo>
                      <a:pt x="1100" y="940"/>
                    </a:lnTo>
                    <a:lnTo>
                      <a:pt x="1095" y="939"/>
                    </a:lnTo>
                    <a:lnTo>
                      <a:pt x="1093" y="938"/>
                    </a:lnTo>
                    <a:lnTo>
                      <a:pt x="1091" y="938"/>
                    </a:lnTo>
                    <a:lnTo>
                      <a:pt x="1090" y="938"/>
                    </a:lnTo>
                    <a:lnTo>
                      <a:pt x="1085" y="936"/>
                    </a:lnTo>
                    <a:lnTo>
                      <a:pt x="1082" y="935"/>
                    </a:lnTo>
                    <a:lnTo>
                      <a:pt x="1079" y="935"/>
                    </a:lnTo>
                    <a:lnTo>
                      <a:pt x="1069" y="930"/>
                    </a:lnTo>
                    <a:lnTo>
                      <a:pt x="1065" y="928"/>
                    </a:lnTo>
                    <a:lnTo>
                      <a:pt x="1063" y="926"/>
                    </a:lnTo>
                    <a:lnTo>
                      <a:pt x="1060" y="925"/>
                    </a:lnTo>
                    <a:lnTo>
                      <a:pt x="1051" y="920"/>
                    </a:lnTo>
                    <a:lnTo>
                      <a:pt x="1043" y="914"/>
                    </a:lnTo>
                    <a:lnTo>
                      <a:pt x="1036" y="907"/>
                    </a:lnTo>
                    <a:lnTo>
                      <a:pt x="1032" y="903"/>
                    </a:lnTo>
                    <a:lnTo>
                      <a:pt x="1031" y="901"/>
                    </a:lnTo>
                    <a:lnTo>
                      <a:pt x="1029" y="899"/>
                    </a:lnTo>
                    <a:lnTo>
                      <a:pt x="1024" y="891"/>
                    </a:lnTo>
                    <a:lnTo>
                      <a:pt x="1019" y="883"/>
                    </a:lnTo>
                    <a:lnTo>
                      <a:pt x="885" y="603"/>
                    </a:lnTo>
                    <a:lnTo>
                      <a:pt x="885" y="746"/>
                    </a:lnTo>
                    <a:lnTo>
                      <a:pt x="295" y="746"/>
                    </a:lnTo>
                    <a:lnTo>
                      <a:pt x="295" y="492"/>
                    </a:lnTo>
                    <a:lnTo>
                      <a:pt x="236" y="551"/>
                    </a:lnTo>
                    <a:lnTo>
                      <a:pt x="236" y="551"/>
                    </a:lnTo>
                    <a:lnTo>
                      <a:pt x="236" y="551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3"/>
                    </a:lnTo>
                    <a:lnTo>
                      <a:pt x="236" y="557"/>
                    </a:lnTo>
                    <a:lnTo>
                      <a:pt x="236" y="559"/>
                    </a:lnTo>
                    <a:lnTo>
                      <a:pt x="236" y="562"/>
                    </a:lnTo>
                    <a:lnTo>
                      <a:pt x="236" y="838"/>
                    </a:lnTo>
                    <a:lnTo>
                      <a:pt x="236" y="842"/>
                    </a:lnTo>
                    <a:lnTo>
                      <a:pt x="236" y="844"/>
                    </a:lnTo>
                    <a:lnTo>
                      <a:pt x="236" y="847"/>
                    </a:lnTo>
                    <a:lnTo>
                      <a:pt x="234" y="856"/>
                    </a:lnTo>
                    <a:lnTo>
                      <a:pt x="232" y="860"/>
                    </a:lnTo>
                    <a:lnTo>
                      <a:pt x="232" y="863"/>
                    </a:lnTo>
                    <a:lnTo>
                      <a:pt x="232" y="865"/>
                    </a:lnTo>
                    <a:lnTo>
                      <a:pt x="230" y="869"/>
                    </a:lnTo>
                    <a:lnTo>
                      <a:pt x="228" y="871"/>
                    </a:lnTo>
                    <a:lnTo>
                      <a:pt x="227" y="873"/>
                    </a:lnTo>
                    <a:lnTo>
                      <a:pt x="222" y="881"/>
                    </a:lnTo>
                    <a:lnTo>
                      <a:pt x="216" y="889"/>
                    </a:lnTo>
                    <a:lnTo>
                      <a:pt x="213" y="893"/>
                    </a:lnTo>
                    <a:lnTo>
                      <a:pt x="211" y="894"/>
                    </a:lnTo>
                    <a:lnTo>
                      <a:pt x="209" y="896"/>
                    </a:lnTo>
                    <a:lnTo>
                      <a:pt x="202" y="902"/>
                    </a:lnTo>
                    <a:lnTo>
                      <a:pt x="194" y="908"/>
                    </a:lnTo>
                    <a:lnTo>
                      <a:pt x="189" y="911"/>
                    </a:lnTo>
                    <a:lnTo>
                      <a:pt x="186" y="912"/>
                    </a:lnTo>
                    <a:lnTo>
                      <a:pt x="184" y="914"/>
                    </a:lnTo>
                    <a:lnTo>
                      <a:pt x="174" y="918"/>
                    </a:lnTo>
                    <a:lnTo>
                      <a:pt x="164" y="922"/>
                    </a:lnTo>
                    <a:lnTo>
                      <a:pt x="159" y="923"/>
                    </a:lnTo>
                    <a:lnTo>
                      <a:pt x="156" y="924"/>
                    </a:lnTo>
                    <a:lnTo>
                      <a:pt x="154" y="925"/>
                    </a:lnTo>
                    <a:lnTo>
                      <a:pt x="149" y="926"/>
                    </a:lnTo>
                    <a:lnTo>
                      <a:pt x="145" y="927"/>
                    </a:lnTo>
                    <a:lnTo>
                      <a:pt x="142" y="928"/>
                    </a:lnTo>
                    <a:lnTo>
                      <a:pt x="130" y="929"/>
                    </a:lnTo>
                    <a:lnTo>
                      <a:pt x="124" y="929"/>
                    </a:lnTo>
                    <a:lnTo>
                      <a:pt x="122" y="929"/>
                    </a:lnTo>
                    <a:lnTo>
                      <a:pt x="118" y="929"/>
                    </a:lnTo>
                    <a:lnTo>
                      <a:pt x="113" y="929"/>
                    </a:lnTo>
                    <a:lnTo>
                      <a:pt x="110" y="929"/>
                    </a:lnTo>
                    <a:lnTo>
                      <a:pt x="106" y="929"/>
                    </a:lnTo>
                    <a:lnTo>
                      <a:pt x="94" y="928"/>
                    </a:lnTo>
                    <a:lnTo>
                      <a:pt x="89" y="926"/>
                    </a:lnTo>
                    <a:lnTo>
                      <a:pt x="86" y="926"/>
                    </a:lnTo>
                    <a:lnTo>
                      <a:pt x="83" y="925"/>
                    </a:lnTo>
                    <a:lnTo>
                      <a:pt x="78" y="924"/>
                    </a:lnTo>
                    <a:lnTo>
                      <a:pt x="75" y="923"/>
                    </a:lnTo>
                    <a:lnTo>
                      <a:pt x="73" y="922"/>
                    </a:lnTo>
                    <a:lnTo>
                      <a:pt x="62" y="918"/>
                    </a:lnTo>
                    <a:lnTo>
                      <a:pt x="52" y="914"/>
                    </a:lnTo>
                    <a:lnTo>
                      <a:pt x="48" y="911"/>
                    </a:lnTo>
                    <a:lnTo>
                      <a:pt x="46" y="910"/>
                    </a:lnTo>
                    <a:lnTo>
                      <a:pt x="43" y="908"/>
                    </a:lnTo>
                    <a:lnTo>
                      <a:pt x="35" y="902"/>
                    </a:lnTo>
                    <a:lnTo>
                      <a:pt x="27" y="896"/>
                    </a:lnTo>
                    <a:lnTo>
                      <a:pt x="24" y="893"/>
                    </a:lnTo>
                    <a:lnTo>
                      <a:pt x="22" y="890"/>
                    </a:lnTo>
                    <a:lnTo>
                      <a:pt x="20" y="889"/>
                    </a:lnTo>
                    <a:lnTo>
                      <a:pt x="14" y="881"/>
                    </a:lnTo>
                    <a:lnTo>
                      <a:pt x="10" y="873"/>
                    </a:lnTo>
                    <a:lnTo>
                      <a:pt x="8" y="869"/>
                    </a:lnTo>
                    <a:lnTo>
                      <a:pt x="7" y="867"/>
                    </a:lnTo>
                    <a:lnTo>
                      <a:pt x="5" y="865"/>
                    </a:lnTo>
                    <a:lnTo>
                      <a:pt x="4" y="860"/>
                    </a:lnTo>
                    <a:lnTo>
                      <a:pt x="4" y="858"/>
                    </a:lnTo>
                    <a:lnTo>
                      <a:pt x="3" y="856"/>
                    </a:lnTo>
                    <a:lnTo>
                      <a:pt x="1" y="847"/>
                    </a:lnTo>
                    <a:lnTo>
                      <a:pt x="1" y="842"/>
                    </a:lnTo>
                    <a:lnTo>
                      <a:pt x="0" y="840"/>
                    </a:lnTo>
                    <a:lnTo>
                      <a:pt x="0" y="838"/>
                    </a:lnTo>
                    <a:lnTo>
                      <a:pt x="0" y="520"/>
                    </a:lnTo>
                    <a:lnTo>
                      <a:pt x="0" y="516"/>
                    </a:lnTo>
                    <a:lnTo>
                      <a:pt x="0" y="514"/>
                    </a:lnTo>
                    <a:lnTo>
                      <a:pt x="0" y="511"/>
                    </a:lnTo>
                    <a:lnTo>
                      <a:pt x="1" y="507"/>
                    </a:lnTo>
                    <a:lnTo>
                      <a:pt x="1" y="505"/>
                    </a:lnTo>
                    <a:lnTo>
                      <a:pt x="2" y="502"/>
                    </a:lnTo>
                    <a:lnTo>
                      <a:pt x="4" y="494"/>
                    </a:lnTo>
                    <a:lnTo>
                      <a:pt x="8" y="485"/>
                    </a:lnTo>
                    <a:lnTo>
                      <a:pt x="10" y="481"/>
                    </a:lnTo>
                    <a:lnTo>
                      <a:pt x="12" y="479"/>
                    </a:lnTo>
                    <a:lnTo>
                      <a:pt x="13" y="477"/>
                    </a:lnTo>
                  </a:path>
                </a:pathLst>
              </a:custGeom>
              <a:solidFill>
                <a:srgbClr val="dc2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32800" y="6832440"/>
                <a:ext cx="423720" cy="381240"/>
              </a:xfrm>
              <a:custGeom>
                <a:avLst/>
                <a:gdLst/>
                <a:ahLst/>
                <a:rect l="l" t="t" r="r" b="b"/>
                <a:pathLst>
                  <a:path w="1181" h="1062">
                    <a:moveTo>
                      <a:pt x="236" y="0"/>
                    </a:moveTo>
                    <a:lnTo>
                      <a:pt x="826" y="0"/>
                    </a:lnTo>
                    <a:lnTo>
                      <a:pt x="826" y="153"/>
                    </a:lnTo>
                    <a:lnTo>
                      <a:pt x="825" y="165"/>
                    </a:lnTo>
                    <a:lnTo>
                      <a:pt x="1171" y="907"/>
                    </a:lnTo>
                    <a:lnTo>
                      <a:pt x="1175" y="917"/>
                    </a:lnTo>
                    <a:lnTo>
                      <a:pt x="1178" y="929"/>
                    </a:lnTo>
                    <a:lnTo>
                      <a:pt x="1179" y="934"/>
                    </a:lnTo>
                    <a:lnTo>
                      <a:pt x="1179" y="937"/>
                    </a:lnTo>
                    <a:lnTo>
                      <a:pt x="1180" y="940"/>
                    </a:lnTo>
                    <a:lnTo>
                      <a:pt x="1180" y="951"/>
                    </a:lnTo>
                    <a:lnTo>
                      <a:pt x="1179" y="957"/>
                    </a:lnTo>
                    <a:lnTo>
                      <a:pt x="1179" y="960"/>
                    </a:lnTo>
                    <a:lnTo>
                      <a:pt x="1178" y="963"/>
                    </a:lnTo>
                    <a:lnTo>
                      <a:pt x="1177" y="968"/>
                    </a:lnTo>
                    <a:lnTo>
                      <a:pt x="1177" y="971"/>
                    </a:lnTo>
                    <a:lnTo>
                      <a:pt x="1175" y="973"/>
                    </a:lnTo>
                    <a:lnTo>
                      <a:pt x="1172" y="984"/>
                    </a:lnTo>
                    <a:lnTo>
                      <a:pt x="1166" y="994"/>
                    </a:lnTo>
                    <a:lnTo>
                      <a:pt x="1160" y="1004"/>
                    </a:lnTo>
                    <a:lnTo>
                      <a:pt x="1157" y="1008"/>
                    </a:lnTo>
                    <a:lnTo>
                      <a:pt x="1154" y="1010"/>
                    </a:lnTo>
                    <a:lnTo>
                      <a:pt x="1153" y="1013"/>
                    </a:lnTo>
                    <a:lnTo>
                      <a:pt x="1148" y="1017"/>
                    </a:lnTo>
                    <a:lnTo>
                      <a:pt x="1146" y="1020"/>
                    </a:lnTo>
                    <a:lnTo>
                      <a:pt x="1144" y="1022"/>
                    </a:lnTo>
                    <a:lnTo>
                      <a:pt x="1133" y="1030"/>
                    </a:lnTo>
                    <a:lnTo>
                      <a:pt x="1123" y="1037"/>
                    </a:lnTo>
                    <a:lnTo>
                      <a:pt x="1111" y="1043"/>
                    </a:lnTo>
                    <a:lnTo>
                      <a:pt x="1098" y="1049"/>
                    </a:lnTo>
                    <a:lnTo>
                      <a:pt x="1091" y="1051"/>
                    </a:lnTo>
                    <a:lnTo>
                      <a:pt x="1087" y="1052"/>
                    </a:lnTo>
                    <a:lnTo>
                      <a:pt x="1083" y="1054"/>
                    </a:lnTo>
                    <a:lnTo>
                      <a:pt x="1069" y="1057"/>
                    </a:lnTo>
                    <a:lnTo>
                      <a:pt x="1055" y="1059"/>
                    </a:lnTo>
                    <a:lnTo>
                      <a:pt x="1047" y="1060"/>
                    </a:lnTo>
                    <a:lnTo>
                      <a:pt x="1044" y="1060"/>
                    </a:lnTo>
                    <a:lnTo>
                      <a:pt x="1040" y="1061"/>
                    </a:lnTo>
                    <a:lnTo>
                      <a:pt x="1033" y="1061"/>
                    </a:lnTo>
                    <a:lnTo>
                      <a:pt x="1029" y="1061"/>
                    </a:lnTo>
                    <a:lnTo>
                      <a:pt x="1025" y="1061"/>
                    </a:lnTo>
                    <a:lnTo>
                      <a:pt x="1019" y="1061"/>
                    </a:lnTo>
                    <a:lnTo>
                      <a:pt x="1015" y="1060"/>
                    </a:lnTo>
                    <a:lnTo>
                      <a:pt x="1011" y="1059"/>
                    </a:lnTo>
                    <a:lnTo>
                      <a:pt x="997" y="1057"/>
                    </a:lnTo>
                    <a:lnTo>
                      <a:pt x="990" y="1057"/>
                    </a:lnTo>
                    <a:lnTo>
                      <a:pt x="987" y="1056"/>
                    </a:lnTo>
                    <a:lnTo>
                      <a:pt x="984" y="1055"/>
                    </a:lnTo>
                    <a:lnTo>
                      <a:pt x="971" y="1050"/>
                    </a:lnTo>
                    <a:lnTo>
                      <a:pt x="958" y="1045"/>
                    </a:lnTo>
                    <a:lnTo>
                      <a:pt x="946" y="1039"/>
                    </a:lnTo>
                    <a:lnTo>
                      <a:pt x="941" y="1036"/>
                    </a:lnTo>
                    <a:lnTo>
                      <a:pt x="938" y="1034"/>
                    </a:lnTo>
                    <a:lnTo>
                      <a:pt x="935" y="1032"/>
                    </a:lnTo>
                    <a:lnTo>
                      <a:pt x="929" y="1029"/>
                    </a:lnTo>
                    <a:lnTo>
                      <a:pt x="927" y="1027"/>
                    </a:lnTo>
                    <a:lnTo>
                      <a:pt x="925" y="1024"/>
                    </a:lnTo>
                    <a:lnTo>
                      <a:pt x="915" y="1016"/>
                    </a:lnTo>
                    <a:lnTo>
                      <a:pt x="907" y="1007"/>
                    </a:lnTo>
                    <a:lnTo>
                      <a:pt x="903" y="1002"/>
                    </a:lnTo>
                    <a:lnTo>
                      <a:pt x="902" y="1000"/>
                    </a:lnTo>
                    <a:lnTo>
                      <a:pt x="899" y="996"/>
                    </a:lnTo>
                    <a:lnTo>
                      <a:pt x="897" y="992"/>
                    </a:lnTo>
                    <a:lnTo>
                      <a:pt x="896" y="989"/>
                    </a:lnTo>
                    <a:lnTo>
                      <a:pt x="894" y="986"/>
                    </a:lnTo>
                    <a:lnTo>
                      <a:pt x="546" y="253"/>
                    </a:lnTo>
                    <a:lnTo>
                      <a:pt x="542" y="242"/>
                    </a:lnTo>
                    <a:lnTo>
                      <a:pt x="539" y="230"/>
                    </a:lnTo>
                    <a:lnTo>
                      <a:pt x="538" y="225"/>
                    </a:lnTo>
                    <a:lnTo>
                      <a:pt x="538" y="223"/>
                    </a:lnTo>
                    <a:lnTo>
                      <a:pt x="537" y="219"/>
                    </a:lnTo>
                    <a:lnTo>
                      <a:pt x="531" y="153"/>
                    </a:lnTo>
                    <a:lnTo>
                      <a:pt x="531" y="487"/>
                    </a:lnTo>
                    <a:lnTo>
                      <a:pt x="524" y="521"/>
                    </a:lnTo>
                    <a:lnTo>
                      <a:pt x="524" y="527"/>
                    </a:lnTo>
                    <a:lnTo>
                      <a:pt x="523" y="530"/>
                    </a:lnTo>
                    <a:lnTo>
                      <a:pt x="521" y="532"/>
                    </a:lnTo>
                    <a:lnTo>
                      <a:pt x="513" y="556"/>
                    </a:lnTo>
                    <a:lnTo>
                      <a:pt x="504" y="575"/>
                    </a:lnTo>
                    <a:lnTo>
                      <a:pt x="284" y="963"/>
                    </a:lnTo>
                    <a:lnTo>
                      <a:pt x="279" y="968"/>
                    </a:lnTo>
                    <a:lnTo>
                      <a:pt x="278" y="971"/>
                    </a:lnTo>
                    <a:lnTo>
                      <a:pt x="276" y="973"/>
                    </a:lnTo>
                    <a:lnTo>
                      <a:pt x="268" y="983"/>
                    </a:lnTo>
                    <a:lnTo>
                      <a:pt x="259" y="992"/>
                    </a:lnTo>
                    <a:lnTo>
                      <a:pt x="249" y="1000"/>
                    </a:lnTo>
                    <a:lnTo>
                      <a:pt x="238" y="1007"/>
                    </a:lnTo>
                    <a:lnTo>
                      <a:pt x="227" y="1014"/>
                    </a:lnTo>
                    <a:lnTo>
                      <a:pt x="221" y="1016"/>
                    </a:lnTo>
                    <a:lnTo>
                      <a:pt x="217" y="1018"/>
                    </a:lnTo>
                    <a:lnTo>
                      <a:pt x="214" y="1019"/>
                    </a:lnTo>
                    <a:lnTo>
                      <a:pt x="208" y="1021"/>
                    </a:lnTo>
                    <a:lnTo>
                      <a:pt x="205" y="1022"/>
                    </a:lnTo>
                    <a:lnTo>
                      <a:pt x="201" y="1023"/>
                    </a:lnTo>
                    <a:lnTo>
                      <a:pt x="188" y="1028"/>
                    </a:lnTo>
                    <a:lnTo>
                      <a:pt x="174" y="1030"/>
                    </a:lnTo>
                    <a:lnTo>
                      <a:pt x="160" y="1031"/>
                    </a:lnTo>
                    <a:lnTo>
                      <a:pt x="153" y="1031"/>
                    </a:lnTo>
                    <a:lnTo>
                      <a:pt x="149" y="1031"/>
                    </a:lnTo>
                    <a:lnTo>
                      <a:pt x="146" y="1031"/>
                    </a:lnTo>
                    <a:lnTo>
                      <a:pt x="130" y="1030"/>
                    </a:lnTo>
                    <a:lnTo>
                      <a:pt x="124" y="1030"/>
                    </a:lnTo>
                    <a:lnTo>
                      <a:pt x="120" y="1030"/>
                    </a:lnTo>
                    <a:lnTo>
                      <a:pt x="116" y="1029"/>
                    </a:lnTo>
                    <a:lnTo>
                      <a:pt x="109" y="1028"/>
                    </a:lnTo>
                    <a:lnTo>
                      <a:pt x="105" y="1027"/>
                    </a:lnTo>
                    <a:lnTo>
                      <a:pt x="102" y="1026"/>
                    </a:lnTo>
                    <a:lnTo>
                      <a:pt x="88" y="1021"/>
                    </a:lnTo>
                    <a:lnTo>
                      <a:pt x="81" y="1019"/>
                    </a:lnTo>
                    <a:lnTo>
                      <a:pt x="78" y="1017"/>
                    </a:lnTo>
                    <a:lnTo>
                      <a:pt x="74" y="1016"/>
                    </a:lnTo>
                    <a:lnTo>
                      <a:pt x="62" y="1010"/>
                    </a:lnTo>
                    <a:lnTo>
                      <a:pt x="51" y="1003"/>
                    </a:lnTo>
                    <a:lnTo>
                      <a:pt x="40" y="995"/>
                    </a:lnTo>
                    <a:lnTo>
                      <a:pt x="31" y="986"/>
                    </a:lnTo>
                    <a:lnTo>
                      <a:pt x="23" y="977"/>
                    </a:lnTo>
                    <a:lnTo>
                      <a:pt x="16" y="967"/>
                    </a:lnTo>
                    <a:lnTo>
                      <a:pt x="10" y="958"/>
                    </a:lnTo>
                    <a:lnTo>
                      <a:pt x="6" y="947"/>
                    </a:lnTo>
                    <a:lnTo>
                      <a:pt x="4" y="942"/>
                    </a:lnTo>
                    <a:lnTo>
                      <a:pt x="3" y="939"/>
                    </a:lnTo>
                    <a:lnTo>
                      <a:pt x="2" y="936"/>
                    </a:lnTo>
                    <a:lnTo>
                      <a:pt x="1" y="926"/>
                    </a:lnTo>
                    <a:lnTo>
                      <a:pt x="1" y="920"/>
                    </a:lnTo>
                    <a:lnTo>
                      <a:pt x="1" y="917"/>
                    </a:lnTo>
                    <a:lnTo>
                      <a:pt x="0" y="915"/>
                    </a:lnTo>
                    <a:lnTo>
                      <a:pt x="1" y="909"/>
                    </a:lnTo>
                    <a:lnTo>
                      <a:pt x="1" y="907"/>
                    </a:lnTo>
                    <a:lnTo>
                      <a:pt x="1" y="903"/>
                    </a:lnTo>
                    <a:lnTo>
                      <a:pt x="2" y="898"/>
                    </a:lnTo>
                    <a:lnTo>
                      <a:pt x="3" y="895"/>
                    </a:lnTo>
                    <a:lnTo>
                      <a:pt x="4" y="892"/>
                    </a:lnTo>
                    <a:lnTo>
                      <a:pt x="6" y="886"/>
                    </a:lnTo>
                    <a:lnTo>
                      <a:pt x="7" y="884"/>
                    </a:lnTo>
                    <a:lnTo>
                      <a:pt x="8" y="881"/>
                    </a:lnTo>
                    <a:lnTo>
                      <a:pt x="13" y="870"/>
                    </a:lnTo>
                    <a:lnTo>
                      <a:pt x="236" y="480"/>
                    </a:lnTo>
                    <a:lnTo>
                      <a:pt x="236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997760" y="6183360"/>
              <a:ext cx="641520" cy="4986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14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64520" y="6242040"/>
              <a:ext cx="266760" cy="1001880"/>
            </a:xfrm>
            <a:custGeom>
              <a:avLst/>
              <a:gdLst/>
              <a:ahLst/>
              <a:rect l="l" t="t" r="r" b="b"/>
              <a:pathLst>
                <a:path w="747" h="2788">
                  <a:moveTo>
                    <a:pt x="0" y="2514"/>
                  </a:moveTo>
                  <a:lnTo>
                    <a:pt x="0" y="0"/>
                  </a:lnTo>
                  <a:lnTo>
                    <a:pt x="745" y="274"/>
                  </a:lnTo>
                  <a:lnTo>
                    <a:pt x="746" y="2787"/>
                  </a:lnTo>
                </a:path>
              </a:pathLst>
            </a:custGeom>
            <a:noFill/>
            <a:ln w="28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98520"/>
            <a:ext cx="880920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900000"/>
            <a:ext cx="86407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дготовка к обучению грамоте «Весёлая азбука» С.Я.Марш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исование по стихотворению «Разноцветная 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Рисование «Мой выходной де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оллективная лепка « Кто в теремочке живёт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020000" y="5040360"/>
            <a:ext cx="2517840" cy="2158560"/>
            <a:chOff x="7020000" y="5040360"/>
            <a:chExt cx="2517840" cy="2158560"/>
          </a:xfrm>
        </p:grpSpPr>
        <p:sp>
          <p:nvSpPr>
            <p:cNvPr id="96" name=""/>
            <p:cNvSpPr/>
            <p:nvPr/>
          </p:nvSpPr>
          <p:spPr>
            <a:xfrm>
              <a:off x="7020000" y="5040360"/>
              <a:ext cx="2517840" cy="897840"/>
            </a:xfrm>
            <a:custGeom>
              <a:avLst/>
              <a:gdLst/>
              <a:ahLst/>
              <a:rect l="l" t="t" r="r" b="b"/>
              <a:pathLst>
                <a:path w="7965" h="2528">
                  <a:moveTo>
                    <a:pt x="938" y="2516"/>
                  </a:moveTo>
                  <a:cubicBezTo>
                    <a:pt x="0" y="2265"/>
                    <a:pt x="3051" y="593"/>
                    <a:pt x="3243" y="335"/>
                  </a:cubicBezTo>
                  <a:cubicBezTo>
                    <a:pt x="3394" y="98"/>
                    <a:pt x="3444" y="436"/>
                    <a:pt x="3735" y="431"/>
                  </a:cubicBezTo>
                  <a:cubicBezTo>
                    <a:pt x="3980" y="415"/>
                    <a:pt x="4345" y="0"/>
                    <a:pt x="4418" y="391"/>
                  </a:cubicBezTo>
                  <a:cubicBezTo>
                    <a:pt x="4471" y="693"/>
                    <a:pt x="7964" y="2153"/>
                    <a:pt x="6945" y="2527"/>
                  </a:cubicBezTo>
                  <a:cubicBezTo>
                    <a:pt x="6390" y="2226"/>
                    <a:pt x="4290" y="1124"/>
                    <a:pt x="3815" y="804"/>
                  </a:cubicBezTo>
                  <a:cubicBezTo>
                    <a:pt x="3356" y="1052"/>
                    <a:pt x="1313" y="2301"/>
                    <a:pt x="938" y="2516"/>
                  </a:cubicBezTo>
                </a:path>
              </a:pathLst>
            </a:custGeom>
            <a:solidFill>
              <a:srgbClr val="ffffff"/>
            </a:solidFill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28800" y="6428160"/>
              <a:ext cx="1989000" cy="712800"/>
            </a:xfrm>
            <a:custGeom>
              <a:avLst/>
              <a:gdLst/>
              <a:ahLst/>
              <a:rect l="l" t="t" r="r" b="b"/>
              <a:pathLst>
                <a:path w="6293" h="2007">
                  <a:moveTo>
                    <a:pt x="0" y="1508"/>
                  </a:moveTo>
                  <a:cubicBezTo>
                    <a:pt x="399" y="1744"/>
                    <a:pt x="1117" y="1802"/>
                    <a:pt x="1316" y="1818"/>
                  </a:cubicBezTo>
                  <a:cubicBezTo>
                    <a:pt x="2666" y="1881"/>
                    <a:pt x="5115" y="2006"/>
                    <a:pt x="6292" y="1582"/>
                  </a:cubicBezTo>
                  <a:cubicBezTo>
                    <a:pt x="6264" y="972"/>
                    <a:pt x="5627" y="184"/>
                    <a:pt x="5383" y="506"/>
                  </a:cubicBezTo>
                  <a:cubicBezTo>
                    <a:pt x="5100" y="315"/>
                    <a:pt x="5293" y="363"/>
                    <a:pt x="5220" y="363"/>
                  </a:cubicBezTo>
                  <a:cubicBezTo>
                    <a:pt x="4569" y="0"/>
                    <a:pt x="1497" y="92"/>
                    <a:pt x="823" y="394"/>
                  </a:cubicBezTo>
                  <a:cubicBezTo>
                    <a:pt x="516" y="158"/>
                    <a:pt x="335" y="766"/>
                    <a:pt x="0" y="1508"/>
                  </a:cubicBezTo>
                </a:path>
              </a:pathLst>
            </a:custGeom>
            <a:solidFill>
              <a:srgbClr val="ffffff"/>
            </a:solidFill>
            <a:ln w="78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42400" y="5063760"/>
              <a:ext cx="2212560" cy="2135160"/>
            </a:xfrm>
            <a:prstGeom prst="roundRect">
              <a:avLst>
                <a:gd name="adj" fmla="val 69"/>
              </a:avLst>
            </a:prstGeom>
            <a:noFill/>
            <a:ln w="9360">
              <a:solidFill>
                <a:srgbClr val="848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67040" y="6770520"/>
              <a:ext cx="1641600" cy="276120"/>
            </a:xfrm>
            <a:custGeom>
              <a:avLst/>
              <a:gdLst/>
              <a:ahLst/>
              <a:rect l="l" t="t" r="r" b="b"/>
              <a:pathLst>
                <a:path w="5193" h="779">
                  <a:moveTo>
                    <a:pt x="417" y="102"/>
                  </a:moveTo>
                  <a:cubicBezTo>
                    <a:pt x="512" y="266"/>
                    <a:pt x="0" y="668"/>
                    <a:pt x="178" y="740"/>
                  </a:cubicBezTo>
                  <a:cubicBezTo>
                    <a:pt x="2210" y="569"/>
                    <a:pt x="2828" y="457"/>
                    <a:pt x="3945" y="778"/>
                  </a:cubicBezTo>
                  <a:cubicBezTo>
                    <a:pt x="4074" y="700"/>
                    <a:pt x="5192" y="121"/>
                    <a:pt x="4926" y="65"/>
                  </a:cubicBezTo>
                  <a:cubicBezTo>
                    <a:pt x="4517" y="14"/>
                    <a:pt x="2046" y="0"/>
                    <a:pt x="417" y="102"/>
                  </a:cubicBezTo>
                </a:path>
              </a:pathLst>
            </a:custGeom>
            <a:solidFill>
              <a:srgbClr val="000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82400" y="6492600"/>
              <a:ext cx="237240" cy="318600"/>
            </a:xfrm>
            <a:custGeom>
              <a:avLst/>
              <a:gdLst/>
              <a:ahLst/>
              <a:rect l="l" t="t" r="r" b="b"/>
              <a:pathLst>
                <a:path w="754" h="898">
                  <a:moveTo>
                    <a:pt x="729" y="8"/>
                  </a:moveTo>
                  <a:cubicBezTo>
                    <a:pt x="753" y="111"/>
                    <a:pt x="668" y="682"/>
                    <a:pt x="646" y="859"/>
                  </a:cubicBezTo>
                  <a:cubicBezTo>
                    <a:pt x="531" y="867"/>
                    <a:pt x="92" y="897"/>
                    <a:pt x="3" y="868"/>
                  </a:cubicBezTo>
                  <a:cubicBezTo>
                    <a:pt x="2" y="749"/>
                    <a:pt x="0" y="87"/>
                    <a:pt x="10" y="8"/>
                  </a:cubicBezTo>
                  <a:cubicBezTo>
                    <a:pt x="108" y="18"/>
                    <a:pt x="677" y="0"/>
                    <a:pt x="729" y="8"/>
                  </a:cubicBezTo>
                </a:path>
              </a:pathLst>
            </a:custGeom>
            <a:solidFill>
              <a:srgbClr val="b8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0640" y="5335200"/>
              <a:ext cx="1615320" cy="1456920"/>
            </a:xfrm>
            <a:custGeom>
              <a:avLst/>
              <a:gdLst/>
              <a:ahLst/>
              <a:rect l="l" t="t" r="r" b="b"/>
              <a:pathLst>
                <a:path w="5111" h="4097">
                  <a:moveTo>
                    <a:pt x="95" y="3852"/>
                  </a:moveTo>
                  <a:cubicBezTo>
                    <a:pt x="95" y="3608"/>
                    <a:pt x="136" y="3207"/>
                    <a:pt x="136" y="3053"/>
                  </a:cubicBezTo>
                  <a:cubicBezTo>
                    <a:pt x="136" y="2969"/>
                    <a:pt x="0" y="1577"/>
                    <a:pt x="0" y="1493"/>
                  </a:cubicBezTo>
                  <a:cubicBezTo>
                    <a:pt x="0" y="1462"/>
                    <a:pt x="2269" y="0"/>
                    <a:pt x="2359" y="0"/>
                  </a:cubicBezTo>
                  <a:cubicBezTo>
                    <a:pt x="3498" y="628"/>
                    <a:pt x="4965" y="1412"/>
                    <a:pt x="5080" y="1546"/>
                  </a:cubicBezTo>
                  <a:cubicBezTo>
                    <a:pt x="5110" y="1595"/>
                    <a:pt x="4577" y="3649"/>
                    <a:pt x="4577" y="3802"/>
                  </a:cubicBezTo>
                  <a:cubicBezTo>
                    <a:pt x="4577" y="3855"/>
                    <a:pt x="4576" y="3970"/>
                    <a:pt x="4568" y="4079"/>
                  </a:cubicBezTo>
                  <a:cubicBezTo>
                    <a:pt x="4365" y="4071"/>
                    <a:pt x="1530" y="4088"/>
                    <a:pt x="1444" y="4071"/>
                  </a:cubicBezTo>
                  <a:cubicBezTo>
                    <a:pt x="1408" y="3880"/>
                    <a:pt x="1469" y="3334"/>
                    <a:pt x="1469" y="3245"/>
                  </a:cubicBezTo>
                  <a:cubicBezTo>
                    <a:pt x="1469" y="3166"/>
                    <a:pt x="769" y="3181"/>
                    <a:pt x="622" y="3198"/>
                  </a:cubicBezTo>
                  <a:cubicBezTo>
                    <a:pt x="625" y="3266"/>
                    <a:pt x="752" y="4096"/>
                    <a:pt x="657" y="4096"/>
                  </a:cubicBezTo>
                  <a:cubicBezTo>
                    <a:pt x="505" y="4096"/>
                    <a:pt x="268" y="4096"/>
                    <a:pt x="115" y="4096"/>
                  </a:cubicBezTo>
                  <a:cubicBezTo>
                    <a:pt x="90" y="4085"/>
                    <a:pt x="95" y="3921"/>
                    <a:pt x="95" y="3852"/>
                  </a:cubicBezTo>
                </a:path>
              </a:pathLst>
            </a:custGeom>
            <a:solidFill>
              <a:srgbClr val="ffffff"/>
            </a:solidFill>
            <a:ln w="117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6320" y="5329080"/>
              <a:ext cx="1617840" cy="998640"/>
            </a:xfrm>
            <a:custGeom>
              <a:avLst/>
              <a:gdLst/>
              <a:ahLst/>
              <a:rect l="l" t="t" r="r" b="b"/>
              <a:pathLst>
                <a:path w="5121" h="2807">
                  <a:moveTo>
                    <a:pt x="21" y="1512"/>
                  </a:moveTo>
                  <a:cubicBezTo>
                    <a:pt x="212" y="1383"/>
                    <a:pt x="2290" y="0"/>
                    <a:pt x="2379" y="0"/>
                  </a:cubicBezTo>
                  <a:cubicBezTo>
                    <a:pt x="2566" y="53"/>
                    <a:pt x="4975" y="1440"/>
                    <a:pt x="5090" y="1528"/>
                  </a:cubicBezTo>
                  <a:cubicBezTo>
                    <a:pt x="5120" y="1559"/>
                    <a:pt x="4787" y="2734"/>
                    <a:pt x="4779" y="2806"/>
                  </a:cubicBezTo>
                  <a:cubicBezTo>
                    <a:pt x="4576" y="2799"/>
                    <a:pt x="246" y="2771"/>
                    <a:pt x="94" y="2771"/>
                  </a:cubicBezTo>
                  <a:cubicBezTo>
                    <a:pt x="68" y="2764"/>
                    <a:pt x="0" y="1711"/>
                    <a:pt x="21" y="1512"/>
                  </a:cubicBezTo>
                </a:path>
              </a:pathLst>
            </a:custGeom>
            <a:solidFill>
              <a:srgbClr val="7b3b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8892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6448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15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624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3332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2280" y="6033960"/>
              <a:ext cx="84276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8892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6448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15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940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349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44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17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023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33120" y="6033960"/>
              <a:ext cx="84240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5940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349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82480" y="5930280"/>
              <a:ext cx="80640" cy="186840"/>
            </a:xfrm>
            <a:custGeom>
              <a:avLst/>
              <a:gdLst/>
              <a:ahLst/>
              <a:rect l="l" t="t" r="r" b="b"/>
              <a:pathLst>
                <a:path w="261" h="528">
                  <a:moveTo>
                    <a:pt x="0" y="0"/>
                  </a:moveTo>
                  <a:lnTo>
                    <a:pt x="0" y="527"/>
                  </a:lnTo>
                  <a:lnTo>
                    <a:pt x="260" y="527"/>
                  </a:lnTo>
                  <a:lnTo>
                    <a:pt x="26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4026000"/>
            </a:gra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78600" y="5897160"/>
              <a:ext cx="115560" cy="260640"/>
            </a:xfrm>
            <a:custGeom>
              <a:avLst/>
              <a:gdLst/>
              <a:ahLst/>
              <a:rect l="l" t="t" r="r" b="b"/>
              <a:pathLst>
                <a:path w="370" h="736">
                  <a:moveTo>
                    <a:pt x="0" y="49"/>
                  </a:moveTo>
                  <a:cubicBezTo>
                    <a:pt x="0" y="90"/>
                    <a:pt x="16" y="597"/>
                    <a:pt x="11" y="679"/>
                  </a:cubicBezTo>
                  <a:cubicBezTo>
                    <a:pt x="81" y="693"/>
                    <a:pt x="300" y="715"/>
                    <a:pt x="351" y="735"/>
                  </a:cubicBezTo>
                  <a:cubicBezTo>
                    <a:pt x="343" y="549"/>
                    <a:pt x="369" y="111"/>
                    <a:pt x="345" y="0"/>
                  </a:cubicBezTo>
                  <a:cubicBezTo>
                    <a:pt x="286" y="13"/>
                    <a:pt x="42" y="43"/>
                    <a:pt x="0" y="49"/>
                  </a:cubicBezTo>
                </a:path>
              </a:pathLst>
            </a:custGeom>
            <a:solidFill>
              <a:srgbClr val="b40000"/>
            </a:solidFill>
            <a:ln w="32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9400" y="5900400"/>
              <a:ext cx="111600" cy="259200"/>
            </a:xfrm>
            <a:custGeom>
              <a:avLst/>
              <a:gdLst/>
              <a:ahLst/>
              <a:rect l="l" t="t" r="r" b="b"/>
              <a:pathLst>
                <a:path w="355" h="731">
                  <a:moveTo>
                    <a:pt x="350" y="48"/>
                  </a:moveTo>
                  <a:cubicBezTo>
                    <a:pt x="340" y="48"/>
                    <a:pt x="345" y="69"/>
                    <a:pt x="345" y="77"/>
                  </a:cubicBezTo>
                  <a:cubicBezTo>
                    <a:pt x="345" y="227"/>
                    <a:pt x="354" y="568"/>
                    <a:pt x="350" y="670"/>
                  </a:cubicBezTo>
                  <a:cubicBezTo>
                    <a:pt x="292" y="670"/>
                    <a:pt x="79" y="723"/>
                    <a:pt x="27" y="730"/>
                  </a:cubicBezTo>
                  <a:cubicBezTo>
                    <a:pt x="21" y="649"/>
                    <a:pt x="0" y="70"/>
                    <a:pt x="21" y="0"/>
                  </a:cubicBezTo>
                  <a:cubicBezTo>
                    <a:pt x="102" y="31"/>
                    <a:pt x="271" y="60"/>
                    <a:pt x="301" y="60"/>
                  </a:cubicBezTo>
                  <a:cubicBezTo>
                    <a:pt x="316" y="60"/>
                    <a:pt x="331" y="60"/>
                    <a:pt x="350" y="48"/>
                  </a:cubicBezTo>
                </a:path>
              </a:pathLst>
            </a:custGeom>
            <a:solidFill>
              <a:srgbClr val="b50000"/>
            </a:solidFill>
            <a:ln w="32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44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17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023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33120" y="6033960"/>
              <a:ext cx="84240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4624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83332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62280" y="6033960"/>
              <a:ext cx="84276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02520" y="5592960"/>
              <a:ext cx="257760" cy="243000"/>
            </a:xfrm>
            <a:custGeom>
              <a:avLst/>
              <a:gdLst/>
              <a:ahLst/>
              <a:rect l="l" t="t" r="r" b="b"/>
              <a:pathLst>
                <a:path w="820" h="689">
                  <a:moveTo>
                    <a:pt x="0" y="0"/>
                  </a:moveTo>
                  <a:lnTo>
                    <a:pt x="0" y="688"/>
                  </a:lnTo>
                  <a:lnTo>
                    <a:pt x="819" y="688"/>
                  </a:lnTo>
                  <a:lnTo>
                    <a:pt x="81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2664000"/>
            </a:gradFill>
            <a:ln w="2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76840" y="5556960"/>
              <a:ext cx="227160" cy="305640"/>
            </a:xfrm>
            <a:custGeom>
              <a:avLst/>
              <a:gdLst/>
              <a:ahLst/>
              <a:rect l="l" t="t" r="r" b="b"/>
              <a:pathLst>
                <a:path w="724" h="865">
                  <a:moveTo>
                    <a:pt x="0" y="58"/>
                  </a:moveTo>
                  <a:cubicBezTo>
                    <a:pt x="0" y="106"/>
                    <a:pt x="31" y="702"/>
                    <a:pt x="21" y="798"/>
                  </a:cubicBezTo>
                  <a:cubicBezTo>
                    <a:pt x="159" y="815"/>
                    <a:pt x="589" y="841"/>
                    <a:pt x="688" y="864"/>
                  </a:cubicBezTo>
                  <a:cubicBezTo>
                    <a:pt x="673" y="646"/>
                    <a:pt x="723" y="130"/>
                    <a:pt x="678" y="0"/>
                  </a:cubicBezTo>
                  <a:cubicBezTo>
                    <a:pt x="562" y="15"/>
                    <a:pt x="82" y="51"/>
                    <a:pt x="0" y="58"/>
                  </a:cubicBezTo>
                </a:path>
              </a:pathLst>
            </a:custGeom>
            <a:solidFill>
              <a:srgbClr val="b4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67800" y="5559840"/>
              <a:ext cx="218880" cy="304560"/>
            </a:xfrm>
            <a:custGeom>
              <a:avLst/>
              <a:gdLst/>
              <a:ahLst/>
              <a:rect l="l" t="t" r="r" b="b"/>
              <a:pathLst>
                <a:path w="695" h="860">
                  <a:moveTo>
                    <a:pt x="687" y="56"/>
                  </a:moveTo>
                  <a:cubicBezTo>
                    <a:pt x="668" y="56"/>
                    <a:pt x="677" y="81"/>
                    <a:pt x="677" y="92"/>
                  </a:cubicBezTo>
                  <a:cubicBezTo>
                    <a:pt x="677" y="268"/>
                    <a:pt x="694" y="669"/>
                    <a:pt x="687" y="788"/>
                  </a:cubicBezTo>
                  <a:cubicBezTo>
                    <a:pt x="572" y="788"/>
                    <a:pt x="155" y="850"/>
                    <a:pt x="52" y="859"/>
                  </a:cubicBezTo>
                  <a:cubicBezTo>
                    <a:pt x="41" y="763"/>
                    <a:pt x="0" y="83"/>
                    <a:pt x="41" y="0"/>
                  </a:cubicBezTo>
                  <a:cubicBezTo>
                    <a:pt x="200" y="37"/>
                    <a:pt x="533" y="70"/>
                    <a:pt x="592" y="70"/>
                  </a:cubicBezTo>
                  <a:cubicBezTo>
                    <a:pt x="620" y="70"/>
                    <a:pt x="648" y="70"/>
                    <a:pt x="687" y="56"/>
                  </a:cubicBezTo>
                </a:path>
              </a:pathLst>
            </a:custGeom>
            <a:solidFill>
              <a:srgbClr val="b50000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4280" y="6048360"/>
              <a:ext cx="437760" cy="92520"/>
            </a:xfrm>
            <a:custGeom>
              <a:avLst/>
              <a:gdLst/>
              <a:ahLst/>
              <a:rect l="l" t="t" r="r" b="b"/>
              <a:pathLst>
                <a:path w="1389" h="265">
                  <a:moveTo>
                    <a:pt x="0" y="0"/>
                  </a:moveTo>
                  <a:lnTo>
                    <a:pt x="21" y="264"/>
                  </a:lnTo>
                  <a:lnTo>
                    <a:pt x="1388" y="254"/>
                  </a:lnTo>
                  <a:lnTo>
                    <a:pt x="138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9680" y="6027480"/>
              <a:ext cx="438120" cy="92880"/>
            </a:xfrm>
            <a:custGeom>
              <a:avLst/>
              <a:gdLst/>
              <a:ahLst/>
              <a:rect l="l" t="t" r="r" b="b"/>
              <a:pathLst>
                <a:path w="1389" h="265">
                  <a:moveTo>
                    <a:pt x="0" y="0"/>
                  </a:moveTo>
                  <a:lnTo>
                    <a:pt x="21" y="264"/>
                  </a:lnTo>
                  <a:lnTo>
                    <a:pt x="1388" y="254"/>
                  </a:lnTo>
                  <a:lnTo>
                    <a:pt x="1388" y="0"/>
                  </a:lnTo>
                  <a:lnTo>
                    <a:pt x="0" y="0"/>
                  </a:lnTo>
                </a:path>
              </a:pathLst>
            </a:custGeom>
            <a:solidFill>
              <a:srgbClr val="986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43720" y="5910120"/>
              <a:ext cx="404280" cy="156960"/>
            </a:xfrm>
            <a:custGeom>
              <a:avLst/>
              <a:gdLst/>
              <a:ahLst/>
              <a:rect l="l" t="t" r="r" b="b"/>
              <a:pathLst>
                <a:path w="1283" h="447">
                  <a:moveTo>
                    <a:pt x="275" y="324"/>
                  </a:moveTo>
                  <a:cubicBezTo>
                    <a:pt x="235" y="358"/>
                    <a:pt x="105" y="377"/>
                    <a:pt x="74" y="351"/>
                  </a:cubicBezTo>
                  <a:cubicBezTo>
                    <a:pt x="43" y="325"/>
                    <a:pt x="0" y="226"/>
                    <a:pt x="0" y="178"/>
                  </a:cubicBezTo>
                  <a:cubicBezTo>
                    <a:pt x="126" y="124"/>
                    <a:pt x="250" y="215"/>
                    <a:pt x="381" y="215"/>
                  </a:cubicBezTo>
                  <a:cubicBezTo>
                    <a:pt x="443" y="232"/>
                    <a:pt x="392" y="233"/>
                    <a:pt x="423" y="205"/>
                  </a:cubicBezTo>
                  <a:cubicBezTo>
                    <a:pt x="432" y="182"/>
                    <a:pt x="429" y="142"/>
                    <a:pt x="455" y="142"/>
                  </a:cubicBezTo>
                  <a:cubicBezTo>
                    <a:pt x="469" y="107"/>
                    <a:pt x="476" y="89"/>
                    <a:pt x="476" y="51"/>
                  </a:cubicBezTo>
                  <a:cubicBezTo>
                    <a:pt x="510" y="70"/>
                    <a:pt x="558" y="115"/>
                    <a:pt x="593" y="115"/>
                  </a:cubicBezTo>
                  <a:cubicBezTo>
                    <a:pt x="593" y="133"/>
                    <a:pt x="726" y="124"/>
                    <a:pt x="710" y="124"/>
                  </a:cubicBezTo>
                  <a:cubicBezTo>
                    <a:pt x="698" y="163"/>
                    <a:pt x="682" y="226"/>
                    <a:pt x="752" y="196"/>
                  </a:cubicBezTo>
                  <a:cubicBezTo>
                    <a:pt x="786" y="138"/>
                    <a:pt x="815" y="92"/>
                    <a:pt x="815" y="24"/>
                  </a:cubicBezTo>
                  <a:cubicBezTo>
                    <a:pt x="815" y="70"/>
                    <a:pt x="826" y="119"/>
                    <a:pt x="826" y="169"/>
                  </a:cubicBezTo>
                  <a:cubicBezTo>
                    <a:pt x="913" y="194"/>
                    <a:pt x="926" y="128"/>
                    <a:pt x="985" y="79"/>
                  </a:cubicBezTo>
                  <a:cubicBezTo>
                    <a:pt x="1026" y="9"/>
                    <a:pt x="1016" y="0"/>
                    <a:pt x="1016" y="60"/>
                  </a:cubicBezTo>
                  <a:cubicBezTo>
                    <a:pt x="1016" y="105"/>
                    <a:pt x="997" y="133"/>
                    <a:pt x="1048" y="133"/>
                  </a:cubicBezTo>
                  <a:cubicBezTo>
                    <a:pt x="1070" y="109"/>
                    <a:pt x="1123" y="15"/>
                    <a:pt x="1123" y="79"/>
                  </a:cubicBezTo>
                  <a:cubicBezTo>
                    <a:pt x="1123" y="97"/>
                    <a:pt x="1113" y="195"/>
                    <a:pt x="1165" y="151"/>
                  </a:cubicBezTo>
                  <a:cubicBezTo>
                    <a:pt x="1232" y="93"/>
                    <a:pt x="1243" y="104"/>
                    <a:pt x="1271" y="33"/>
                  </a:cubicBezTo>
                  <a:cubicBezTo>
                    <a:pt x="1274" y="30"/>
                    <a:pt x="1278" y="27"/>
                    <a:pt x="1282" y="24"/>
                  </a:cubicBezTo>
                  <a:cubicBezTo>
                    <a:pt x="1267" y="71"/>
                    <a:pt x="1253" y="126"/>
                    <a:pt x="1228" y="169"/>
                  </a:cubicBezTo>
                  <a:cubicBezTo>
                    <a:pt x="1199" y="182"/>
                    <a:pt x="1175" y="223"/>
                    <a:pt x="1143" y="196"/>
                  </a:cubicBezTo>
                  <a:cubicBezTo>
                    <a:pt x="1087" y="196"/>
                    <a:pt x="1133" y="302"/>
                    <a:pt x="1133" y="341"/>
                  </a:cubicBezTo>
                  <a:cubicBezTo>
                    <a:pt x="1143" y="446"/>
                    <a:pt x="955" y="351"/>
                    <a:pt x="996" y="305"/>
                  </a:cubicBezTo>
                  <a:cubicBezTo>
                    <a:pt x="928" y="369"/>
                    <a:pt x="861" y="314"/>
                    <a:pt x="794" y="314"/>
                  </a:cubicBezTo>
                  <a:cubicBezTo>
                    <a:pt x="645" y="393"/>
                    <a:pt x="654" y="333"/>
                    <a:pt x="593" y="333"/>
                  </a:cubicBezTo>
                  <a:cubicBezTo>
                    <a:pt x="560" y="333"/>
                    <a:pt x="487" y="345"/>
                    <a:pt x="487" y="369"/>
                  </a:cubicBezTo>
                  <a:cubicBezTo>
                    <a:pt x="423" y="369"/>
                    <a:pt x="374" y="351"/>
                    <a:pt x="307" y="351"/>
                  </a:cubicBezTo>
                  <a:cubicBezTo>
                    <a:pt x="304" y="348"/>
                    <a:pt x="300" y="345"/>
                    <a:pt x="275" y="324"/>
                  </a:cubicBezTo>
                </a:path>
              </a:pathLst>
            </a:custGeom>
            <a:solidFill>
              <a:srgbClr val="11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31120" y="5928840"/>
              <a:ext cx="90720" cy="86040"/>
            </a:xfrm>
            <a:custGeom>
              <a:avLst/>
              <a:gdLst/>
              <a:ahLst/>
              <a:rect l="l" t="t" r="r" b="b"/>
              <a:pathLst>
                <a:path w="292" h="247">
                  <a:moveTo>
                    <a:pt x="163" y="0"/>
                  </a:moveTo>
                  <a:cubicBezTo>
                    <a:pt x="163" y="19"/>
                    <a:pt x="100" y="46"/>
                    <a:pt x="79" y="65"/>
                  </a:cubicBezTo>
                  <a:cubicBezTo>
                    <a:pt x="59" y="86"/>
                    <a:pt x="0" y="135"/>
                    <a:pt x="36" y="166"/>
                  </a:cubicBezTo>
                  <a:cubicBezTo>
                    <a:pt x="67" y="180"/>
                    <a:pt x="104" y="179"/>
                    <a:pt x="104" y="209"/>
                  </a:cubicBezTo>
                  <a:cubicBezTo>
                    <a:pt x="122" y="240"/>
                    <a:pt x="102" y="246"/>
                    <a:pt x="146" y="246"/>
                  </a:cubicBezTo>
                  <a:cubicBezTo>
                    <a:pt x="196" y="246"/>
                    <a:pt x="222" y="198"/>
                    <a:pt x="222" y="159"/>
                  </a:cubicBezTo>
                  <a:cubicBezTo>
                    <a:pt x="234" y="148"/>
                    <a:pt x="225" y="130"/>
                    <a:pt x="247" y="130"/>
                  </a:cubicBezTo>
                  <a:cubicBezTo>
                    <a:pt x="258" y="120"/>
                    <a:pt x="291" y="94"/>
                    <a:pt x="272" y="94"/>
                  </a:cubicBezTo>
                  <a:cubicBezTo>
                    <a:pt x="258" y="69"/>
                    <a:pt x="213" y="77"/>
                    <a:pt x="213" y="58"/>
                  </a:cubicBezTo>
                  <a:cubicBezTo>
                    <a:pt x="196" y="43"/>
                    <a:pt x="172" y="15"/>
                    <a:pt x="163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51440" y="5928840"/>
              <a:ext cx="62280" cy="6408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81" y="0"/>
                  </a:moveTo>
                  <a:cubicBezTo>
                    <a:pt x="81" y="19"/>
                    <a:pt x="59" y="53"/>
                    <a:pt x="47" y="72"/>
                  </a:cubicBezTo>
                  <a:cubicBezTo>
                    <a:pt x="47" y="98"/>
                    <a:pt x="81" y="82"/>
                    <a:pt x="81" y="116"/>
                  </a:cubicBezTo>
                  <a:cubicBezTo>
                    <a:pt x="69" y="120"/>
                    <a:pt x="0" y="166"/>
                    <a:pt x="47" y="166"/>
                  </a:cubicBezTo>
                  <a:cubicBezTo>
                    <a:pt x="88" y="184"/>
                    <a:pt x="99" y="165"/>
                    <a:pt x="123" y="145"/>
                  </a:cubicBezTo>
                  <a:cubicBezTo>
                    <a:pt x="142" y="129"/>
                    <a:pt x="117" y="58"/>
                    <a:pt x="148" y="58"/>
                  </a:cubicBezTo>
                  <a:cubicBezTo>
                    <a:pt x="200" y="15"/>
                    <a:pt x="164" y="42"/>
                    <a:pt x="140" y="21"/>
                  </a:cubicBezTo>
                  <a:cubicBezTo>
                    <a:pt x="129" y="21"/>
                    <a:pt x="81" y="3"/>
                    <a:pt x="81" y="21"/>
                  </a:cubicBezTo>
                  <a:cubicBezTo>
                    <a:pt x="129" y="21"/>
                    <a:pt x="81" y="3"/>
                    <a:pt x="81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45160" y="5903640"/>
              <a:ext cx="90720" cy="86400"/>
            </a:xfrm>
            <a:custGeom>
              <a:avLst/>
              <a:gdLst/>
              <a:ahLst/>
              <a:rect l="l" t="t" r="r" b="b"/>
              <a:pathLst>
                <a:path w="292" h="247">
                  <a:moveTo>
                    <a:pt x="163" y="0"/>
                  </a:moveTo>
                  <a:cubicBezTo>
                    <a:pt x="163" y="19"/>
                    <a:pt x="100" y="46"/>
                    <a:pt x="79" y="65"/>
                  </a:cubicBezTo>
                  <a:cubicBezTo>
                    <a:pt x="59" y="86"/>
                    <a:pt x="0" y="135"/>
                    <a:pt x="36" y="166"/>
                  </a:cubicBezTo>
                  <a:cubicBezTo>
                    <a:pt x="67" y="180"/>
                    <a:pt x="104" y="179"/>
                    <a:pt x="104" y="209"/>
                  </a:cubicBezTo>
                  <a:cubicBezTo>
                    <a:pt x="122" y="240"/>
                    <a:pt x="102" y="246"/>
                    <a:pt x="146" y="246"/>
                  </a:cubicBezTo>
                  <a:cubicBezTo>
                    <a:pt x="196" y="246"/>
                    <a:pt x="222" y="198"/>
                    <a:pt x="222" y="159"/>
                  </a:cubicBezTo>
                  <a:cubicBezTo>
                    <a:pt x="234" y="148"/>
                    <a:pt x="225" y="130"/>
                    <a:pt x="247" y="130"/>
                  </a:cubicBezTo>
                  <a:cubicBezTo>
                    <a:pt x="258" y="120"/>
                    <a:pt x="291" y="94"/>
                    <a:pt x="272" y="94"/>
                  </a:cubicBezTo>
                  <a:cubicBezTo>
                    <a:pt x="258" y="69"/>
                    <a:pt x="213" y="77"/>
                    <a:pt x="213" y="58"/>
                  </a:cubicBezTo>
                  <a:cubicBezTo>
                    <a:pt x="196" y="43"/>
                    <a:pt x="172" y="15"/>
                    <a:pt x="163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65480" y="5903640"/>
              <a:ext cx="62280" cy="6444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81" y="0"/>
                  </a:moveTo>
                  <a:cubicBezTo>
                    <a:pt x="81" y="19"/>
                    <a:pt x="59" y="53"/>
                    <a:pt x="47" y="72"/>
                  </a:cubicBezTo>
                  <a:cubicBezTo>
                    <a:pt x="47" y="98"/>
                    <a:pt x="81" y="82"/>
                    <a:pt x="81" y="116"/>
                  </a:cubicBezTo>
                  <a:cubicBezTo>
                    <a:pt x="69" y="120"/>
                    <a:pt x="0" y="166"/>
                    <a:pt x="47" y="166"/>
                  </a:cubicBezTo>
                  <a:cubicBezTo>
                    <a:pt x="88" y="184"/>
                    <a:pt x="99" y="165"/>
                    <a:pt x="123" y="145"/>
                  </a:cubicBezTo>
                  <a:cubicBezTo>
                    <a:pt x="142" y="129"/>
                    <a:pt x="117" y="58"/>
                    <a:pt x="148" y="58"/>
                  </a:cubicBezTo>
                  <a:cubicBezTo>
                    <a:pt x="200" y="15"/>
                    <a:pt x="164" y="42"/>
                    <a:pt x="140" y="21"/>
                  </a:cubicBezTo>
                  <a:cubicBezTo>
                    <a:pt x="129" y="21"/>
                    <a:pt x="81" y="3"/>
                    <a:pt x="81" y="21"/>
                  </a:cubicBezTo>
                  <a:cubicBezTo>
                    <a:pt x="129" y="21"/>
                    <a:pt x="81" y="3"/>
                    <a:pt x="81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2720" y="5930280"/>
              <a:ext cx="82080" cy="6264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160" y="0"/>
                  </a:moveTo>
                  <a:cubicBezTo>
                    <a:pt x="130" y="0"/>
                    <a:pt x="93" y="14"/>
                    <a:pt x="76" y="29"/>
                  </a:cubicBezTo>
                  <a:cubicBezTo>
                    <a:pt x="17" y="29"/>
                    <a:pt x="40" y="88"/>
                    <a:pt x="0" y="123"/>
                  </a:cubicBezTo>
                  <a:cubicBezTo>
                    <a:pt x="0" y="153"/>
                    <a:pt x="13" y="159"/>
                    <a:pt x="51" y="159"/>
                  </a:cubicBezTo>
                  <a:cubicBezTo>
                    <a:pt x="81" y="166"/>
                    <a:pt x="169" y="180"/>
                    <a:pt x="169" y="130"/>
                  </a:cubicBezTo>
                  <a:cubicBezTo>
                    <a:pt x="192" y="90"/>
                    <a:pt x="170" y="58"/>
                    <a:pt x="227" y="58"/>
                  </a:cubicBezTo>
                  <a:cubicBezTo>
                    <a:pt x="264" y="42"/>
                    <a:pt x="258" y="38"/>
                    <a:pt x="219" y="21"/>
                  </a:cubicBezTo>
                  <a:cubicBezTo>
                    <a:pt x="193" y="7"/>
                    <a:pt x="190" y="0"/>
                    <a:pt x="160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36760" y="5905080"/>
              <a:ext cx="82080" cy="6300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160" y="0"/>
                  </a:moveTo>
                  <a:cubicBezTo>
                    <a:pt x="130" y="0"/>
                    <a:pt x="93" y="14"/>
                    <a:pt x="76" y="29"/>
                  </a:cubicBezTo>
                  <a:cubicBezTo>
                    <a:pt x="17" y="29"/>
                    <a:pt x="40" y="88"/>
                    <a:pt x="0" y="123"/>
                  </a:cubicBezTo>
                  <a:cubicBezTo>
                    <a:pt x="0" y="153"/>
                    <a:pt x="13" y="159"/>
                    <a:pt x="51" y="159"/>
                  </a:cubicBezTo>
                  <a:cubicBezTo>
                    <a:pt x="81" y="166"/>
                    <a:pt x="169" y="180"/>
                    <a:pt x="169" y="130"/>
                  </a:cubicBezTo>
                  <a:cubicBezTo>
                    <a:pt x="192" y="90"/>
                    <a:pt x="170" y="58"/>
                    <a:pt x="227" y="58"/>
                  </a:cubicBezTo>
                  <a:cubicBezTo>
                    <a:pt x="264" y="42"/>
                    <a:pt x="258" y="38"/>
                    <a:pt x="219" y="21"/>
                  </a:cubicBezTo>
                  <a:cubicBezTo>
                    <a:pt x="193" y="7"/>
                    <a:pt x="190" y="0"/>
                    <a:pt x="160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0120" y="5921280"/>
              <a:ext cx="102960" cy="86040"/>
            </a:xfrm>
            <a:custGeom>
              <a:avLst/>
              <a:gdLst/>
              <a:ahLst/>
              <a:rect l="l" t="t" r="r" b="b"/>
              <a:pathLst>
                <a:path w="331" h="247">
                  <a:moveTo>
                    <a:pt x="232" y="0"/>
                  </a:moveTo>
                  <a:cubicBezTo>
                    <a:pt x="194" y="0"/>
                    <a:pt x="163" y="29"/>
                    <a:pt x="122" y="29"/>
                  </a:cubicBezTo>
                  <a:cubicBezTo>
                    <a:pt x="109" y="40"/>
                    <a:pt x="105" y="108"/>
                    <a:pt x="88" y="108"/>
                  </a:cubicBezTo>
                  <a:cubicBezTo>
                    <a:pt x="78" y="127"/>
                    <a:pt x="67" y="166"/>
                    <a:pt x="97" y="166"/>
                  </a:cubicBezTo>
                  <a:cubicBezTo>
                    <a:pt x="128" y="175"/>
                    <a:pt x="121" y="174"/>
                    <a:pt x="97" y="195"/>
                  </a:cubicBezTo>
                  <a:cubicBezTo>
                    <a:pt x="74" y="205"/>
                    <a:pt x="0" y="246"/>
                    <a:pt x="55" y="246"/>
                  </a:cubicBezTo>
                  <a:cubicBezTo>
                    <a:pt x="110" y="246"/>
                    <a:pt x="105" y="173"/>
                    <a:pt x="156" y="173"/>
                  </a:cubicBezTo>
                  <a:cubicBezTo>
                    <a:pt x="187" y="147"/>
                    <a:pt x="239" y="145"/>
                    <a:pt x="282" y="145"/>
                  </a:cubicBezTo>
                  <a:cubicBezTo>
                    <a:pt x="330" y="104"/>
                    <a:pt x="260" y="89"/>
                    <a:pt x="232" y="65"/>
                  </a:cubicBezTo>
                  <a:cubicBezTo>
                    <a:pt x="223" y="58"/>
                    <a:pt x="249" y="50"/>
                    <a:pt x="265" y="36"/>
                  </a:cubicBezTo>
                  <a:cubicBezTo>
                    <a:pt x="281" y="22"/>
                    <a:pt x="267" y="15"/>
                    <a:pt x="232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42720" y="5895720"/>
              <a:ext cx="102960" cy="86400"/>
            </a:xfrm>
            <a:custGeom>
              <a:avLst/>
              <a:gdLst/>
              <a:ahLst/>
              <a:rect l="l" t="t" r="r" b="b"/>
              <a:pathLst>
                <a:path w="331" h="247">
                  <a:moveTo>
                    <a:pt x="232" y="0"/>
                  </a:moveTo>
                  <a:cubicBezTo>
                    <a:pt x="194" y="0"/>
                    <a:pt x="163" y="29"/>
                    <a:pt x="122" y="29"/>
                  </a:cubicBezTo>
                  <a:cubicBezTo>
                    <a:pt x="109" y="40"/>
                    <a:pt x="105" y="108"/>
                    <a:pt x="88" y="108"/>
                  </a:cubicBezTo>
                  <a:cubicBezTo>
                    <a:pt x="78" y="127"/>
                    <a:pt x="67" y="166"/>
                    <a:pt x="97" y="166"/>
                  </a:cubicBezTo>
                  <a:cubicBezTo>
                    <a:pt x="128" y="175"/>
                    <a:pt x="121" y="174"/>
                    <a:pt x="97" y="195"/>
                  </a:cubicBezTo>
                  <a:cubicBezTo>
                    <a:pt x="74" y="205"/>
                    <a:pt x="0" y="246"/>
                    <a:pt x="55" y="246"/>
                  </a:cubicBezTo>
                  <a:cubicBezTo>
                    <a:pt x="110" y="246"/>
                    <a:pt x="105" y="173"/>
                    <a:pt x="156" y="173"/>
                  </a:cubicBezTo>
                  <a:cubicBezTo>
                    <a:pt x="187" y="147"/>
                    <a:pt x="239" y="145"/>
                    <a:pt x="282" y="145"/>
                  </a:cubicBezTo>
                  <a:cubicBezTo>
                    <a:pt x="330" y="104"/>
                    <a:pt x="260" y="89"/>
                    <a:pt x="232" y="65"/>
                  </a:cubicBezTo>
                  <a:cubicBezTo>
                    <a:pt x="223" y="58"/>
                    <a:pt x="249" y="50"/>
                    <a:pt x="265" y="36"/>
                  </a:cubicBezTo>
                  <a:cubicBezTo>
                    <a:pt x="281" y="22"/>
                    <a:pt x="267" y="15"/>
                    <a:pt x="232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42520" y="5927040"/>
              <a:ext cx="198000" cy="238320"/>
            </a:xfrm>
            <a:custGeom>
              <a:avLst/>
              <a:gdLst/>
              <a:ahLst/>
              <a:rect l="l" t="t" r="r" b="b"/>
              <a:pathLst>
                <a:path w="631" h="675">
                  <a:moveTo>
                    <a:pt x="0" y="0"/>
                  </a:moveTo>
                  <a:lnTo>
                    <a:pt x="0" y="674"/>
                  </a:lnTo>
                  <a:lnTo>
                    <a:pt x="630" y="674"/>
                  </a:lnTo>
                  <a:lnTo>
                    <a:pt x="63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3078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7160" y="5895720"/>
              <a:ext cx="161640" cy="301320"/>
            </a:xfrm>
            <a:custGeom>
              <a:avLst/>
              <a:gdLst/>
              <a:ahLst/>
              <a:rect l="l" t="t" r="r" b="b"/>
              <a:pathLst>
                <a:path w="515" h="849">
                  <a:moveTo>
                    <a:pt x="0" y="57"/>
                  </a:moveTo>
                  <a:cubicBezTo>
                    <a:pt x="0" y="104"/>
                    <a:pt x="22" y="689"/>
                    <a:pt x="15" y="783"/>
                  </a:cubicBezTo>
                  <a:cubicBezTo>
                    <a:pt x="113" y="799"/>
                    <a:pt x="418" y="825"/>
                    <a:pt x="489" y="848"/>
                  </a:cubicBezTo>
                  <a:cubicBezTo>
                    <a:pt x="477" y="634"/>
                    <a:pt x="514" y="128"/>
                    <a:pt x="481" y="0"/>
                  </a:cubicBezTo>
                  <a:cubicBezTo>
                    <a:pt x="399" y="15"/>
                    <a:pt x="58" y="50"/>
                    <a:pt x="0" y="57"/>
                  </a:cubicBezTo>
                </a:path>
              </a:pathLst>
            </a:custGeom>
            <a:solidFill>
              <a:srgbClr val="b40000"/>
            </a:solidFill>
            <a:ln w="45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70800" y="5895720"/>
              <a:ext cx="154440" cy="298080"/>
            </a:xfrm>
            <a:custGeom>
              <a:avLst/>
              <a:gdLst/>
              <a:ahLst/>
              <a:rect l="l" t="t" r="r" b="b"/>
              <a:pathLst>
                <a:path w="494" h="844">
                  <a:moveTo>
                    <a:pt x="487" y="55"/>
                  </a:moveTo>
                  <a:cubicBezTo>
                    <a:pt x="474" y="55"/>
                    <a:pt x="480" y="80"/>
                    <a:pt x="480" y="90"/>
                  </a:cubicBezTo>
                  <a:cubicBezTo>
                    <a:pt x="480" y="262"/>
                    <a:pt x="493" y="656"/>
                    <a:pt x="487" y="773"/>
                  </a:cubicBezTo>
                  <a:cubicBezTo>
                    <a:pt x="405" y="773"/>
                    <a:pt x="110" y="834"/>
                    <a:pt x="36" y="843"/>
                  </a:cubicBezTo>
                  <a:cubicBezTo>
                    <a:pt x="28" y="749"/>
                    <a:pt x="0" y="81"/>
                    <a:pt x="29" y="0"/>
                  </a:cubicBezTo>
                  <a:cubicBezTo>
                    <a:pt x="141" y="36"/>
                    <a:pt x="378" y="69"/>
                    <a:pt x="420" y="69"/>
                  </a:cubicBezTo>
                  <a:cubicBezTo>
                    <a:pt x="439" y="69"/>
                    <a:pt x="460" y="69"/>
                    <a:pt x="487" y="55"/>
                  </a:cubicBezTo>
                </a:path>
              </a:pathLst>
            </a:custGeom>
            <a:solidFill>
              <a:srgbClr val="b50000"/>
            </a:solidFill>
            <a:ln w="45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27120" y="5253480"/>
              <a:ext cx="274680" cy="274680"/>
            </a:xfrm>
            <a:custGeom>
              <a:avLst/>
              <a:gdLst/>
              <a:ahLst/>
              <a:rect l="l" t="t" r="r" b="b"/>
              <a:pathLst>
                <a:path w="873" h="778">
                  <a:moveTo>
                    <a:pt x="687" y="777"/>
                  </a:moveTo>
                  <a:cubicBezTo>
                    <a:pt x="519" y="664"/>
                    <a:pt x="236" y="558"/>
                    <a:pt x="0" y="386"/>
                  </a:cubicBezTo>
                  <a:cubicBezTo>
                    <a:pt x="104" y="208"/>
                    <a:pt x="33" y="0"/>
                    <a:pt x="521" y="45"/>
                  </a:cubicBezTo>
                  <a:cubicBezTo>
                    <a:pt x="787" y="62"/>
                    <a:pt x="716" y="250"/>
                    <a:pt x="735" y="354"/>
                  </a:cubicBezTo>
                  <a:cubicBezTo>
                    <a:pt x="754" y="483"/>
                    <a:pt x="872" y="646"/>
                    <a:pt x="687" y="777"/>
                  </a:cubicBezTo>
                </a:path>
              </a:pathLst>
            </a:cu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30680" y="5581800"/>
              <a:ext cx="360" cy="24804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cubicBezTo>
                    <a:pt x="0" y="102"/>
                    <a:pt x="0" y="649"/>
                    <a:pt x="0" y="699"/>
                  </a:cubicBezTo>
                  <a:lnTo>
                    <a:pt x="0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00720" y="5712120"/>
              <a:ext cx="268920" cy="360"/>
            </a:xfrm>
            <a:custGeom>
              <a:avLst/>
              <a:gdLst/>
              <a:ahLst/>
              <a:rect l="l" t="t" r="r" b="b"/>
              <a:pathLst>
                <a:path w="854" h="1">
                  <a:moveTo>
                    <a:pt x="853" y="0"/>
                  </a:moveTo>
                  <a:cubicBezTo>
                    <a:pt x="728" y="0"/>
                    <a:pt x="61" y="0"/>
                    <a:pt x="0" y="0"/>
                  </a:cubicBezTo>
                  <a:lnTo>
                    <a:pt x="853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38640" y="5918040"/>
              <a:ext cx="360" cy="24768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cubicBezTo>
                    <a:pt x="0" y="102"/>
                    <a:pt x="0" y="649"/>
                    <a:pt x="0" y="699"/>
                  </a:cubicBezTo>
                  <a:lnTo>
                    <a:pt x="0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39640" y="6046560"/>
              <a:ext cx="195480" cy="360"/>
            </a:xfrm>
            <a:custGeom>
              <a:avLst/>
              <a:gdLst/>
              <a:ahLst/>
              <a:rect l="l" t="t" r="r" b="b"/>
              <a:pathLst>
                <a:path w="620" h="1">
                  <a:moveTo>
                    <a:pt x="619" y="0"/>
                  </a:moveTo>
                  <a:cubicBezTo>
                    <a:pt x="529" y="0"/>
                    <a:pt x="44" y="0"/>
                    <a:pt x="0" y="0"/>
                  </a:cubicBezTo>
                  <a:lnTo>
                    <a:pt x="619" y="0"/>
                  </a:lnTo>
                </a:path>
              </a:pathLst>
            </a:custGeom>
            <a:solidFill>
              <a:srgbClr val="7f7f7f"/>
            </a:solidFill>
            <a:ln w="48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20360" y="899640"/>
            <a:ext cx="8628120" cy="6100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ая 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уг «Мой весёлый звонкий мяч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а о пожарной безопасности по стихотворению «Пожа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тоговое мероприя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я в библиотеку на литературную викторину «По страницам С.Я.Маршак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459640" y="900000"/>
            <a:ext cx="1258920" cy="1978200"/>
            <a:chOff x="8459640" y="900000"/>
            <a:chExt cx="1258920" cy="19782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810640" y="900000"/>
              <a:ext cx="64440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9147240" y="1459080"/>
              <a:ext cx="571320" cy="523800"/>
              <a:chOff x="9147240" y="1459080"/>
              <a:chExt cx="571320" cy="523800"/>
            </a:xfrm>
          </p:grpSpPr>
          <p:sp>
            <p:nvSpPr>
              <p:cNvPr id="156" name=""/>
              <p:cNvSpPr/>
              <p:nvPr/>
            </p:nvSpPr>
            <p:spPr>
              <a:xfrm>
                <a:off x="9147240" y="1459080"/>
                <a:ext cx="549360" cy="458640"/>
              </a:xfrm>
              <a:custGeom>
                <a:avLst/>
                <a:gdLst/>
                <a:ahLst/>
                <a:rect l="l" t="t" r="r" b="b"/>
                <a:pathLst>
                  <a:path w="1529" h="1277">
                    <a:moveTo>
                      <a:pt x="0" y="0"/>
                    </a:moveTo>
                    <a:cubicBezTo>
                      <a:pt x="1528" y="369"/>
                      <a:pt x="1413" y="1244"/>
                      <a:pt x="1397" y="1276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567720" y="1866960"/>
                <a:ext cx="150840" cy="1159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748720" y="2160720"/>
              <a:ext cx="329400" cy="717480"/>
              <a:chOff x="8748720" y="2160720"/>
              <a:chExt cx="329400" cy="71748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8910720" y="2160720"/>
                <a:ext cx="167400" cy="684000"/>
              </a:xfrm>
              <a:prstGeom prst="line">
                <a:avLst/>
              </a:prstGeom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48720" y="2749680"/>
                <a:ext cx="244440" cy="1285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9164520" y="2143080"/>
              <a:ext cx="387000" cy="608040"/>
              <a:chOff x="9164520" y="2143080"/>
              <a:chExt cx="387000" cy="608040"/>
            </a:xfrm>
          </p:grpSpPr>
          <p:sp>
            <p:nvSpPr>
              <p:cNvPr id="162" name=""/>
              <p:cNvSpPr/>
              <p:nvPr/>
            </p:nvSpPr>
            <p:spPr>
              <a:xfrm>
                <a:off x="9317880" y="2655720"/>
                <a:ext cx="233640" cy="954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164520" y="2143080"/>
                <a:ext cx="192600" cy="527040"/>
              </a:xfrm>
              <a:prstGeom prst="line">
                <a:avLst/>
              </a:prstGeom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459640" y="1041480"/>
              <a:ext cx="619200" cy="654120"/>
              <a:chOff x="8459640" y="1041480"/>
              <a:chExt cx="619200" cy="654120"/>
            </a:xfrm>
          </p:grpSpPr>
          <p:sp>
            <p:nvSpPr>
              <p:cNvPr id="165" name=""/>
              <p:cNvSpPr/>
              <p:nvPr/>
            </p:nvSpPr>
            <p:spPr>
              <a:xfrm>
                <a:off x="8459640" y="1195560"/>
                <a:ext cx="155880" cy="1490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570880" y="1332000"/>
                <a:ext cx="507960" cy="363600"/>
              </a:xfrm>
              <a:custGeom>
                <a:avLst/>
                <a:gdLst/>
                <a:ahLst/>
                <a:rect l="l" t="t" r="r" b="b"/>
                <a:pathLst>
                  <a:path w="1415" h="1014">
                    <a:moveTo>
                      <a:pt x="1414" y="381"/>
                    </a:moveTo>
                    <a:lnTo>
                      <a:pt x="721" y="1013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543880" y="1041480"/>
                <a:ext cx="54000" cy="2444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8966160" y="1433520"/>
              <a:ext cx="318960" cy="74916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8:21Z</dcterms:created>
  <dc:creator/>
  <dc:description/>
  <dc:language>en-US</dc:language>
  <cp:lastModifiedBy/>
  <dcterms:modified xsi:type="dcterms:W3CDTF">2012-11-20T12:20:09Z</dcterms:modified>
  <cp:revision>2</cp:revision>
  <dc:subject/>
  <dc:title/>
</cp:coreProperties>
</file>