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A1C-B418-4003-A858-3949FCCF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AB6-8E17-42FC-BAF8-95824EF0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976-FA0D-45DA-B20E-6651E969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4A6-F822-4B7A-BE1E-9FD8110F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580680"/>
            <a:ext cx="86029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137-4A79-442A-AE07-B63CD88F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BEF-F4AD-4734-90D3-3D090E3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CCC-2421-415B-AF78-6E2C11C5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B9F-0F43-48F8-A448-7755C11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80680"/>
            <a:ext cx="86029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8ED-9BB8-4439-ACA9-DE07D2E4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00C-E0A3-43D2-8588-29F5A01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F29-6205-4405-B41F-464592C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75F-F813-4F47-A001-9C41B72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CD289-B95F-4CF7-8346-7789FCFCCC4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58068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058760"/>
            <a:ext cx="9070920" cy="20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атематические игры как средство развития логического мыш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5754600"/>
            <a:ext cx="9036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Щукина Вера Станиславовна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МБДОУ №50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Средняя группа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7760" y="3240000"/>
            <a:ext cx="552240" cy="5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56720" y="4432320"/>
            <a:ext cx="863640" cy="60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199280" y="3959280"/>
            <a:ext cx="808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580000" y="4680000"/>
            <a:ext cx="72072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альние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2879280"/>
            <a:ext cx="879948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Формировать навыки логического мышления, настойчивость, целенаправленность, способность действовать в уме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732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лижние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879280"/>
            <a:ext cx="843912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оздать каждому ребёнку условия для полного раскрытия его возможностей и способност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Развивать у детей внимание, память, логическое мышле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80680"/>
            <a:ext cx="8607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дагогические методы и 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ндивидуальная работа с детьми с низким уровнем разви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Объединение в группы детей с высоким, средним и низким уровнем разви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мочь детям преодолеть отстава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спользовать работу в группах  для привития детям чувства взаимопомощи, взаимовыручки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178920"/>
            <a:ext cx="84391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удности и ре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1260000"/>
            <a:ext cx="4119840" cy="61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9000"/>
          </a:bodyPr>
          <a:p>
            <a:pPr marL="4273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8a8a"/>
                </a:solidFill>
                <a:latin typeface="Times New Roman"/>
              </a:rPr>
              <a:t>Трудности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достаток  игр и по собий по данной тем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большой опыт пользования компьютером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1716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епонимание родителями важности развития логического мышления у дет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1600" y="1260000"/>
            <a:ext cx="4208400" cy="61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8a8a"/>
                </a:solidFill>
                <a:latin typeface="Times New Roman"/>
              </a:rPr>
              <a:t>Решения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прошу родителей изготовить и сделаю сам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прошу помощи у коллег, обучение на курсах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дготовлю материал для проведения консудьтаций и бесед с родителями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2400" y="74520"/>
            <a:ext cx="8607600" cy="569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сультация для родителей.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граем дома вместе сдетьми»</a:t>
            </a:r>
            <a:br>
              <a:rPr sz="3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(Подбор игр на развитие логического мышления)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40880" y="5394240"/>
            <a:ext cx="8618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</a:rPr>
              <a:t>Воспитатель: Щукина В. С.</a:t>
            </a: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8080"/>
                </a:solidFill>
                <a:latin typeface="Times New Roman"/>
              </a:rPr>
              <a:t>МБДОУ №50</a:t>
            </a:r>
            <a:endParaRPr b="0" lang="en-US" sz="26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80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3247920"/>
            <a:ext cx="86072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зучение новой методической литератур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Помощь и поддержка коллег и родител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53964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126072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64960"/>
            <a:ext cx="860436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ан-граф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1800360"/>
            <a:ext cx="231948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есяц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Авгус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ентябрь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Ноябрь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арт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а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800360"/>
            <a:ext cx="648036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Мероприятия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Изучение литератур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Создание развивающей среды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Консультация для родителей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</a:rPr>
              <a:t>Анализ полученного опыта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6:35:10Z</dcterms:created>
  <dc:creator/>
  <dc:description/>
  <dc:language>en-US</dc:language>
  <cp:lastModifiedBy>imc</cp:lastModifiedBy>
  <dcterms:modified xsi:type="dcterms:W3CDTF">2013-02-13T06:45:52Z</dcterms:modified>
  <cp:revision>1</cp:revision>
  <dc:subject/>
  <dc:title>Математические игры как средство развития логического мышления.</dc:title>
</cp:coreProperties>
</file>