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5.gif" ContentType="image/gif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EBE-E22A-4D51-84CB-2FF41D6D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738-0A9A-4685-8426-24DCA5F3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00B-3B1B-46DA-B0A2-DAC8A4CF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79D-8FE0-4E7D-BCA8-81C58356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790-C147-426D-B728-DD7D170B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813-0E83-44A9-B90E-7D5DBEFF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5D2-D455-4FDD-A1D9-9FB40D6E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085-76A4-466D-A012-A9351988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F3C-D303-49F1-A389-7CE346A2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095-07A0-4B10-A8B8-7E068987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0C8-DE60-4073-AD43-167C572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986-C4EB-4CB7-BA95-F47051D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E64B-9CA6-481B-86DE-5E430FC53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D696-7A30-4058-BF75-BDF9A6174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573360"/>
            <a:ext cx="7988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KZ Vivaldi"/>
                <a:ea typeface="Arial"/>
              </a:rPr>
              <a:t>«Решение неравенств методом интервало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H:\Documents and Settings\Aida\Рабочий стол\текстуры и фоны, клипарты\новеньки картинки\protractor measuring a hb.gif"/>
          <p:cNvPicPr/>
          <p:nvPr/>
        </p:nvPicPr>
        <p:blipFill>
          <a:blip r:embed="rId2"/>
          <a:stretch/>
        </p:blipFill>
        <p:spPr>
          <a:xfrm>
            <a:off x="633240" y="853920"/>
            <a:ext cx="1970280" cy="14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:\Documents and Settings\Aida\Рабочий стол\текстуры и фоны, клипарты\новеньки картинки\points appearing on g a hc.gif"/>
          <p:cNvPicPr/>
          <p:nvPr/>
        </p:nvPicPr>
        <p:blipFill>
          <a:blip r:embed="rId3"/>
          <a:stretch/>
        </p:blipFill>
        <p:spPr>
          <a:xfrm>
            <a:off x="5992920" y="781200"/>
            <a:ext cx="2273040" cy="160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Documents and Settings\Aida\Рабочий стол\текстуры и фоны, клипарты\новеньки картинки\geometry compass shapes hc.gif"/>
          <p:cNvPicPr/>
          <p:nvPr/>
        </p:nvPicPr>
        <p:blipFill>
          <a:blip r:embed="rId4"/>
          <a:stretch/>
        </p:blipFill>
        <p:spPr>
          <a:xfrm>
            <a:off x="3214800" y="500040"/>
            <a:ext cx="24746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Камнеметательная машина выстреливает камни под некоторым острым углом к горизонту. Траектория полета камня описывается формулой                           ,  х(м)– смещение камня по горизонтали, у(м) – высота камня над землей. На каком наибольшем расстоянии (в метрах) от крепостной стены высотой 8 м нужно расположить машину, чтобы камни пролетали над стеной на высоте не менее 1 метра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00360" y="2708280"/>
                <a:ext cx="158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тветы «Реши задач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84360" y="1413000"/>
                <a:ext cx="1295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55640" y="1916280"/>
                <a:ext cx="19447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55640" y="2708280"/>
                <a:ext cx="2016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,6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55640" y="3213000"/>
                <a:ext cx="1944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,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84360" y="2276640"/>
                <a:ext cx="21603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,6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3600360" cy="900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35640" y="5229360"/>
                <a:ext cx="1081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2</m:t>
                        </m:r>
                        <m:r>
                          <m:t xml:space="preserve">;</m:t>
                        </m:r>
                        <m:r>
                          <m:t xml:space="preserve">1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-420120" y="5975280"/>
            <a:ext cx="1014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,6-0,2=1,4 (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яч будет находиться на высоте большей или равной трем метрам в течении 1,4 секунд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55640" y="3652920"/>
                <a:ext cx="2736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1,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55640" y="4292640"/>
                <a:ext cx="1512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71640" y="4249800"/>
                <a:ext cx="15130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34080" y="5286240"/>
                <a:ext cx="484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55640" y="1484280"/>
                <a:ext cx="936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4360" y="1844640"/>
                <a:ext cx="20160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4360" y="2708280"/>
                <a:ext cx="26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55640" y="3213000"/>
                <a:ext cx="2521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26920" y="3789360"/>
                <a:ext cx="2376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826920" y="4221000"/>
                <a:ext cx="1656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900000" y="4724280"/>
                <a:ext cx="15130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00000" y="5157720"/>
                <a:ext cx="93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124000" y="5157720"/>
                <a:ext cx="935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708360" y="4437000"/>
            <a:ext cx="3384720" cy="995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-3584520" y="30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3584520" y="3060720"/>
                <a:ext cx="447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84360" y="5590800"/>
            <a:ext cx="828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мни будут перелетать крепостную стену на высоте не менее 1 мет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камнеметательная машина будет находиться на расстоя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 10 до 90 метров от этой стены. Наибольшее расстояние – 90 метров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956720" y="5013360"/>
                <a:ext cx="10080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236000" y="5084640"/>
                <a:ext cx="6490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«Проверь себ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шите неравенства методом интерва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00000" y="2421000"/>
          <a:ext cx="3600720" cy="60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421000"/>
                    <a:ext cx="3600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042920" y="3141720"/>
                <a:ext cx="1657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42920" y="4508640"/>
                <a:ext cx="3529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 «Проверь себ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84360" y="1484280"/>
                <a:ext cx="21589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55640" y="1989000"/>
                <a:ext cx="201600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55640" y="2421000"/>
                <a:ext cx="1224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348000" y="2421000"/>
                <a:ext cx="11527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2270880" y="241992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2924280"/>
                <a:ext cx="9367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348000" y="2924280"/>
                <a:ext cx="863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941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4360" y="453600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 (-4;0,4)   или    -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&lt;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692360" y="4653000"/>
                <a:ext cx="576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55640" y="1484280"/>
                <a:ext cx="1224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55640" y="2421000"/>
                <a:ext cx="10796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55640" y="3213000"/>
                <a:ext cx="9367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987640" y="3213000"/>
                <a:ext cx="1079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2124000" y="32122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55640" y="3645000"/>
                <a:ext cx="72072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59280" y="3645000"/>
                <a:ext cx="936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3168720" cy="905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195640" y="5445000"/>
                <a:ext cx="2089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932360" y="5445000"/>
                <a:ext cx="909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156360" y="5445000"/>
                <a:ext cx="86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583200" y="53679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11640" y="544428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155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619280" y="5445000"/>
                <a:ext cx="576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11280" y="1484280"/>
                <a:ext cx="2089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84360" y="1989000"/>
                <a:ext cx="1942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11280" y="2421000"/>
                <a:ext cx="1944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11280" y="2852640"/>
                <a:ext cx="2665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11280" y="3500280"/>
                <a:ext cx="143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556000" y="3429000"/>
                <a:ext cx="1511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3313080" cy="1120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050920" y="5734080"/>
                <a:ext cx="19447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788000" y="5734080"/>
                <a:ext cx="792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940360" y="5734080"/>
                <a:ext cx="720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583200" y="565668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4200" y="5656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80000" y="58042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619280" y="5805360"/>
                <a:ext cx="4316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1 (1,3), составьте задач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Знаю, Умею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686840"/>
                <a:gridCol w="1825920"/>
                <a:gridCol w="1716480"/>
              </a:tblGrid>
              <a:tr h="297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чало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ю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решения методом интерва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ный метод интерва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мею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корни квадратного урав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96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корни дробно-рационального урав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96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чать корни на числовой о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96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ть знак в правом крайнем интерв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96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ть нужный интервал, записывая от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формирование умений решать неравенства методом интервалов, ознакомить учащихся с обобщенным методом интерв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26920" y="1557360"/>
                <a:ext cx="3168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00000" y="2205000"/>
                <a:ext cx="2881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71640" y="2781360"/>
                <a:ext cx="3024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42920" y="3284640"/>
                <a:ext cx="2449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16000" y="3860640"/>
                <a:ext cx="1008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80000" y="3789360"/>
                <a:ext cx="834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8108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38599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6600" y="551556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00720" y="5516640"/>
                <a:ext cx="15840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534760" y="544428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-7;7)  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4365720"/>
            <a:ext cx="3600360" cy="1038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3600360" cy="1038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79640" y="5589720"/>
                <a:ext cx="576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Заполни пропус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9721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72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9560" y="61599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42920" y="1413000"/>
                <a:ext cx="1728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42920" y="2276640"/>
                <a:ext cx="18734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042920" y="2997360"/>
                <a:ext cx="180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42920" y="3645000"/>
                <a:ext cx="1871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42920" y="4076640"/>
                <a:ext cx="27352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16000" y="4724280"/>
                <a:ext cx="16556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03640" y="4724280"/>
                <a:ext cx="15127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5373720"/>
            <a:ext cx="27370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26920" y="1413000"/>
                <a:ext cx="1224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00000" y="2276640"/>
                <a:ext cx="10796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00000" y="3068640"/>
                <a:ext cx="1224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3640" y="3095640"/>
                <a:ext cx="1147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327480" y="3598920"/>
                <a:ext cx="761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3200400" cy="8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529000"/>
            <a:ext cx="719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9680" y="353772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2640" y="5037840"/>
            <a:ext cx="11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41480" y="3530520"/>
                <a:ext cx="79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верка «Заполни пропус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276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276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97144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284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26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280" y="61599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33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42920" y="1413000"/>
                <a:ext cx="1728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233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42920" y="2276640"/>
                <a:ext cx="18734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233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42920" y="2997360"/>
                <a:ext cx="180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357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42920" y="3645000"/>
                <a:ext cx="1871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42920" y="4076640"/>
                <a:ext cx="27352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13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292400" y="4724280"/>
                <a:ext cx="13032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213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203640" y="4724280"/>
                <a:ext cx="15127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556000" y="4796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21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3121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441160" y="6234840"/>
            <a:ext cx="27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-1;8)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или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57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835280" y="6237360"/>
                <a:ext cx="647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</m:e>
                      <m:e>
                        <m:eqArr>
                          <m:e>
                            <m:eqArr>
                              <m:e>
                                <m:eqArr>
                                  <m:e>
                                    <m:eqArr>
                                      <m:e>
                                        <m:eqArr>
                                          <m:e/>
                                        </m:eqArr>
                                      </m:e>
                                    </m:eqArr>
                                  </m:e>
                                </m:eqArr>
                              </m:e>
                            </m:eqArr>
                          </m:e>
                        </m:eqAr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16000" y="5445000"/>
            <a:ext cx="280836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26920" y="1413000"/>
                <a:ext cx="1224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00000" y="2276640"/>
                <a:ext cx="10796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00000" y="3068640"/>
                <a:ext cx="1224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3640" y="3095640"/>
                <a:ext cx="1147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16400" y="3573360"/>
                <a:ext cx="4824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2529000"/>
            <a:ext cx="719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9680" y="353772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280" y="5011920"/>
            <a:ext cx="11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900000" y="3500280"/>
                <a:ext cx="79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3709080" y="3499200"/>
            <a:ext cx="6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313440" cy="960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0" y="27986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076720" y="5084640"/>
                <a:ext cx="2001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279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52560" y="5012280"/>
            <a:ext cx="24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]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или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5&lt;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3800" y="501228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050920" y="5084640"/>
                <a:ext cx="576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«Реши задачу ГИ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1. Высота над землей подброшенного вверх волейбольного мяча учащимся 8 класса Ромазановым Тимуром меняется по закону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где 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— высота в метрах, 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— время в секундах, прошедшее с момента броска. Сколько секунд мяч будет находиться на высоте не менее 3 мет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00000" y="3213000"/>
                <a:ext cx="2448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3:00:46Z</dcterms:created>
  <dc:creator>Александрова З.В. (Aida_Alex)</dc:creator>
  <dc:description>http://aida.ucoz.ru</dc:description>
  <dc:language>en-US</dc:language>
  <cp:lastModifiedBy>user</cp:lastModifiedBy>
  <dcterms:modified xsi:type="dcterms:W3CDTF">2013-05-15T03:06:17Z</dcterms:modified>
  <cp:revision>48</cp:revision>
  <dc:subject/>
  <dc:title>математика -11</dc:title>
</cp:coreProperties>
</file>