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5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applause.wav" ContentType="audio/x-wav"/>
  <Override PartName="/ppt/media/image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20.jpeg" ContentType="image/jpeg"/>
  <Override PartName="/ppt/media/image7.wmf" ContentType="image/x-wmf"/>
  <Override PartName="/ppt/media/image9.jpeg" ContentType="image/jpeg"/>
  <Override PartName="/ppt/media/image24.png" ContentType="image/png"/>
  <Override PartName="/ppt/media/image11.jpeg" ContentType="image/jpeg"/>
  <Override PartName="/ppt/media/image8.jpeg" ContentType="image/jpeg"/>
  <Override PartName="/ppt/media/image28.png" ContentType="image/png"/>
  <Override PartName="/ppt/media/image3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3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6.jpeg" ContentType="image/jpeg"/>
  <Override PartName="/ppt/media/image19.wmf" ContentType="image/x-wmf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9613-E829-4027-81BF-364F20F14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21CC-B82A-44C6-9B0E-602696693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ти четвертую вершину прямоугольника. Записать точки пересечения сторон прямоугольника с осями координат. Вычислите периметр и площад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показа слайдов 2,3,4 рассказывается легенда древних греков о возникновении созвездий Большой и Малой Медве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01CB-3636-483A-A293-D0DD6E6FF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9C31-7981-42E7-BAFC-63AC5FF4E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B19-CDCA-4756-B5A5-60B164E6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B4D-FC27-4432-B152-EC50133F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C66-85BB-4AC0-AA30-8CDD1739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A10-F1DD-4265-A184-B18ADBC5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9857-3E5C-491D-885E-924B9F7A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7E0B-727A-4305-996A-F85B5C4B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A5E0-DC82-4B53-A93C-B9D7E710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0EF6-07E1-43F3-AC00-1D71386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7080-9D22-439B-A7D7-AD6F6362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A8B3-7B54-4D07-8958-8F6684BE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D8A8-0F13-4018-8880-342BC5A4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013-3D17-4150-8867-2DBE57BC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C123-C2B5-41F5-BA2E-7274649D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FA83-6DEF-40FD-89A8-A988FCAE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9321-FED3-4141-B5DB-A985EFBA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3A48-5820-4F58-A0ED-280A6D99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CE10-AE47-4F39-946B-72D650BD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DFF-D41F-407A-99F2-6B8EBFBA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AF3-2900-4213-812E-C4BF81CC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F4E-42B7-4759-BFA1-BB3331B3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E35-260B-42AB-80A7-A7FB3C01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600-0E1D-4CB9-BDBC-D661CAAD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7F4-7DF1-4767-9B5F-BE2A7E52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038-BFBC-49A6-BCEF-4C2119EE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9890-FE72-4BF5-868B-294479C6D5C4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CAD2-EC41-48DE-9A7E-678B8F675368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0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ма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3" name="Содержимое 2" descr=""/>
          <p:cNvPicPr/>
          <p:nvPr/>
        </p:nvPicPr>
        <p:blipFill>
          <a:blip r:embed="rId1"/>
          <a:stretch/>
        </p:blipFill>
        <p:spPr>
          <a:xfrm>
            <a:off x="450720" y="1725480"/>
            <a:ext cx="8547120" cy="4608720"/>
          </a:xfrm>
          <a:prstGeom prst="rect">
            <a:avLst/>
          </a:prstGeom>
          <a:ln w="0">
            <a:noFill/>
          </a:ln>
        </p:spPr>
      </p:pic>
      <p:sp>
        <p:nvSpPr>
          <p:cNvPr id="10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3410-D6FF-42DE-A0B0-71F3A80E7C19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6D0E-0549-4AA8-A453-815F6A5158FE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430200" y="404640"/>
          <a:ext cx="871380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04640"/>
                    <a:ext cx="87138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6"/>
          <p:cNvSpPr/>
          <p:nvPr/>
        </p:nvSpPr>
        <p:spPr>
          <a:xfrm>
            <a:off x="613944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691440" y="2583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62016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8" descr="C:\Users\User\Downloads\299049.jpg"/>
          <p:cNvPicPr/>
          <p:nvPr/>
        </p:nvPicPr>
        <p:blipFill>
          <a:blip r:embed="rId3"/>
          <a:srcRect l="8325" t="29588" r="43340" b="14848"/>
          <a:stretch/>
        </p:blipFill>
        <p:spPr>
          <a:xfrm>
            <a:off x="468360" y="476280"/>
            <a:ext cx="3070080" cy="2592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C:\Users\User\Downloads\image_032.jpg"/>
          <p:cNvPicPr/>
          <p:nvPr/>
        </p:nvPicPr>
        <p:blipFill>
          <a:blip r:embed="rId4"/>
          <a:srcRect l="0" t="0" r="0" b="10630"/>
          <a:stretch/>
        </p:blipFill>
        <p:spPr>
          <a:xfrm>
            <a:off x="5148360" y="3933720"/>
            <a:ext cx="3705120" cy="24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912B-857F-4E8F-98EC-C3026B04216A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0" y="404640"/>
          <a:ext cx="9144000" cy="568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568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6"/>
          <p:cNvSpPr/>
          <p:nvPr/>
        </p:nvSpPr>
        <p:spPr>
          <a:xfrm>
            <a:off x="6015600" y="1989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331080" y="244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7" descr="C:\Users\User\Downloads\299049.jpg"/>
          <p:cNvPicPr/>
          <p:nvPr/>
        </p:nvPicPr>
        <p:blipFill>
          <a:blip r:embed="rId3"/>
          <a:srcRect l="0" t="29588" r="44172" b="14848"/>
          <a:stretch/>
        </p:blipFill>
        <p:spPr>
          <a:xfrm>
            <a:off x="0" y="620640"/>
            <a:ext cx="3300480" cy="2411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C:\Users\User\Downloads\0007-007-Opasnye-akuly.jpg"/>
          <p:cNvPicPr/>
          <p:nvPr/>
        </p:nvPicPr>
        <p:blipFill>
          <a:blip r:embed="rId4"/>
          <a:srcRect l="17713" t="0" r="23224" b="48955"/>
          <a:stretch/>
        </p:blipFill>
        <p:spPr>
          <a:xfrm>
            <a:off x="4788000" y="3860640"/>
            <a:ext cx="410976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CD5E-A9F8-49DE-9B75-61F2441F81B7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0" y="0"/>
          <a:ext cx="8964720" cy="61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4720" cy="61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6"/>
          <p:cNvSpPr/>
          <p:nvPr/>
        </p:nvSpPr>
        <p:spPr>
          <a:xfrm>
            <a:off x="585216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6" descr="C:\Users\User\Downloads\299049.jpg"/>
          <p:cNvPicPr/>
          <p:nvPr/>
        </p:nvPicPr>
        <p:blipFill>
          <a:blip r:embed="rId3"/>
          <a:srcRect l="12067" t="29588" r="42974" b="18680"/>
          <a:stretch/>
        </p:blipFill>
        <p:spPr>
          <a:xfrm>
            <a:off x="250920" y="189000"/>
            <a:ext cx="3671640" cy="273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User\Downloads\organy-chuvstv1.jpg"/>
          <p:cNvPicPr/>
          <p:nvPr/>
        </p:nvPicPr>
        <p:blipFill>
          <a:blip r:embed="rId4"/>
          <a:stretch/>
        </p:blipFill>
        <p:spPr>
          <a:xfrm>
            <a:off x="5148360" y="3789360"/>
            <a:ext cx="335916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4C07-E986-40D4-B520-8844A8C5AF72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395280" y="0"/>
          <a:ext cx="842472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Picture 5" descr="C:\Users\User\Downloads\1305908843_167892ad1609c2cd7b887796db1e3406.jpg"/>
          <p:cNvPicPr/>
          <p:nvPr/>
        </p:nvPicPr>
        <p:blipFill>
          <a:blip r:embed="rId3"/>
          <a:srcRect l="10689" t="0" r="19760" b="13717"/>
          <a:stretch/>
        </p:blipFill>
        <p:spPr>
          <a:xfrm>
            <a:off x="5076720" y="0"/>
            <a:ext cx="331164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8"/>
          <p:cNvSpPr txBox="1"/>
          <p:nvPr/>
        </p:nvSpPr>
        <p:spPr>
          <a:xfrm>
            <a:off x="539640" y="189000"/>
            <a:ext cx="7775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ИЗ.МИНУТ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6" name="Picture 11" descr="sporta-1336"/>
          <p:cNvPicPr/>
          <p:nvPr/>
        </p:nvPicPr>
        <p:blipFill>
          <a:blip r:embed="rId1"/>
          <a:stretch/>
        </p:blipFill>
        <p:spPr>
          <a:xfrm>
            <a:off x="2268360" y="1973160"/>
            <a:ext cx="475164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обитаемый остр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Содержимое 4" descr="sejshelskie_ostrova_7.jpg"/>
          <p:cNvPicPr/>
          <p:nvPr/>
        </p:nvPicPr>
        <p:blipFill>
          <a:blip r:embed="rId1"/>
          <a:stretch/>
        </p:blipFill>
        <p:spPr>
          <a:xfrm>
            <a:off x="755640" y="1700280"/>
            <a:ext cx="7561440" cy="4753080"/>
          </a:xfrm>
          <a:prstGeom prst="rect">
            <a:avLst/>
          </a:prstGeom>
          <a:ln w="0">
            <a:noFill/>
          </a:ln>
        </p:spPr>
      </p:pic>
      <p:sp>
        <p:nvSpPr>
          <p:cNvPr id="229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A645-F3D4-4EFD-8866-FC125239535D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69"/>
          <p:cNvSpPr/>
          <p:nvPr/>
        </p:nvSpPr>
        <p:spPr>
          <a:xfrm flipH="1">
            <a:off x="2351160" y="1314360"/>
            <a:ext cx="5749920" cy="35179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70"/>
          <p:cNvSpPr/>
          <p:nvPr/>
        </p:nvSpPr>
        <p:spPr>
          <a:xfrm>
            <a:off x="2386080" y="1271520"/>
            <a:ext cx="5724360" cy="357516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68"/>
          <p:cNvSpPr/>
          <p:nvPr/>
        </p:nvSpPr>
        <p:spPr>
          <a:xfrm flipH="1">
            <a:off x="2400480" y="1238400"/>
            <a:ext cx="1440" cy="36414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95560" y="-135000"/>
            <a:ext cx="54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3"/>
          <p:cNvSpPr/>
          <p:nvPr/>
        </p:nvSpPr>
        <p:spPr>
          <a:xfrm>
            <a:off x="297000" y="3429000"/>
            <a:ext cx="856764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4"/>
          <p:cNvSpPr/>
          <p:nvPr/>
        </p:nvSpPr>
        <p:spPr>
          <a:xfrm flipV="1">
            <a:off x="4572000" y="368280"/>
            <a:ext cx="0" cy="5896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8128080" y="3429000"/>
            <a:ext cx="80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515772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944960" y="3279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244440" y="3048120"/>
            <a:ext cx="864072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244440" y="269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258840" y="2332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228600" y="198108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244440" y="161604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228600" y="124920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228600" y="88416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244440" y="533520"/>
            <a:ext cx="8670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244440" y="198360"/>
            <a:ext cx="8670960" cy="30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198360" y="3780000"/>
            <a:ext cx="868680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228600" y="4130640"/>
            <a:ext cx="864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20"/>
          <p:cNvSpPr/>
          <p:nvPr/>
        </p:nvSpPr>
        <p:spPr>
          <a:xfrm flipV="1">
            <a:off x="212760" y="4495680"/>
            <a:ext cx="8656560" cy="15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0" y="4861080"/>
            <a:ext cx="8899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212760" y="5211720"/>
            <a:ext cx="8702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228600" y="5578560"/>
            <a:ext cx="862632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24"/>
          <p:cNvSpPr/>
          <p:nvPr/>
        </p:nvSpPr>
        <p:spPr>
          <a:xfrm>
            <a:off x="212760" y="5927760"/>
            <a:ext cx="8672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25"/>
          <p:cNvSpPr/>
          <p:nvPr/>
        </p:nvSpPr>
        <p:spPr>
          <a:xfrm>
            <a:off x="228600" y="6294600"/>
            <a:ext cx="8518680" cy="14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212760" y="6659640"/>
            <a:ext cx="865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27"/>
          <p:cNvSpPr/>
          <p:nvPr/>
        </p:nvSpPr>
        <p:spPr>
          <a:xfrm flipH="1">
            <a:off x="4906440" y="260280"/>
            <a:ext cx="25560" cy="6384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527364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5622840" y="228600"/>
            <a:ext cx="144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598968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6340320" y="228600"/>
            <a:ext cx="1620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6705720" y="198360"/>
            <a:ext cx="2988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7056360" y="212760"/>
            <a:ext cx="30240" cy="6416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34"/>
          <p:cNvSpPr/>
          <p:nvPr/>
        </p:nvSpPr>
        <p:spPr>
          <a:xfrm>
            <a:off x="7437600" y="21276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35"/>
          <p:cNvSpPr/>
          <p:nvPr/>
        </p:nvSpPr>
        <p:spPr>
          <a:xfrm>
            <a:off x="7788240" y="21276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36"/>
          <p:cNvSpPr/>
          <p:nvPr/>
        </p:nvSpPr>
        <p:spPr>
          <a:xfrm>
            <a:off x="8137440" y="212760"/>
            <a:ext cx="158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37"/>
          <p:cNvSpPr/>
          <p:nvPr/>
        </p:nvSpPr>
        <p:spPr>
          <a:xfrm>
            <a:off x="8474040" y="212760"/>
            <a:ext cx="1440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38"/>
          <p:cNvSpPr/>
          <p:nvPr/>
        </p:nvSpPr>
        <p:spPr>
          <a:xfrm>
            <a:off x="8793000" y="212760"/>
            <a:ext cx="30240" cy="6432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39"/>
          <p:cNvSpPr/>
          <p:nvPr/>
        </p:nvSpPr>
        <p:spPr>
          <a:xfrm>
            <a:off x="4206960" y="198360"/>
            <a:ext cx="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40"/>
          <p:cNvSpPr/>
          <p:nvPr/>
        </p:nvSpPr>
        <p:spPr>
          <a:xfrm>
            <a:off x="3840120" y="0"/>
            <a:ext cx="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41"/>
          <p:cNvSpPr/>
          <p:nvPr/>
        </p:nvSpPr>
        <p:spPr>
          <a:xfrm>
            <a:off x="3460680" y="0"/>
            <a:ext cx="302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42"/>
          <p:cNvSpPr/>
          <p:nvPr/>
        </p:nvSpPr>
        <p:spPr>
          <a:xfrm>
            <a:off x="3108240" y="182520"/>
            <a:ext cx="1584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43"/>
          <p:cNvSpPr/>
          <p:nvPr/>
        </p:nvSpPr>
        <p:spPr>
          <a:xfrm>
            <a:off x="2759040" y="182520"/>
            <a:ext cx="0" cy="6446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44"/>
          <p:cNvSpPr/>
          <p:nvPr/>
        </p:nvSpPr>
        <p:spPr>
          <a:xfrm>
            <a:off x="2392200" y="182520"/>
            <a:ext cx="0" cy="667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45"/>
          <p:cNvSpPr/>
          <p:nvPr/>
        </p:nvSpPr>
        <p:spPr>
          <a:xfrm>
            <a:off x="2025720" y="198360"/>
            <a:ext cx="1440" cy="646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46"/>
          <p:cNvSpPr/>
          <p:nvPr/>
        </p:nvSpPr>
        <p:spPr>
          <a:xfrm flipH="1">
            <a:off x="1646280" y="182520"/>
            <a:ext cx="14400" cy="6431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47"/>
          <p:cNvSpPr/>
          <p:nvPr/>
        </p:nvSpPr>
        <p:spPr>
          <a:xfrm>
            <a:off x="1295280" y="182520"/>
            <a:ext cx="0" cy="6462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Line 48"/>
          <p:cNvSpPr/>
          <p:nvPr/>
        </p:nvSpPr>
        <p:spPr>
          <a:xfrm>
            <a:off x="944640" y="0"/>
            <a:ext cx="15840" cy="6645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Line 49"/>
          <p:cNvSpPr/>
          <p:nvPr/>
        </p:nvSpPr>
        <p:spPr>
          <a:xfrm>
            <a:off x="579600" y="182520"/>
            <a:ext cx="14040" cy="647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50"/>
          <p:cNvSpPr/>
          <p:nvPr/>
        </p:nvSpPr>
        <p:spPr>
          <a:xfrm>
            <a:off x="243000" y="0"/>
            <a:ext cx="1440" cy="665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52"/>
          <p:cNvSpPr/>
          <p:nvPr/>
        </p:nvSpPr>
        <p:spPr>
          <a:xfrm>
            <a:off x="4211640" y="260280"/>
            <a:ext cx="69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53"/>
          <p:cNvSpPr/>
          <p:nvPr/>
        </p:nvSpPr>
        <p:spPr>
          <a:xfrm>
            <a:off x="4465800" y="1235160"/>
            <a:ext cx="24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54"/>
          <p:cNvSpPr/>
          <p:nvPr/>
        </p:nvSpPr>
        <p:spPr>
          <a:xfrm>
            <a:off x="4154040" y="3898800"/>
            <a:ext cx="45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Line 58"/>
          <p:cNvSpPr/>
          <p:nvPr/>
        </p:nvSpPr>
        <p:spPr>
          <a:xfrm flipH="1">
            <a:off x="8129160" y="1271520"/>
            <a:ext cx="19080" cy="35575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59"/>
          <p:cNvSpPr/>
          <p:nvPr/>
        </p:nvSpPr>
        <p:spPr>
          <a:xfrm>
            <a:off x="7951680" y="3300480"/>
            <a:ext cx="352440" cy="352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61"/>
          <p:cNvSpPr/>
          <p:nvPr/>
        </p:nvSpPr>
        <p:spPr>
          <a:xfrm>
            <a:off x="2386080" y="1220760"/>
            <a:ext cx="5776920" cy="17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62"/>
          <p:cNvSpPr/>
          <p:nvPr/>
        </p:nvSpPr>
        <p:spPr>
          <a:xfrm flipH="1" flipV="1">
            <a:off x="2368080" y="4846680"/>
            <a:ext cx="5730840" cy="460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4361040" y="1027080"/>
            <a:ext cx="350640" cy="36684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ff3399"/>
              </a:gs>
            </a:gsLst>
            <a:lin ang="189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387680" y="4730760"/>
            <a:ext cx="336600" cy="3510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ff3399"/>
              </a:gs>
            </a:gsLst>
            <a:lin ang="189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2243160" y="1071720"/>
            <a:ext cx="336600" cy="36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7959600" y="1069920"/>
            <a:ext cx="333360" cy="351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7945560" y="4667400"/>
            <a:ext cx="320400" cy="36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55"/>
          <p:cNvSpPr/>
          <p:nvPr/>
        </p:nvSpPr>
        <p:spPr>
          <a:xfrm>
            <a:off x="2200320" y="4695840"/>
            <a:ext cx="352440" cy="35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60"/>
          <p:cNvSpPr/>
          <p:nvPr/>
        </p:nvSpPr>
        <p:spPr>
          <a:xfrm>
            <a:off x="2219400" y="3267000"/>
            <a:ext cx="336600" cy="320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2"/>
              <p:cNvSpPr txBox="1"/>
              <p:nvPr/>
            </p:nvSpPr>
            <p:spPr>
              <a:xfrm>
                <a:off x="-684360" y="5041800"/>
                <a:ext cx="413892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73"/>
              <p:cNvSpPr txBox="1"/>
              <p:nvPr/>
            </p:nvSpPr>
            <p:spPr>
              <a:xfrm>
                <a:off x="2484360" y="1341360"/>
                <a:ext cx="5672160" cy="358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74"/>
          <p:cNvSpPr/>
          <p:nvPr/>
        </p:nvSpPr>
        <p:spPr>
          <a:xfrm>
            <a:off x="8244360" y="3898800"/>
            <a:ext cx="8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60093"/>
                </a:solidFill>
                <a:latin typeface="Tahoma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75"/>
          <p:cNvSpPr/>
          <p:nvPr/>
        </p:nvSpPr>
        <p:spPr>
          <a:xfrm>
            <a:off x="1351800" y="380052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60093"/>
                </a:solidFill>
                <a:latin typeface="Tahoma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76"/>
          <p:cNvSpPr/>
          <p:nvPr/>
        </p:nvSpPr>
        <p:spPr>
          <a:xfrm>
            <a:off x="1959120" y="0"/>
            <a:ext cx="82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60093"/>
                </a:solidFill>
                <a:latin typeface="Tahoma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77"/>
          <p:cNvSpPr/>
          <p:nvPr/>
        </p:nvSpPr>
        <p:spPr>
          <a:xfrm>
            <a:off x="7704000" y="0"/>
            <a:ext cx="93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d60093"/>
                </a:solidFill>
                <a:latin typeface="Tahoma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3" name="Содержимое 4" descr="korablik_1600.jpg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991120"/>
          </a:xfrm>
          <a:prstGeom prst="rect">
            <a:avLst/>
          </a:prstGeom>
          <a:ln w="0">
            <a:noFill/>
          </a:ln>
        </p:spPr>
      </p:pic>
      <p:sp>
        <p:nvSpPr>
          <p:cNvPr id="30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777F-282E-4C4B-812A-354AAA3CA45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68360" y="0"/>
            <a:ext cx="8242200" cy="1440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(6;6)                                                          1.(-15;-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(3;7)                                                          2.(-10;-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(0;7,5)                                                       3.(-3;-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(-3;5,5)                                                      4.(6;-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.(-5;7)                                                         5.(5;-1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.(-8;5)                                                         6.(-1;-10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.(-6;3)                                                         7.(-3;-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8.(-3;5,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Рисунок 3" descr="P1000548.JPG"/>
          <p:cNvPicPr/>
          <p:nvPr/>
        </p:nvPicPr>
        <p:blipFill>
          <a:blip r:embed="rId2"/>
          <a:srcRect l="17875" t="0" r="8908" b="4845"/>
          <a:stretch/>
        </p:blipFill>
        <p:spPr>
          <a:xfrm>
            <a:off x="2124000" y="1413000"/>
            <a:ext cx="36529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9" name="Содержимое 3" descr="IMG_0009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F98E-9F60-4F9A-A33F-B76F912E3AB3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0" y="404640"/>
          <a:ext cx="896472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96472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Line 9"/>
          <p:cNvSpPr/>
          <p:nvPr/>
        </p:nvSpPr>
        <p:spPr>
          <a:xfrm>
            <a:off x="1476360" y="3429000"/>
            <a:ext cx="1800360" cy="151272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276720" y="4941720"/>
            <a:ext cx="2374920" cy="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5651640" y="2421000"/>
            <a:ext cx="1512720" cy="252072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5651640" y="2421000"/>
            <a:ext cx="1512720" cy="158436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1476360" y="3429000"/>
            <a:ext cx="1800360" cy="50472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3276720" y="3933720"/>
            <a:ext cx="2374920" cy="71640"/>
          </a:xfrm>
          <a:prstGeom prst="line">
            <a:avLst/>
          </a:prstGeom>
          <a:ln w="57240">
            <a:solidFill>
              <a:srgbClr val="85df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4788000" y="907560"/>
            <a:ext cx="0" cy="3025800"/>
          </a:xfrm>
          <a:prstGeom prst="line">
            <a:avLst/>
          </a:prstGeom>
          <a:ln w="381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4788000" y="907920"/>
            <a:ext cx="1512720" cy="1008360"/>
          </a:xfrm>
          <a:prstGeom prst="line">
            <a:avLst/>
          </a:prstGeom>
          <a:ln w="381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18"/>
          <p:cNvSpPr/>
          <p:nvPr/>
        </p:nvSpPr>
        <p:spPr>
          <a:xfrm flipH="1">
            <a:off x="4788000" y="1916280"/>
            <a:ext cx="1512720" cy="1008000"/>
          </a:xfrm>
          <a:prstGeom prst="line">
            <a:avLst/>
          </a:prstGeom>
          <a:ln w="38160">
            <a:solidFill>
              <a:srgbClr val="e2d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сл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1" name="Содержимое 6" descr="ComputerDesktopWallpapersCollection204_076.jpg"/>
          <p:cNvPicPr/>
          <p:nvPr/>
        </p:nvPicPr>
        <p:blipFill>
          <a:blip r:embed="rId1"/>
          <a:stretch/>
        </p:blipFill>
        <p:spPr>
          <a:xfrm>
            <a:off x="1733400" y="2319480"/>
            <a:ext cx="5677200" cy="3619440"/>
          </a:xfrm>
          <a:prstGeom prst="rect">
            <a:avLst/>
          </a:prstGeom>
          <a:ln w="0">
            <a:noFill/>
          </a:ln>
        </p:spPr>
      </p:pic>
      <p:sp>
        <p:nvSpPr>
          <p:cNvPr id="31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2AE9-49B9-468A-8423-D0F4B41C43C6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1417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1419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№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1420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46F9-52A1-46D0-AD82-9C400B326C74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4" descr=""/>
          <p:cNvPicPr/>
          <p:nvPr/>
        </p:nvPicPr>
        <p:blipFill>
          <a:blip r:embed="rId1"/>
          <a:stretch/>
        </p:blipFill>
        <p:spPr>
          <a:xfrm>
            <a:off x="-55440" y="268200"/>
            <a:ext cx="8748720" cy="3310200"/>
          </a:xfrm>
          <a:prstGeom prst="rect">
            <a:avLst/>
          </a:prstGeom>
          <a:ln w="0">
            <a:noFill/>
          </a:ln>
        </p:spPr>
      </p:pic>
      <p:sp>
        <p:nvSpPr>
          <p:cNvPr id="317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B3EC-A108-46E8-8740-A3F902170A5E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Calibri"/>
              </a:rPr>
              <a:t>Кроссворд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" name="Содержимое 4" descr="more_foto_11.jpg"/>
          <p:cNvPicPr/>
          <p:nvPr/>
        </p:nvPicPr>
        <p:blipFill>
          <a:blip r:embed="rId1"/>
          <a:stretch/>
        </p:blipFill>
        <p:spPr>
          <a:xfrm>
            <a:off x="395280" y="1484280"/>
            <a:ext cx="8569440" cy="5238720"/>
          </a:xfrm>
          <a:prstGeom prst="rect">
            <a:avLst/>
          </a:prstGeom>
          <a:ln w="0">
            <a:noFill/>
          </a:ln>
        </p:spPr>
      </p:pic>
      <p:sp>
        <p:nvSpPr>
          <p:cNvPr id="12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3189-A7C5-41F5-8D8D-9E49AC87EA94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87A5-4C76-4492-830A-443E0CFEEBB7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358920" y="333360"/>
          <a:ext cx="878508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333360"/>
                    <a:ext cx="878508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6"/>
          <p:cNvSpPr/>
          <p:nvPr/>
        </p:nvSpPr>
        <p:spPr>
          <a:xfrm>
            <a:off x="8155440" y="855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531080" y="50324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dfd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85dfd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620160" y="244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06816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620160" y="51516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068160" y="46004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331080" y="855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420160" y="855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1891440" y="1432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4" descr="C:\Users\User\Downloads\0007-007-Opasnye-akuly.jpg"/>
          <p:cNvPicPr/>
          <p:nvPr/>
        </p:nvPicPr>
        <p:blipFill>
          <a:blip r:embed="rId3"/>
          <a:srcRect l="17713" t="0" r="18500" b="38451"/>
          <a:stretch/>
        </p:blipFill>
        <p:spPr>
          <a:xfrm>
            <a:off x="6516720" y="4724280"/>
            <a:ext cx="2436840" cy="176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C:\Users\User\Downloads\299049.jpg"/>
          <p:cNvPicPr/>
          <p:nvPr/>
        </p:nvPicPr>
        <p:blipFill>
          <a:blip r:embed="rId4"/>
          <a:srcRect l="8371" t="28454" r="43340" b="14848"/>
          <a:stretch/>
        </p:blipFill>
        <p:spPr>
          <a:xfrm>
            <a:off x="6732720" y="1484280"/>
            <a:ext cx="208728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1409-EFF7-45C7-9BB2-C975DCE24B94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250920" y="115920"/>
          <a:ext cx="8642160" cy="61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642160" cy="61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6"/>
          <p:cNvSpPr/>
          <p:nvPr/>
        </p:nvSpPr>
        <p:spPr>
          <a:xfrm>
            <a:off x="5923440" y="1863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475440" y="2367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404160" y="4959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852160" y="4456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115080" y="784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204520" y="711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38816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dfd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85dfd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939800" y="784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13" descr="C:\Users\User\Downloads\299049.jpg"/>
          <p:cNvPicPr/>
          <p:nvPr/>
        </p:nvPicPr>
        <p:blipFill>
          <a:blip r:embed="rId3"/>
          <a:srcRect l="8371" t="28454" r="43340" b="5777"/>
          <a:stretch/>
        </p:blipFill>
        <p:spPr>
          <a:xfrm>
            <a:off x="250920" y="260280"/>
            <a:ext cx="2881080" cy="28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C:\Users\User\Downloads\image_032.jpg"/>
          <p:cNvPicPr/>
          <p:nvPr/>
        </p:nvPicPr>
        <p:blipFill>
          <a:blip r:embed="rId4"/>
          <a:srcRect l="0" t="0" r="0" b="13819"/>
          <a:stretch/>
        </p:blipFill>
        <p:spPr>
          <a:xfrm>
            <a:off x="6415200" y="4365720"/>
            <a:ext cx="272880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05F3-4767-4708-B27F-1986BE50E683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179280" y="476280"/>
          <a:ext cx="849816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76280"/>
                    <a:ext cx="84981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70780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331080" y="251136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33108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707800" y="4456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108960" y="100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059800" y="927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124344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5dfd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85dfd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13" descr="C:\Users\User\Downloads\299049.jpg"/>
          <p:cNvPicPr/>
          <p:nvPr/>
        </p:nvPicPr>
        <p:blipFill>
          <a:blip r:embed="rId3"/>
          <a:srcRect l="8371" t="28454" r="43340" b="5777"/>
          <a:stretch/>
        </p:blipFill>
        <p:spPr>
          <a:xfrm>
            <a:off x="324000" y="549360"/>
            <a:ext cx="2657160" cy="259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:\Users\User\Downloads\organy-chuvstv1.jpg"/>
          <p:cNvPicPr/>
          <p:nvPr/>
        </p:nvPicPr>
        <p:blipFill>
          <a:blip r:embed="rId4"/>
          <a:stretch/>
        </p:blipFill>
        <p:spPr>
          <a:xfrm>
            <a:off x="6156360" y="4149720"/>
            <a:ext cx="25430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613D-37D3-4B73-82FB-A0E88FAC2167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24000" y="476280"/>
          <a:ext cx="856908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76280"/>
                    <a:ext cx="856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6"/>
          <p:cNvSpPr/>
          <p:nvPr/>
        </p:nvSpPr>
        <p:spPr>
          <a:xfrm>
            <a:off x="5651640" y="2008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475440" y="244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475440" y="48164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923440" y="4311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3188160" y="100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204520" y="927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1" descr="C:\Users\User\Downloads\0007-007-Opasnye-akuly.jpg"/>
          <p:cNvPicPr/>
          <p:nvPr/>
        </p:nvPicPr>
        <p:blipFill>
          <a:blip r:embed="rId3"/>
          <a:srcRect l="17713" t="0" r="18500" b="38052"/>
          <a:stretch/>
        </p:blipFill>
        <p:spPr>
          <a:xfrm>
            <a:off x="468360" y="4005360"/>
            <a:ext cx="2816280" cy="2050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:\Users\User\Downloads\299049.jpg"/>
          <p:cNvPicPr/>
          <p:nvPr/>
        </p:nvPicPr>
        <p:blipFill>
          <a:blip r:embed="rId4"/>
          <a:srcRect l="11701" t="27320" r="43340" b="14848"/>
          <a:stretch/>
        </p:blipFill>
        <p:spPr>
          <a:xfrm>
            <a:off x="6156360" y="620640"/>
            <a:ext cx="2630520" cy="24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50E3-AC74-4971-ADED-6B42C159E98F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503280" y="333360"/>
          <a:ext cx="864072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333360"/>
                    <a:ext cx="864072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6"/>
          <p:cNvSpPr/>
          <p:nvPr/>
        </p:nvSpPr>
        <p:spPr>
          <a:xfrm>
            <a:off x="6139440" y="186372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691440" y="2440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687840" y="481644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139440" y="4383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404160" y="927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10" descr="C:\Users\User\Downloads\299049.jpg"/>
          <p:cNvPicPr/>
          <p:nvPr/>
        </p:nvPicPr>
        <p:blipFill>
          <a:blip r:embed="rId3"/>
          <a:srcRect l="10868" t="27320" r="43340" b="15982"/>
          <a:stretch/>
        </p:blipFill>
        <p:spPr>
          <a:xfrm>
            <a:off x="539640" y="620640"/>
            <a:ext cx="2811600" cy="255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C:\Users\User\Downloads\image_032.jpg"/>
          <p:cNvPicPr/>
          <p:nvPr/>
        </p:nvPicPr>
        <p:blipFill>
          <a:blip r:embed="rId4"/>
          <a:srcRect l="0" t="0" r="0" b="12205"/>
          <a:stretch/>
        </p:blipFill>
        <p:spPr>
          <a:xfrm>
            <a:off x="395280" y="4076640"/>
            <a:ext cx="333540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D01B-830A-4912-AA24-2E1E689CD498}" type="slidenum">
              <a:rPr b="0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250920" y="476280"/>
          <a:ext cx="864216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864216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6"/>
          <p:cNvSpPr/>
          <p:nvPr/>
        </p:nvSpPr>
        <p:spPr>
          <a:xfrm>
            <a:off x="5852160" y="200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ff99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400560" y="234936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cc99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3406680" y="4888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852160" y="438300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9" descr="C:\Users\User\Downloads\299049.jpg"/>
          <p:cNvPicPr/>
          <p:nvPr/>
        </p:nvPicPr>
        <p:blipFill>
          <a:blip r:embed="rId3"/>
          <a:srcRect l="0" t="28205" r="41675" b="13034"/>
          <a:stretch/>
        </p:blipFill>
        <p:spPr>
          <a:xfrm>
            <a:off x="250920" y="476280"/>
            <a:ext cx="3178080" cy="2268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C:\Users\User\Downloads\image_032.jpg"/>
          <p:cNvPicPr/>
          <p:nvPr/>
        </p:nvPicPr>
        <p:blipFill>
          <a:blip r:embed="rId4"/>
          <a:srcRect l="0" t="0" r="0" b="12205"/>
          <a:stretch/>
        </p:blipFill>
        <p:spPr>
          <a:xfrm>
            <a:off x="6300720" y="4365720"/>
            <a:ext cx="2592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02:10:05Z</dcterms:created>
  <dc:creator>Олеся</dc:creator>
  <dc:description/>
  <dc:language>en-US</dc:language>
  <cp:lastModifiedBy>User</cp:lastModifiedBy>
  <dcterms:modified xsi:type="dcterms:W3CDTF">2013-04-21T18:27:48Z</dcterms:modified>
  <cp:revision>61</cp:revision>
  <dc:subject/>
  <dc:title>Слайд 1</dc:title>
</cp:coreProperties>
</file>