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9821-2A9D-40D5-98B3-CC558BDD11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ошу поднять руки тех, кто поставил пять плюсов, затем тех, у кого получилось четыре и три плюса. Это именно те оценки, которые они поставили за урок мне (знания самих учащихся не оцениваются на таком урок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0432-7613-4411-BD8E-041CD68EF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9955-8665-42BC-8081-CF41764E6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6677-FD6C-4403-AA17-3110FC720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бальная форма – методика незаконченного предложения (устная или письмен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6CD3-5038-401E-BA51-302D4DC0F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91E2-FD71-4AAF-B995-303AF9E6F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CFFF-A425-45E1-82A3-279E788E8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4739-064D-41E9-9996-F1734C416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EA7D-C234-4EE9-9313-909CAAC12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2876-FEEB-4F3C-9B7E-9D16C60D4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дведения итогов урока можно воспользовать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пражнением «Плюс-минус-интересно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упражнение можно выполнять как устно, так и письменно, в зависимости от наличия времени. Для письменного выполнения предлагается заполнить таблицу из трех гра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32FB-3447-45A6-B6B4-D9C86D36E7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F8A9-CD41-482F-B024-A31D3E1F5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8FCA-B6E0-4598-AD79-6344A79C5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211B-A566-408D-9F1B-B12D9B250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044B-F373-45AD-BE2C-B8BAC0F14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387D-0F6C-4E1D-B881-052AAD98DA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6B3-9716-44AC-A31E-F011179D6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71C1-9964-4FCD-A1BE-A57987D3F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028-8D28-46F3-A56F-1422BC86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DF5-AD5B-4A7C-B214-3509E1EF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E60-448D-41A9-9195-21C49D1A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B91-D27D-44BD-B54F-F21AA13D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3B7-17BF-44C5-A3C5-2477370E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9C5-3015-4ED0-9A61-69A391F4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D29-0942-4684-996A-0E6077E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920-ADDF-499E-8102-2AAFA62E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CCC-523D-407D-AF45-310F75F4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1F9-F69D-4AC1-8AF4-3C67A50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210-197B-4659-AC81-C532CEA1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FBA-6DF0-4B26-A628-EDCC1943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46B8-3F51-430D-B3FA-55D067305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youtu.be/S7bBmtT6eZk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660320" y="614160"/>
            <a:ext cx="5180400" cy="2965680"/>
          </a:xfrm>
          <a:prstGeom prst="rect">
            <a:avLst/>
          </a:prstGeom>
          <a:solidFill>
            <a:srgbClr val="ffffff">
              <a:alpha val="80000"/>
            </a:srgbClr>
          </a:solidFill>
          <a:ln w="57240">
            <a:solidFill>
              <a:srgbClr val="bbe0e3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22268"/>
                </a:solidFill>
                <a:latin typeface="Miniature"/>
              </a:rPr>
              <a:t>Рефлексивное пространство урока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Текст 9"/>
          <p:cNvSpPr/>
          <p:nvPr/>
        </p:nvSpPr>
        <p:spPr>
          <a:xfrm>
            <a:off x="-63360" y="5769000"/>
            <a:ext cx="9144000" cy="946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73"/>
                </a:solidFill>
                <a:latin typeface="Bookman Old Style"/>
              </a:rPr>
              <a:t>Анна Ивановна Свяжен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73"/>
                </a:solidFill>
                <a:latin typeface="Bookman Old Style"/>
              </a:rPr>
              <a:t>методист БОУ г. Омска «ЦТРиГО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Текст 9"/>
          <p:cNvSpPr/>
          <p:nvPr/>
        </p:nvSpPr>
        <p:spPr>
          <a:xfrm>
            <a:off x="-1440" y="0"/>
            <a:ext cx="9144000" cy="431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</a:t>
            </a:r>
            <a:br>
              <a:rPr sz="3200"/>
            </a:br>
            <a:r>
              <a:rPr b="1" lang="ru-RU" sz="32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рефлекси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4880" y="1820880"/>
            <a:ext cx="8274240" cy="408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929120" y="2286000"/>
            <a:ext cx="3484800" cy="3714840"/>
          </a:xfrm>
          <a:custGeom>
            <a:avLst/>
            <a:gdLst>
              <a:gd name="textAreaLeft" fmla="*/ 169920 w 3484800"/>
              <a:gd name="textAreaRight" fmla="*/ 3314880 w 3484800"/>
              <a:gd name="textAreaTop" fmla="*/ 169920 h 3714840"/>
              <a:gd name="textAreaBottom" fmla="*/ 3544920 h 3714840"/>
            </a:gdLst>
            <a:ahLst/>
            <a:rect l="textAreaLeft" t="textAreaTop" r="textAreaRight" b="textAreaBottom"/>
            <a:pathLst>
              <a:path w="21600" h="23026">
                <a:moveTo>
                  <a:pt x="3600" y="0"/>
                </a:moveTo>
                <a:arcTo wR="3600" hR="3600" stAng="16200000" swAng="-5400000"/>
                <a:lnTo>
                  <a:pt x="0" y="19426"/>
                </a:lnTo>
                <a:arcTo wR="3600" hR="3600" stAng="10800000" swAng="-5400000"/>
                <a:lnTo>
                  <a:pt x="18000" y="23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52ff3"/>
                </a:solidFill>
                <a:uFillTx/>
                <a:latin typeface="Arial"/>
              </a:rPr>
              <a:t>образ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цв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исуно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имво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500040" y="2214720"/>
            <a:ext cx="3857760" cy="371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52ff3"/>
                </a:solidFill>
                <a:uFillTx/>
                <a:latin typeface="Arial"/>
              </a:rPr>
              <a:t>вербаль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уст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исьменно)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52ff3"/>
                </a:solidFill>
                <a:latin typeface="Century Gothic"/>
              </a:rPr>
              <a:t>Рефлексивный тест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Я узнал(а) много нового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Мне это пригодится в жизни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На уроке было над чем подумать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На все вопросы, возникающие в ходе урока, я получил(а) ответы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На уроке я работал(а) добросовестно и цели урока достиг(ла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52ff3"/>
                </a:solidFill>
                <a:latin typeface="Century Gothic"/>
              </a:rPr>
              <a:t>Рефлексия в цвете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учащиеся могут написать тот цвет, который они выбирают для описания своего состояния,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группам раздаются конверты с разноцветными лепесточками. Ребята приклеивают лепесточек с выбранным цветом к середине альбомного листа (который тоже выдается группе)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52ff3"/>
                </a:solidFill>
                <a:latin typeface="Century Gothic"/>
              </a:rPr>
              <a:t>Определить, на каком уровне вы находитесь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знаю и объясню другому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знаю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омневаюсь, что знаю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не знаю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2ff3"/>
                </a:solidFill>
                <a:latin typeface="Century Gothic"/>
              </a:rPr>
              <a:t>Методика незаконченного предложения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егодня на уроке я ..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амым полезным интересным для меня было ..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Я встретился с трудностью при ..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Мне это необходимо для ..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У меня хорошо получилось ..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троки самому себе ..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кажи комплимент новой теме ..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52ff3"/>
                </a:solidFill>
                <a:latin typeface="Century Gothic"/>
              </a:rPr>
              <a:t>Кодированный диктант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место слова «да» ставим 1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место слова «нет» ставим 0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52ff3"/>
                </a:solidFill>
                <a:latin typeface="Century Gothic"/>
              </a:rPr>
              <a:t>Пары состояний: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весело – грустно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(чувствую вдохновение – чувствую подавленность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интересно –не  интересно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 волнуюсь – волнуюсь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(уверен в себе  – не уверен в себе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 устал –устал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тарался – не старался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(пассивен – активен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доволен собой –не доволен собой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(успешен –неуспешен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 раздражаюсь  – раздражаюсь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(терплю – не хватает терпения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Рефлексия «Классическая»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ковы были Ваши цели перед занятием и насколько их удалось реализовать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числите трудности, с которыми Вы столкнулись: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) при изучении темы (раздела);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) при ответе на открытые задания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ким образом Вы преодолевали трудности? За счет чего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ков главный результат для Вас лично при изучении темы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му Вы научились лучше всего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 Вам удалось больше всего при изучении темы и почему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 не получилось и почему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ишите динамику Ваших чувств и настроений при изучении темы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"Дневник открытий"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полните страничку Вашего дневника открытий, который Вы начнете вести с сегодняшнего дня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 нем зафиксируйте все Ваши открытия, которые Вы сделали во время изучения темы, выполнения заданий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 особенности, проанализируйте открытия для Вашей будущей планируемой деятельности. Благодаря чему Вам это удалось?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айте в каждом случае оценку сделанному Вами открытию с позиции его важности: а) для вас; б) для науки; в) для всех остальных (одноклассников, учителей и др.)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"Дневник открытий"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4200" y="128556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едставьте, что у Вас есть возможность написать трактат будущим школьникам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 трактате опишите ваши основные достижения и результаты, дайте наставления, «советы бывалого»..., попытайтесь определить способы и виды деятельности, благодаря которым Вам удалось решить проблемы и достигнуть своих результатов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акое из заданий застало Вас врасплох? Почему?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то я понял(а), чему научился (лась)?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советуйте, как избежать Ваших ошибок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акие знания Вы добыли во время обучения?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акие рекомендации и пожелания по добыче знаний Вы дадите будущим ученикам?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мышление о своем внутреннем состоянии, самоанализ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егов С. И. , Шведова Н. Ю.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ковый словарь русского язы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Плюс-минус-интересно</a:t>
            </a:r>
            <a:br>
              <a:rPr sz="3200"/>
            </a:b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14200" y="1600200"/>
          <a:ext cx="8715600" cy="490068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79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ЛЮС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ИН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РЕ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афу «П» - «плюс» записывается все, что понравилось на уроке, информация и формы работы,  которые вызвали положительные эмоции, либо по мнению ученика могут быть ему полезны для достижения каких-то ц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афу «М» - «минус» записывается все, что не понравилось на уроке, показалось скучным, вызвало неприязнь, осталось непонятным, или информация, которая, по мнению ученика, оказалась для него не нужной, бесполезной с точки зрения решения жизненных ситу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рафу «И» - «интересно» учащиеся вписывают все любопытные факты, о которых узнали на уроке и что бы еще хотелось узнать по данной проблеме, вопросы к учител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6716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«Комплимент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4200" y="128556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суждая в конце урока результаты своих наблюдений,  учащиеся смогут объективно оценить свою активность и качество работы.</a:t>
            </a:r>
            <a:br>
              <a:rPr sz="2400"/>
            </a:br>
            <a:r>
              <a:rPr b="0" i="1" lang="ru-RU" sz="2400" spc="-1" strike="noStrike">
                <a:solidFill>
                  <a:srgbClr val="152ff3"/>
                </a:solidFill>
                <a:latin typeface="Bookman Old Style"/>
              </a:rPr>
              <a:t>Для того, чтобы закончить урок на положительной ноте можно воспользоваться одним из вариантов упражнении «Комплимент»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(Комплимент-похвала,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мплимент деловым качествам,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мплимент в чувствах),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 котором учащиеся оценивают вклад друг друга в урок и благодарят друг друга и учителя за проведенный урок. Такой вариант окончания урока дает возможность удовлетворения потребности в признании личностной значимости каждого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Рефлексия групповой рабо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4200" y="171468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Как общение в ходе работы влияло на выполнение задания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делало её более эффективн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тормозило выполнение зад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- не позволило точно выполнить задачу, испортило отношения в группе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Рефлексия групповой рабо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200" y="171468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а каком уровне в большей степени осуществлялось общение в группе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обмен информацией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взаимодействи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взаимопонимание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- были равномерно задействованы все уровни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Рефлексия групповой рабо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4200" y="171468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акого уровня коммуникативные трудности испытывали участники группы при выполнении задания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достаток информации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достаток средств коммуникации (речевых образцов, текстов и др.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трудности в общении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Рефлексия групповой рабо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200" y="171468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акой стиль общения преобладал в работе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риентированный на человек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риентированный на выполнение задани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охранилось ли единство группы в ходе выполнения задания?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 группе сохранилось единство и партнерские отношени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динство группы в ходе работы было нарушено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Рефлексивная мишен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4200" y="171468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-11997000" y="74880"/>
            <a:ext cx="331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вная контрольно-оценочная деятельность при организации коллективно-учебной деятельности в группе предполагает включение каждого учащегося в действие взаимоконтроля и взаимооценки. Для этого используются оценочные карты, цель которых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учить адекватно оценивать себя и других. Можно предложить учащимся сделать краткие запис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основания оценки в виде похвалы, одобрения, пожелания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F:\филиппова уроки\цель 6.jpg"/>
          <p:cNvPicPr/>
          <p:nvPr/>
        </p:nvPicPr>
        <p:blipFill>
          <a:blip r:embed="rId1"/>
          <a:stretch/>
        </p:blipFill>
        <p:spPr>
          <a:xfrm>
            <a:off x="2214720" y="1643040"/>
            <a:ext cx="4892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52ff3"/>
                </a:solidFill>
                <a:latin typeface="Century Gothic"/>
              </a:rPr>
              <a:t>Рефлексивная мишен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71468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2" name="Рисунок 2" descr="http://gigabaza.ru/images/39/76774/a7bb2a2.png"/>
          <p:cNvPicPr/>
          <p:nvPr/>
        </p:nvPicPr>
        <p:blipFill>
          <a:blip r:embed="rId1"/>
          <a:stretch/>
        </p:blipFill>
        <p:spPr>
          <a:xfrm>
            <a:off x="1500120" y="1357200"/>
            <a:ext cx="59054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ормулирование цели в виде конечного образовательного продукта — наиболее эффективный способ целеполагания. А по внешним «плодам» учеников всегда можно судить и о внутренних результатах обучения, то есть о развитии личностных качеств учащихся.»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торской А. В.,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. пед. наук, академик Международной педагогической академии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оре приемов рефлексии учитывается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Цель урока;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держание и трудности материала;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ы и методы обучения;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зрастные и психологические особенности обучающихся.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Виды рефлексии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ормирование реальной </a:t>
            </a:r>
            <a:r>
              <a:rPr b="0" lang="ru-RU" sz="32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самооценки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кцентирование ценности деятельности </a:t>
            </a:r>
            <a:r>
              <a:rPr b="0" lang="ru-RU" sz="32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каждого члена групп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максимального результата в решении поставленной задачи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youtu.be/S7bBmtT6eZk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1285920" y="142920"/>
            <a:ext cx="6215040" cy="2592360"/>
          </a:xfrm>
          <a:prstGeom prst="roundRect">
            <a:avLst>
              <a:gd name="adj" fmla="val 46389"/>
            </a:avLst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классификация по функц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324000" y="3500280"/>
            <a:ext cx="2519280" cy="17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настрое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эмоцион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3203640" y="3429000"/>
            <a:ext cx="260820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084720" y="3500280"/>
            <a:ext cx="2770200" cy="171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содерж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учеб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br>
              <a:rPr sz="2400"/>
            </a:br>
            <a:r>
              <a:rPr b="1" lang="ru-RU" sz="24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настроения и эмоционального состоя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сообраз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начал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а и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конц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установления эмоционального контакта с группой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карточки с изображением лиц, цветовое изображение настроения, эмоционально-художественное оформление (картина, музыкальный фрагмент)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настроения «Радуга»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каким цветом радуги ассоциируется данный урок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ранжевы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достное, восторженное настроение;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ёный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– активность;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ёлты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 –  радость;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возное, возбуждённое состоянии, агрессия;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и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 – грустное настроение, пассивность, усталость, желание отдохнуть;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олетовый цв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еспокойное,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е настроение,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кое к разочарованию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429240" y="464328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r>
              <a:rPr b="1" lang="ru-RU" sz="24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деятельност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ает  возможность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смысления способов и приемов работы с учебным материалом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иска наиболее рациональных приемов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Этот вид рефлексивной деятельности приемлем на этапе проверки домашнего задания,  защите проектных работ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Применение этого вида рефлексии в конце урока дает возможность оценить активность каждого на разных этапах урока, используя например прием «лестницы успеха»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Эффективность решения поставленной учебной задачи (проблемной ситуации) можно оформить в виде графического организатора «рыбья кость»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7000" y="274320"/>
            <a:ext cx="6716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</a:t>
            </a:r>
            <a:br>
              <a:rPr sz="2400"/>
            </a:br>
            <a:r>
              <a:rPr b="1" lang="ru-RU" sz="2400" spc="-1" strike="noStrike">
                <a:solidFill>
                  <a:srgbClr val="152ff3"/>
                </a:solidFill>
                <a:latin typeface="Times New Roman"/>
                <a:ea typeface="Times New Roman"/>
              </a:rPr>
              <a:t>содержания  учебного  материал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спользуется для выявления уровня осознания содержания пройденного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Эффективен прием незаконченного предложения, тезиса, подбора афоризма, рефлексия достижения цели с использованием «дерева целей»,  оценки «приращения» знаний и достижения целей (высказывания Я не знал… - Теперь я знаю…);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ием анализа субъективного опыта и достаточно известный прием синквейна, который помогает выяснить отношение к изучаемой проблеме, соединить старое знание и осмысление нового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1T14:07:41Z</dcterms:created>
  <dc:creator>User</dc:creator>
  <dc:description/>
  <dc:language>en-US</dc:language>
  <cp:lastModifiedBy>Администратор 1</cp:lastModifiedBy>
  <dcterms:modified xsi:type="dcterms:W3CDTF">2016-02-26T04:28:44Z</dcterms:modified>
  <cp:revision>236</cp:revision>
  <dc:subject/>
  <dc:title>Математика  6 класс</dc:title>
</cp:coreProperties>
</file>