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C3A4-9F9A-42C3-8BEE-EE148CA8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7EF-F3A2-475F-8370-2F852DCE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9EE28-8626-4662-8B40-28C9E833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AB65F-68D2-4B61-BAAE-798CADB2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9D5E5-7B06-414C-A95E-1B4FB806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CE7F6-3040-40E1-B352-2922B3C4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1F950-27CA-41FA-BA01-EFEF4768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0ABA3-6C22-4C01-9F22-51A1FF3D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FEE60-E93A-477D-815D-2DE92308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3E472-727D-4D01-9DC9-4DFE5CD2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47B2A-1506-4DD9-8EF0-CD88574C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E1ECE-D7D9-4788-B88D-1FD3DD14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D4E-6CCD-4D4E-8B38-2496ABC0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51A50-FE42-4703-A3D7-E0FE4C93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99434-D2D1-4408-B466-B630D67C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A4156-F199-43EC-9201-6BCCCA7C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774CE-BE06-4416-A1A2-B4722BB9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75545-EAA7-4358-B560-3591241D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FC403-D072-4734-8C88-F8BDD76D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EE634-E563-46A2-A6D4-814CE467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4EAAF-4620-43EC-A58F-409F63A9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CE779-765B-42A8-BA1F-54B6C281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42F5D-5B40-4A21-B602-330A312E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6DB-3969-475D-A5AD-3D8FA6F2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ACD8F-993A-496D-8D28-D6163A7B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60B46-FC2E-4E8B-8E57-3532298F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A29B0-E2D3-4240-93B4-FE121848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BE927-C3F4-4248-8D08-1487FB3E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4EE5B-633E-478A-A202-92FD639C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E1D8F-EA78-4EC3-BF70-D3EEFE49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BD53A-7674-4FD6-A421-C7DF2BC5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F3CD5-2496-4C5D-A7AF-2C30F019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6EEF2-55E3-4634-9BD5-8CBA1DEF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5035D-D0F4-443C-B35A-132BFE72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05FB-F284-4F0B-83D2-DEC06D66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DD6FC-E263-4973-BB28-7449F649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85E11-FE40-4C04-A725-F48462F8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84994-BF71-42CC-9593-6E68C1E5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FE70-51C7-486A-B81A-7DB44E7C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CE17-1875-4924-BD70-26FD9853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84AC-0E9F-4854-AADA-D3FC2EDE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FD39-0636-4777-8A34-02B923E8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4347-7C4E-49ED-9F42-43A7BD38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187E-34E4-440F-926A-69813CDB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67E-7198-4C1D-ABDF-F00D9A6A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5E79-A4C4-47F6-96BF-F8CAE0C7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64F3-630A-4581-9FE1-DD91AAB4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CEA9-9D6C-41A0-AA8A-BFEF64A0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ED55-5129-44A9-95C9-03996FDD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082D-C46B-4ACD-9A7A-42F513A2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B1B4D-4B48-4FCB-B5C3-98F4B566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C691-546A-4D15-A710-413561B0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118C5-8EA3-4094-9BD5-ACB2FA00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68F2-A70D-4109-B123-7127DFE2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71602-561A-4187-9E29-A5BD543F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5DD-ABBC-4787-8D46-C879888A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14054-620A-4A80-B86A-5611A861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C3D58-AADB-4A29-9A0A-BC77B365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A2BCB-18D7-4447-BB77-91A519D2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D3A3A-E297-4620-B2D3-158862DA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7E465-0356-476B-B417-61104F26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AAE1-F83C-4921-AF24-1A4BA9E1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6A026-C4E3-4CBD-8707-75A0B7A4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A984B-3DC5-42EC-B825-6728E7AE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989D0-A733-4EC7-8D0E-1DDAC995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0FF04-E418-469B-8103-1834BD59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39F-734C-4AFE-B620-11E4E300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F0871-EC81-4FC5-84CD-0A4BA0A9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EA584-18EB-466D-B13B-455F60E4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26FBE-5985-43C6-85F5-EA4F76D1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A40E1-1C2A-47E4-B928-8F8FD61D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24A3C-BD44-4305-A071-3F95A848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6666D-D051-4C17-A3FA-2D83999E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FEBBE-0C4F-4F53-BC28-33372A30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C5774-1D57-4E5C-BD4A-FC1B2B9E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D4878-E35F-40A0-B8F5-0A573D53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0CA66-B9ED-49D5-B416-B6886B33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34C3-4FF6-40F1-B593-FA64D6F0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15529-4753-4C24-932B-370518B0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AE258-C3BB-4032-8ED0-65C5F17E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95D0E-B7B7-4CB6-ACB1-DF18172B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BA2F3-02C6-448A-A31E-65E14C78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E3BC6-8F57-4862-A0C7-F62FFCFB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9F88D-CD9C-4600-83A4-5AAF2DA1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99CC4-B90F-4F85-B895-ECB8EBB9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F6FF4-309B-441C-A38E-E8B2BE6E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B0EAE-A1BE-45D1-9127-9BC1F758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E6FB0-C82B-41F8-85C8-5AF65754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FB4-A2EE-4CC2-A52E-38D411D8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D4C8B-6042-40F0-A36E-1BD72C1D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1FFE5-E96B-47DC-9673-D2E8A10D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548BB-45C1-418C-8759-B04D57A2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40483-2DC0-4E20-96BA-650DC129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8DF9E-255D-45F1-A9BC-F9AF1276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546A5-68F3-485A-955F-0FC5773E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8BE36-4BAD-4A11-BE14-5F4549A1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BDEEA-2A8B-42BD-AAC5-BA6FB269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1C315-19BC-408D-8E7A-DC533430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873C0-BF8C-4207-B1A1-C12619FF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557-34BD-49C3-B161-235F99D3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F17A7-DF56-4A3E-995F-418B5A45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ACB1C-A8E6-439C-A89D-46A0D92B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C6BD3-F92C-4F79-A920-112AF3EA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222B8B-6120-4998-A0EE-499866CF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21BC05-661D-44ED-A760-F9FD3294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59F906-BA36-45B1-8AF1-001664F7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ABB2ED-635C-43B1-9437-8882DAD4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BA7B9-348B-4B29-AD57-0450C735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B2590-855D-41A0-9E77-51B67E6F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0D6545-F456-4E29-A275-2C19DCEA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262-2141-4DC6-9B4E-607C3FBB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E81D1C-E2A0-4934-8616-48643125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79B1F3-9500-4DEC-B89B-EA3664F8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CEA5AE-8009-43DB-9F42-877C251B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ED263A-B53C-40B6-89C6-9621CB2D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F1C93C-3440-42B6-9B84-F1EF79D4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A0D04-883C-482A-9355-DF20BDFE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729F0-C11C-4690-8FA7-DB4AD11A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06154-7343-4DC8-BA3E-23FF74C0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0CF14-0CBE-4E2F-967F-8CBE3D7A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71298-D8A7-4B89-A3AA-5E9A6D67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049-7069-47D6-891C-2C0D47E3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3BA71-E410-4192-AFCD-E00D8635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B58D4-E4F8-4A52-A0C5-E87BC66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C12EC-E493-4079-AE5A-73486F27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C0B8D-DB4F-4504-95DF-42B82B26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66880-35B1-4D1B-A485-0063EEDF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FC5CE-3822-4BE2-AD01-D9C08104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55EE1-712A-4043-B863-3DA870C5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2C5A6-CB43-4382-A440-F239D356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65085-C793-4EE2-AF18-4375A7D7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3C57C-A54C-4B9E-8281-99CA52C8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48627a"/>
              </a:gs>
              <a:gs pos="100000">
                <a:srgbClr val="53718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371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BD87-715C-4AF1-808B-56CBDAEA2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0316-930C-4E04-A111-E39F5D110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A68F-C4B6-4864-8C84-EC8CE0C21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5BFE-0B3D-47DF-9F5B-46CB98D72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FF0E-91D4-4577-9C6C-9C2EA89DC51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4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4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5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5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12A8-6EC3-4DDA-A7F0-4BFF93C4DF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0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1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1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6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6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7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871F-03F4-4512-A1B9-846551F847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5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5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6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9A25-DF2A-476B-B6E7-DD44AAA8ED4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82DD-05C6-4931-B80F-B4992C725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46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9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8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BA03-0C1E-46DD-BC05-27A6F7D00B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2735-FF6C-4980-A426-25B966CEA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2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1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9999ff"/>
                </a:solidFill>
                <a:latin typeface="Arial"/>
              </a:rPr>
              <a:t>Общие химические свойства металл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19640" y="407664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e6"/>
                </a:solidFill>
                <a:latin typeface="Arial"/>
              </a:rPr>
              <a:t>Новикова Ирина Пет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e6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e6"/>
                </a:solidFill>
                <a:latin typeface="Arial"/>
              </a:rPr>
              <a:t>МОУ Совхозн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e6"/>
                </a:solidFill>
                <a:latin typeface="Arial"/>
              </a:rPr>
              <a:t>Тамбов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1. Взаимодействие с неМ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66"/>
                </a:solidFill>
                <a:latin typeface="Arial"/>
              </a:rPr>
              <a:t>+ О</a:t>
            </a:r>
            <a:r>
              <a:rPr b="0" i="1" lang="ru-RU" sz="2400" spc="-1" strike="noStrike">
                <a:solidFill>
                  <a:srgbClr val="ffcc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0                 0                      +1       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4Li + O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= 2Li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0                 0                          +2     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2Ca + O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= 2Ca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0                 0                          +2     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2Cu + O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= 2Cu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492360" y="29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428472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3492000" y="3284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492360" y="42210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492360" y="4581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4356000" y="422064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92360" y="5589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492360" y="59500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4356000" y="55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1"/>
          <a:stretch/>
        </p:blipFill>
        <p:spPr>
          <a:xfrm>
            <a:off x="7093080" y="4724280"/>
            <a:ext cx="1765080" cy="176544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1763640" cy="2232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1. Взаимодействие с неМ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715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 C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                                                              </a:t>
            </a: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0                  0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+2       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u + Cl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= CuCl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 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0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0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+3       -1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2Fe + 3Cl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= 2FeCl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0                0                  +2    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u + S = 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0                0                  +2    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Hg + S = H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1224000" cy="100332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3132000" y="2276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132000" y="2565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4067280" y="220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987640" y="3429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987640" y="371628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348000" y="465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348000" y="494172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348000" y="5805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348000" y="6165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4067280" y="3429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4211640" y="465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140360" y="57337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2"/>
          <a:stretch/>
        </p:blipFill>
        <p:spPr>
          <a:xfrm>
            <a:off x="395280" y="5373720"/>
            <a:ext cx="1224000" cy="100152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1224000" cy="100008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4"/>
          <a:stretch/>
        </p:blipFill>
        <p:spPr>
          <a:xfrm>
            <a:off x="1258920" y="2637000"/>
            <a:ext cx="355680" cy="29196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5"/>
          <a:stretch/>
        </p:blipFill>
        <p:spPr>
          <a:xfrm>
            <a:off x="1258920" y="4724280"/>
            <a:ext cx="355680" cy="29232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6"/>
          <a:stretch/>
        </p:blipFill>
        <p:spPr>
          <a:xfrm>
            <a:off x="1258920" y="6093000"/>
            <a:ext cx="35568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9" dur="1" fill="hold"/>
                                        <p:tgtEl>
                                          <p:spTgt spid="10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022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4" dur="1" fill="hold"/>
                                        <p:tgtEl>
                                          <p:spTgt spid="10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021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021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9" dur="1" fill="hold"/>
                                        <p:tgtEl>
                                          <p:spTgt spid="10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2. Взаимодействие с водо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Щелочные и щелочноземельные Ме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Щело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0                      +1                                  +1                              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a + 2H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 = 2NaOH + H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 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Менее активные Ме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аскаленные)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кси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3Fe + 4H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 = Fe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+ 4H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, Au, Pt, Hg, Cu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водой не взаимодейству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556000" y="3213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556000" y="3645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780000" y="3213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5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10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0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0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198576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3419640" y="3213000"/>
            <a:ext cx="1777680" cy="259092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>
            <a:off x="2987640" y="587700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Бек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иколай Никола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3"/>
          <a:stretch/>
        </p:blipFill>
        <p:spPr>
          <a:xfrm>
            <a:off x="5580000" y="6093000"/>
            <a:ext cx="355680" cy="291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3. Взаимодействие с кислот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0            +1                                  +2                           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g + 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= MgSO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+ 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 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0             +1                               +2                           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Zn +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= ZnSO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+ 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 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Cu + 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SO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Вывод: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ffcc66"/>
                </a:solidFill>
                <a:latin typeface="Arial"/>
                <a:ea typeface="Arial"/>
              </a:rPr>
              <a:t>Ме, стоящие в ряду напряжений левее водорода, вытесняют его из растворов кислот, а стоящие правее – не вытесняют водород из растворов кисл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484360" y="1628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484360" y="191628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3419640" y="155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627280" y="2852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627280" y="3141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3419640" y="278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5508360" y="3284640"/>
            <a:ext cx="144360" cy="574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1584360" cy="129708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1403280" y="2781360"/>
            <a:ext cx="355680" cy="2919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0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6,113,8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0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6,113,8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10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9" dur="1" fill="hold"/>
                                        <p:tgtEl>
                                          <p:spTgt spid="10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Исключ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(конц.)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HNO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(любой конц-ии)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реагируют с металлами по-особому, при этом Н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не образу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tretch/>
        </p:blipFill>
        <p:spPr>
          <a:xfrm>
            <a:off x="1547640" y="3573360"/>
            <a:ext cx="1368720" cy="111924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2556000" y="4365720"/>
            <a:ext cx="355320" cy="29196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3"/>
          <a:stretch/>
        </p:blipFill>
        <p:spPr>
          <a:xfrm>
            <a:off x="5867280" y="3645000"/>
            <a:ext cx="1368720" cy="111924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355680" cy="2923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550" dur="indefinite" restart="never" nodeType="tmRoot">
          <p:childTnLst>
            <p:seq>
              <p:cTn id="551" restart="whenNotActive" nodeType="interactiveSeq" fill="hold">
                <p:stCondLst>
                  <p:cond evt="onClick">
                    <p:tgtEl>
                      <p:spTgt spid="1048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048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5" dur="1" fill="hold"/>
                                        <p:tgtEl>
                                          <p:spTgt spid="10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050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050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0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4. Взаимодействие с соля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0                  +2                                    +2                                   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n + CuSO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= ZnSO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+ C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Cu + ZnSO</a:t>
            </a:r>
            <a:r>
              <a:rPr b="0" lang="en-US" sz="3200" spc="-1" strike="noStrike" baseline="-25000">
                <a:solidFill>
                  <a:srgbClr val="ffcc66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Вывод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Каждый металл вытесняет из растворов солей другие металлы, находящиеся правее него в ряду напряжений, и сам может быть вытеснен металлами, расположенными лев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411280" y="1916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411280" y="2205000"/>
            <a:ext cx="86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3276720" y="1844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5651280" y="2492280"/>
            <a:ext cx="215640" cy="649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008000" cy="82548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1008000" cy="82548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355680" cy="29232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/>
          <p:cNvPicPr/>
          <p:nvPr/>
        </p:nvPicPr>
        <p:blipFill>
          <a:blip r:embed="rId4"/>
          <a:stretch/>
        </p:blipFill>
        <p:spPr>
          <a:xfrm>
            <a:off x="971640" y="3284640"/>
            <a:ext cx="35568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6,113,8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6,113,8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5" dur="1" fill="hold"/>
                                        <p:tgtEl>
                                          <p:spTgt spid="1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0" dur="1" fill="hold"/>
                                        <p:tgtEl>
                                          <p:spTgt spid="1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Упражнение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79423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тавьте коэффициенты методом электронного баланса, укажите окислитель и восстанов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а)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l + O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= Al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б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) Zn + S =Z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7051680" y="4653000"/>
            <a:ext cx="1576440" cy="1727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bbe0e3"/>
                </a:solidFill>
                <a:uFillTx/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cc66"/>
                </a:solidFill>
                <a:latin typeface="Arial"/>
              </a:rPr>
              <a:t>                      </a:t>
            </a:r>
            <a:r>
              <a:rPr b="0" i="1" lang="ru-RU" sz="1200" spc="-1" strike="noStrike">
                <a:solidFill>
                  <a:srgbClr val="ffcc66"/>
                </a:solidFill>
                <a:latin typeface="Arial"/>
              </a:rPr>
              <a:t>0                      0                         +3 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а) 4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l + </a:t>
            </a: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= </a:t>
            </a: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l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cc66"/>
                </a:solidFill>
                <a:latin typeface="Arial"/>
              </a:rPr>
              <a:t>в-ль        о-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l</a:t>
            </a:r>
            <a:r>
              <a:rPr b="0" lang="en-US" sz="2400" spc="-1" strike="noStrike" baseline="100000">
                <a:solidFill>
                  <a:srgbClr val="ffcc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- 3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ē → Al</a:t>
            </a:r>
            <a:r>
              <a:rPr b="0" lang="en-US" sz="2400" spc="-1" strike="noStrike" baseline="100000">
                <a:solidFill>
                  <a:srgbClr val="ffcc66"/>
                </a:solidFill>
                <a:latin typeface="Arial"/>
                <a:ea typeface="Arial"/>
              </a:rPr>
              <a:t>+3           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4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  <a:ea typeface="Arial"/>
              </a:rPr>
              <a:t>     ок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2400" spc="-1" strike="noStrike" baseline="100000">
                <a:solidFill>
                  <a:srgbClr val="ffcc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+ 4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ē → 2O</a:t>
            </a:r>
            <a:r>
              <a:rPr b="0" lang="en-US" sz="2400" spc="-1" strike="noStrike" baseline="100000">
                <a:solidFill>
                  <a:srgbClr val="ffcc66"/>
                </a:solidFill>
                <a:latin typeface="Arial"/>
                <a:ea typeface="Arial"/>
              </a:rPr>
              <a:t>-2     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  <a:ea typeface="Arial"/>
              </a:rPr>
              <a:t>    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i="1" lang="ru-RU" sz="1400" spc="-1" strike="noStrike">
                <a:solidFill>
                  <a:srgbClr val="ffcc66"/>
                </a:solidFill>
                <a:latin typeface="Arial"/>
              </a:rPr>
              <a:t>0                0               +2   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б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) Zn + S =Z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ffcc66"/>
                </a:solidFill>
                <a:latin typeface="Arial"/>
              </a:rPr>
              <a:t>в-ль     о-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n</a:t>
            </a:r>
            <a:r>
              <a:rPr b="0" lang="en-US" sz="2400" spc="-1" strike="noStrike" baseline="100000">
                <a:solidFill>
                  <a:srgbClr val="ffcc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- 2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ē → Zn</a:t>
            </a:r>
            <a:r>
              <a:rPr b="0" lang="en-US" sz="2400" spc="-1" strike="noStrike" baseline="100000">
                <a:solidFill>
                  <a:srgbClr val="ffcc66"/>
                </a:solidFill>
                <a:latin typeface="Arial"/>
                <a:ea typeface="Arial"/>
              </a:rPr>
              <a:t>+2     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   1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  <a:ea typeface="Arial"/>
              </a:rPr>
              <a:t>ок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0" lang="en-US" sz="2400" spc="-1" strike="noStrike" baseline="100000">
                <a:solidFill>
                  <a:srgbClr val="ffcc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+ 2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ē → S</a:t>
            </a:r>
            <a:r>
              <a:rPr b="0" lang="en-US" sz="2400" spc="-1" strike="noStrike" baseline="100000">
                <a:solidFill>
                  <a:srgbClr val="ffcc66"/>
                </a:solidFill>
                <a:latin typeface="Arial"/>
                <a:ea typeface="Arial"/>
              </a:rPr>
              <a:t>-2           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 1    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  <a:ea typeface="Arial"/>
              </a:rPr>
              <a:t>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492360" y="2492280"/>
            <a:ext cx="0" cy="79056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492360" y="5445000"/>
            <a:ext cx="0" cy="79236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140360" y="5445000"/>
            <a:ext cx="0" cy="79236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Упражнение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799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пишите практически осуществимые реа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7496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а) 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Fe + HCl 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  <a:ea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97496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  <a:ea typeface="Arial"/>
              </a:rPr>
              <a:t>б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  <a:ea typeface="Arial"/>
              </a:rPr>
              <a:t>) Ag + H</a:t>
            </a:r>
            <a:r>
              <a:rPr b="0" lang="en-US" sz="40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3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  <a:ea typeface="Arial"/>
              </a:rPr>
              <a:t>PO</a:t>
            </a:r>
            <a:r>
              <a:rPr b="0" lang="en-US" sz="40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4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  <a:ea typeface="Arial"/>
              </a:rPr>
              <a:t> 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97496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  <a:ea typeface="Arial"/>
              </a:rPr>
              <a:t>в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  <a:ea typeface="Arial"/>
              </a:rPr>
              <a:t>) Al + HCl 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97496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  <a:ea typeface="Arial"/>
              </a:rPr>
              <a:t>г) 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  <a:ea typeface="Arial"/>
              </a:rPr>
              <a:t>Zn + Pb(NO</a:t>
            </a:r>
            <a:r>
              <a:rPr b="0" lang="en-US" sz="40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3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  <a:ea typeface="Arial"/>
              </a:rPr>
              <a:t>)</a:t>
            </a:r>
            <a:r>
              <a:rPr b="0" lang="en-US" sz="40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2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  <a:ea typeface="Arial"/>
              </a:rPr>
              <a:t> 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97496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  <a:ea typeface="Arial"/>
              </a:rPr>
              <a:t>д) 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  <a:ea typeface="Arial"/>
              </a:rPr>
              <a:t>Fe + MgCl</a:t>
            </a:r>
            <a:r>
              <a:rPr b="0" lang="en-US" sz="40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2</a:t>
            </a:r>
            <a:r>
              <a:rPr b="0" lang="en-US" sz="4000" spc="-1" strike="noStrike">
                <a:solidFill>
                  <a:srgbClr val="993300"/>
                </a:solidFill>
                <a:latin typeface="Arial"/>
                <a:ea typeface="Arial"/>
              </a:rPr>
              <a:t> 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7236000" y="2852640"/>
            <a:ext cx="1576080" cy="1727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6666ff"/>
                </a:solidFill>
                <a:uFillTx/>
                <a:latin typeface="Comic Sans MS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формировать представления о металлах как восстановителя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яснить причину разной активности металл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делить основные свойства металл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5867280" y="5157720"/>
            <a:ext cx="16574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1128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а) 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2Fe + 6HCl 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→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2FeCl</a:t>
            </a:r>
            <a:r>
              <a:rPr b="0" lang="en-US" sz="36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 + 3H</a:t>
            </a:r>
            <a:r>
              <a:rPr b="0" lang="en-US" sz="36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б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) Ag + H</a:t>
            </a:r>
            <a:r>
              <a:rPr b="0" lang="en-US" sz="36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PO</a:t>
            </a:r>
            <a:r>
              <a:rPr b="0" lang="en-US" sz="36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4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 →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в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) 2Al + 3H</a:t>
            </a:r>
            <a:r>
              <a:rPr b="0" lang="en-US" sz="36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SO</a:t>
            </a:r>
            <a:r>
              <a:rPr b="0" lang="en-US" sz="36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4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 →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Al</a:t>
            </a:r>
            <a:r>
              <a:rPr b="0" lang="en-US" sz="36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(SO</a:t>
            </a:r>
            <a:r>
              <a:rPr b="0" lang="en-US" sz="36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4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)</a:t>
            </a:r>
            <a:r>
              <a:rPr b="0" lang="en-US" sz="36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 + 3H</a:t>
            </a:r>
            <a:r>
              <a:rPr b="0" lang="en-US" sz="36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г) 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Zn + Pb(NO</a:t>
            </a:r>
            <a:r>
              <a:rPr b="0" lang="en-US" sz="36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)</a:t>
            </a:r>
            <a:r>
              <a:rPr b="0" lang="en-US" sz="36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 →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Zn(NO</a:t>
            </a:r>
            <a:r>
              <a:rPr b="0" lang="en-US" sz="36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3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)</a:t>
            </a:r>
            <a:r>
              <a:rPr b="0" lang="en-US" sz="36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 + P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д) 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Fe + MgCl</a:t>
            </a:r>
            <a:r>
              <a:rPr b="0" lang="en-US" sz="36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 →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2843280" y="47628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 flipH="1">
            <a:off x="3995640" y="5084640"/>
            <a:ext cx="216000" cy="5032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3995640" y="2708280"/>
            <a:ext cx="287280" cy="5047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03dff"/>
                </a:solidFill>
                <a:uFillTx/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0" name="" descr=""/>
          <p:cNvPicPr/>
          <p:nvPr/>
        </p:nvPicPr>
        <p:blipFill>
          <a:blip r:embed="rId2"/>
          <a:stretch/>
        </p:blipFill>
        <p:spPr>
          <a:xfrm>
            <a:off x="3679920" y="4437000"/>
            <a:ext cx="1847880" cy="2174760"/>
          </a:xfrm>
          <a:prstGeom prst="rect">
            <a:avLst/>
          </a:prstGeom>
          <a:ln w="0">
            <a:noFill/>
          </a:ln>
        </p:spPr>
      </p:pic>
      <p:sp>
        <p:nvSpPr>
          <p:cNvPr id="1081" name=""/>
          <p:cNvSpPr/>
          <p:nvPr/>
        </p:nvSpPr>
        <p:spPr>
          <a:xfrm>
            <a:off x="611280" y="1647720"/>
            <a:ext cx="74167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Выучить общие химические свойства метал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703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703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Задача.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Смесь медных и магниевых опилок массой 1,5 г обработали избытком соляной кислоты. В результате выделился газ объемом 560 мл (н.у.). Определите массовую долю меди в сме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6666ff"/>
                </a:solidFill>
                <a:uFillTx/>
                <a:latin typeface="Arial"/>
              </a:rPr>
              <a:t>Источники матери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абриелян О.С. Химия. 9 класс. — М.: Дрофа, 2007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узьменко Н.Е., Еремин В.В., Попков В.А. Начала химии. — М.: Экзамен, 2001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иск «Электронные уроки и тесты. Химия в школе. Соли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http://images.yandex.ru/yandsearch?p=3&amp;text=%D1%8D%D0%BB%D0%B5%D0%BA%D1%82%D1%80%D0%BE%D1%85%D0%B8%D0%BC%D0%B8%D1%87%D0%B5%D1%81%D0%BA%D0%B8%D0%B9+%D1%80%D1%8F%D0%B4+%D0%BD%D0%B0%D0%BF%D1%80%D1%8F%D0%B6%D0%B5%D0%BD%D0%B8%D0%B9+%D0%BC%D0%B5%D1%82%D0%B0%D0%BB%D0%BB%D0%BE%D0%B2&amp;stype=ima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http://images.yandex.ru/yandsearch?text=%D0%BA%D0%BD%D0%B8%D0%B3%D0%B8&amp;stype=ima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http://images.yandex.ru/yandsearch?p=1&amp;text=%D1%88%D0%BA%D0%BE%D0%BB%D0%B0&amp;stype=image&amp;ed=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http://images.yandex.ru/yandsearch?ed=1&amp;rpt=simage&amp;text=%D0%B2%D0%BE%D0%BF%D1%80%D0%BE%D1%81&amp;img_url=www.avonru.ru%2F_bl%2F2%2F13624920.gif&amp;spsite=fake-017-7701509.ru&amp;p=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http://images.yandex.ru/yandsearch?nl=1&amp;ed=1&amp;rpt=simage&amp;text=%D0%B2%D0%BE%D0%BF%D1%80%D0%BE%D1%81%D0%B8%D1%82%D0%B5%D0%BB%D1%8C%D0%BD%D1%8B%D0%B9%20%D0%B7%D0%BD%D0%B0%D0%BA&amp;img_url=www.soyanews.ru%2Fupload%2Fiblock%2F3a1%2Fquestion7.jpg&amp;spsite=fake-053-3034273.ru&amp;p=37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5" name=""/>
          <p:cNvGraphicFramePr/>
          <p:nvPr/>
        </p:nvGraphicFramePr>
        <p:xfrm>
          <a:off x="1332000" y="260280"/>
          <a:ext cx="6408720" cy="6486480"/>
        </p:xfrm>
        <a:graphic>
          <a:graphicData uri="http://schemas.openxmlformats.org/drawingml/2006/table">
            <a:tbl>
              <a:tblPr/>
              <a:tblGrid>
                <a:gridCol w="363600"/>
                <a:gridCol w="355320"/>
                <a:gridCol w="357480"/>
                <a:gridCol w="355320"/>
                <a:gridCol w="357480"/>
                <a:gridCol w="357120"/>
                <a:gridCol w="353880"/>
                <a:gridCol w="353880"/>
                <a:gridCol w="355680"/>
                <a:gridCol w="354240"/>
                <a:gridCol w="353880"/>
                <a:gridCol w="355680"/>
                <a:gridCol w="353880"/>
                <a:gridCol w="353880"/>
                <a:gridCol w="355680"/>
                <a:gridCol w="354240"/>
                <a:gridCol w="353880"/>
                <a:gridCol w="36360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15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3c145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a3c145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6" name="" descr=""/>
          <p:cNvPicPr/>
          <p:nvPr/>
        </p:nvPicPr>
        <p:blipFill>
          <a:blip r:embed="rId1"/>
          <a:stretch/>
        </p:blipFill>
        <p:spPr>
          <a:xfrm>
            <a:off x="6227640" y="5157720"/>
            <a:ext cx="1798920" cy="150192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798480" cy="16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8" name=""/>
          <p:cNvGraphicFramePr/>
          <p:nvPr/>
        </p:nvGraphicFramePr>
        <p:xfrm>
          <a:off x="1476360" y="260280"/>
          <a:ext cx="6335640" cy="6450120"/>
        </p:xfrm>
        <a:graphic>
          <a:graphicData uri="http://schemas.openxmlformats.org/drawingml/2006/table">
            <a:tbl>
              <a:tblPr/>
              <a:tblGrid>
                <a:gridCol w="358920"/>
                <a:gridCol w="353880"/>
                <a:gridCol w="351000"/>
                <a:gridCol w="353880"/>
                <a:gridCol w="350640"/>
                <a:gridCol w="354240"/>
                <a:gridCol w="349200"/>
                <a:gridCol w="349200"/>
                <a:gridCol w="352440"/>
                <a:gridCol w="349200"/>
                <a:gridCol w="351000"/>
                <a:gridCol w="349200"/>
                <a:gridCol w="352440"/>
                <a:gridCol w="349200"/>
                <a:gridCol w="351000"/>
                <a:gridCol w="350640"/>
                <a:gridCol w="351000"/>
                <a:gridCol w="35856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э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л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к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т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р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п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р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в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д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с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т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dd582f"/>
                          </a:solidFill>
                          <a:latin typeface="Tahoma"/>
                          <a:ea typeface="Times New Roman"/>
                        </a:rPr>
                        <a:t>ь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addad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19540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addadd"/>
                </a:solidFill>
                <a:uFillTx/>
                <a:latin typeface="Tahoma"/>
              </a:rPr>
              <a:t>Ответ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6156360" y="5157720"/>
            <a:ext cx="2016000" cy="1343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" descr=""/>
          <p:cNvPicPr/>
          <p:nvPr/>
        </p:nvPicPr>
        <p:blipFill>
          <a:blip r:embed="rId1"/>
          <a:stretch/>
        </p:blipFill>
        <p:spPr>
          <a:xfrm>
            <a:off x="179280" y="-63360"/>
            <a:ext cx="8123400" cy="664848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7935840" y="333360"/>
            <a:ext cx="12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cc66"/>
                </a:solidFill>
                <a:uFillTx/>
                <a:latin typeface="Arial"/>
              </a:rPr>
              <a:t>Лит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040" fill="hold"/>
                                        <p:tgtEl>
                                          <p:spTgt spid="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98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8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7489800" cy="612792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7738920" y="26028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cc66"/>
                </a:solidFill>
                <a:uFillTx/>
                <a:latin typeface="Arial"/>
              </a:rPr>
              <a:t>Маг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360" fill="hold"/>
                                        <p:tgtEl>
                                          <p:spTgt spid="9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98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98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9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7561080" cy="618660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7885080" y="333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cc66"/>
                </a:solidFill>
                <a:uFillTx/>
                <a:latin typeface="Arial"/>
              </a:rPr>
              <a:t>Кал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040" fill="hold"/>
                                        <p:tgtEl>
                                          <p:spTgt spid="9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98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8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9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7343640" cy="600876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>
            <a:off x="7704000" y="333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cc66"/>
                </a:solidFill>
                <a:uFillTx/>
                <a:latin typeface="Arial"/>
              </a:rPr>
              <a:t>Рубид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40" fill="hold"/>
                                        <p:tgtEl>
                                          <p:spTgt spid="9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987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87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9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ccecff"/>
                </a:solidFill>
                <a:uFillTx/>
                <a:latin typeface="Tahoma"/>
              </a:rPr>
              <a:t>Ме - восстановите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ы Ме имеют сравнительно большие радиус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ahoma"/>
                <a:ea typeface="Tahoma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Wingdings"/>
                <a:ea typeface="Wingdings"/>
              </a:rPr>
              <a:t></a:t>
            </a:r>
            <a:r>
              <a:rPr b="0" lang="ru-RU" sz="3600" spc="-1" strike="noStrike">
                <a:solidFill>
                  <a:srgbClr val="cc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значительно удалены от ядра и слабо с ним связ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У наиболее активных Ме на внешнем энергетическом уровне находятся 1-3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Wingdings"/>
                <a:ea typeface="Wingdings"/>
              </a:rPr>
              <a:t>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 легко отдают внешни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и являю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cc66"/>
                </a:solidFill>
                <a:uFillTx/>
                <a:latin typeface="Tahoma"/>
                <a:ea typeface="Tahoma"/>
              </a:rPr>
              <a:t>восстановител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3" dur="2000" fill="hold"/>
                                        <p:tgtEl>
                                          <p:spTgt spid="9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21:56:48Z</dcterms:created>
  <dc:creator>SamLab.ws</dc:creator>
  <dc:description/>
  <dc:language>en-US</dc:language>
  <cp:lastModifiedBy>SamLab.ws</cp:lastModifiedBy>
  <dcterms:modified xsi:type="dcterms:W3CDTF">2010-09-16T14:32:55Z</dcterms:modified>
  <cp:revision>42</cp:revision>
  <dc:subject/>
  <dc:title>Общие химические свойства металлов</dc:title>
</cp:coreProperties>
</file>