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677-931B-4D29-8F7C-2AFD0FB8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78A-F9F5-4C0F-B4BA-BE578D1C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358-6DCD-49CB-A39B-1A9678C4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9C7-6C86-4348-822C-79B7279B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A05-6E99-4964-B3E2-FD807461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27E-63CB-42EB-B3F0-139F299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7049-2265-493F-B7FE-4095CBE3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2E1-20F4-4383-A57C-1EDFFFF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D65-5BC2-465C-8BB4-3BA1B78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D61-EDED-44BA-AD2C-48FD2A31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3E3-3186-400E-A5A6-D3216B6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306-A473-4850-AB3E-CBF6243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628B-FB36-4351-B457-CDA98E3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EE7-0DF2-4E51-A606-2F74C71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E0E-1FD0-474F-B1C0-76B776C6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658-5929-4067-B108-0E30AB34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4CA6-DE9F-4F82-B6AB-8A63C5B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C3A-71C4-4E1A-9604-FD0B4A1A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2BD-E648-465A-8C1E-AFED146B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E75-F92D-4C83-8C61-A5B1160B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1DE-B054-493C-B002-B70C0B9C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57B-7814-4957-9150-18E16F2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CC1-7A77-419D-8ECB-E9A8FDE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635-22B0-4B0D-825F-078E2B3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975E-4117-4AC0-A412-95876670E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2EFB-4585-4B84-ACE8-BF0BAFDB3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2556000" cy="248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0760" y="1341360"/>
            <a:ext cx="351324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 и здоровь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3962160"/>
            <a:ext cx="71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бный комплекс по информатике и информационным технолог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05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озврат 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ызвавшую презент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лено по Санитарным правилам и нормам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бочий компьютерный сто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436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17080" y="6093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0920" y="6093000"/>
            <a:ext cx="1728720" cy="6206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9304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88280" y="1297080"/>
            <a:ext cx="2404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ремя непрерывной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Компьютер и утомление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омпьютер и 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Освещение рабочего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Размещение нескольких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Конструктивные особенности рабочего кре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Рабочий 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 время работы за компьютером лучевая трубка видеомонитора является источником электромагнитного излучения, которое при работе вблизи экрана неблагоприятно действует на зрение, вызывает усталость и снижение работоспособ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2673360" cy="267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ремя непрерывной работы за компьютер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351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прерывная длительность занятий за компьютером не должна превыша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 классов (6 лет) - 1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I - V классов - 1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 - VII классов - 2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II - IX классов -2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X - XI класс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первом часу учебных занятий  - 30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втором часу - 2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738600" cy="3286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омпьютер и утомление школь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общего утомления, улучшения функционального состояния нервной, сердечно-сосудистой, дыхательной систем, а также мышц плечевого пояса, рук, спины, шеи и ног, следует проводить физкультпау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локального утомления индивидуально или организованно должны использоваться упражнения целенаправленного назначения под контролем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ы упражнений следует менять через 2 - 3 не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753080" cy="475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3008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 уменьшения зрительного напряжения важно следить за тем, чтобы изображение на экране компьютера было четким и контрастным. Необходимо также исключить возможность засветки экрана, поскольку блики снижают контрастность и яркость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ран видеомонитора должен находиться от глаз пользователя на расстоянии 600 - 700 мм, но не ближе 500 мм с учетом размеров алфавитно-цифровых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вень глаз при вертикально расположенном экране должен приходиться на центр или 2/3 высоты экрана. Линия взора должна быть перпендикулярна центру экрана. Оптимальное ее отклонение от перпендикуляра, проходящего через центр экрана в вертикальной плоскости, не должно превышать ±5 градусов, допустимое ±10 град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работе с текстовой информацией предпочтение следует отдавать позитивному контрасту: темные знаки на светлом ф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Компьютер и зр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Освещение рабочего ме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щение, где эксплуатируются компьютеры, должно иметь искусственное и естественное освещение. Желательно выбирать такие помещения, выходящие окнами на север и северо-восток и оборудованные регулируемыми устройствами типа жалюзи, занавесей, внешних козырько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50920" y="5186520"/>
            <a:ext cx="6119640" cy="1671480"/>
            <a:chOff x="2050920" y="5186520"/>
            <a:chExt cx="6119640" cy="1671480"/>
          </a:xfrm>
        </p:grpSpPr>
        <p:sp>
          <p:nvSpPr>
            <p:cNvPr id="128" name=""/>
            <p:cNvSpPr/>
            <p:nvPr/>
          </p:nvSpPr>
          <p:spPr>
            <a:xfrm>
              <a:off x="2050920" y="5661000"/>
              <a:ext cx="4103640" cy="1197000"/>
            </a:xfrm>
            <a:prstGeom prst="parallelogram">
              <a:avLst>
                <a:gd name="adj" fmla="val 474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5186520"/>
              <a:ext cx="1866600" cy="609480"/>
            </a:xfr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ощадь не менее 6 кв.м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змещение нескольких компьютер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341360"/>
            <a:ext cx="88455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абочее место в компьютерном классе создает электромагнитное поле с радиусом 1,5м и более.  Оптимальное расположение оборудования должно исключать влияние излучения от компьютера на учащихся, работающих за другими компьюте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ется использование одного компьютера для одновременной работы двух и более школьников независимо от их возра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213000"/>
            <a:ext cx="3644640" cy="1440000"/>
            <a:chOff x="395280" y="3213000"/>
            <a:chExt cx="3644640" cy="1440000"/>
          </a:xfrm>
        </p:grpSpPr>
        <p:sp>
          <p:nvSpPr>
            <p:cNvPr id="134" name="computr2"/>
            <p:cNvSpPr/>
            <p:nvPr/>
          </p:nvSpPr>
          <p:spPr>
            <a:xfrm>
              <a:off x="395280" y="3323520"/>
              <a:ext cx="1533240" cy="1329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computr2"/>
            <p:cNvSpPr/>
            <p:nvPr/>
          </p:nvSpPr>
          <p:spPr>
            <a:xfrm>
              <a:off x="2506680" y="3318840"/>
              <a:ext cx="1533240" cy="1329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920" y="3582360"/>
              <a:ext cx="1220040" cy="317160"/>
            </a:xfrm>
            <a:prstGeom prst="leftRightArrow">
              <a:avLst>
                <a:gd name="adj1" fmla="val 50000"/>
                <a:gd name="adj2" fmla="val 76579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5160" y="3213000"/>
              <a:ext cx="91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gt;1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2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259416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299736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Конструктивные особенности рабочего кресл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65720"/>
            <a:ext cx="1729080" cy="6210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714760" cy="38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24782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7:23:08Z</dcterms:created>
  <dc:creator>Admin</dc:creator>
  <dc:description/>
  <dc:language>en-US</dc:language>
  <cp:lastModifiedBy>Николайчук</cp:lastModifiedBy>
  <dcterms:modified xsi:type="dcterms:W3CDTF">2004-11-23T16:15:39Z</dcterms:modified>
  <cp:revision>27</cp:revision>
  <dc:subject/>
  <dc:title>Слайд 1</dc:title>
</cp:coreProperties>
</file>