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12.jpeg" ContentType="image/jpeg"/>
  <Override PartName="/ppt/media/image7.wmf" ContentType="image/x-wmf"/>
  <Override PartName="/ppt/media/image9.png" ContentType="image/png"/>
  <Override PartName="/ppt/media/image13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43D-9A19-4BBA-B405-AE71AFE7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3B5-0684-4D13-BCB6-2F19BDF3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EBB-C143-4B6D-8EE5-872C6D1D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A902-D9B7-4F36-BE8D-76699C26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3130-157B-448D-8122-F1EDDFDE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FF6D-3D67-4C8D-9C70-7099C5DD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0C3E-755A-46D8-9515-293F01F6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D209-DFED-468D-B1E4-7E3323EB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6D04-E5BE-4AC1-9F59-B1B1E99F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F9F8-E083-4163-89B2-DE9F2826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0660-41CE-4028-8127-1226DE41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3E1A-1F4D-45BA-A0B9-23EEE859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3AB0-0D6C-4E22-ABA7-D2A846AD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3A4D-BB00-4272-ACFC-8B7E9973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A752-1207-497E-8451-DB146295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C423-0C45-4EA0-A564-10AB90AA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61C5-3CF9-4432-A9D1-BE4FF047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C24F3-DBC7-4EFC-88E6-4C51F45B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6E15C-CEC8-4045-8B5F-6515E9F9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ED528-7D53-4117-B0C2-CB08D60B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F1300-B28E-4B88-97EA-B6E73B79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6D0BF-69A9-4FCE-9E72-A359A10F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B833-AB8E-42DC-B1C1-B6167E9F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EDFDE-77E6-4F69-8812-C9FF4C51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AFC25-DC25-47C9-A65C-D07A56B7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93CB4-A807-4D46-BB95-26AF379E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E0755-45AF-4D0A-9829-C06933A9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D262B-0C47-41D8-B4F2-939809D3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84135-1800-44BB-8C99-877A4004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079F0-90DA-49D3-A4E4-866FCB4A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E0E42-924C-481B-B21E-721BB4A8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42FF2-9B89-4607-9DCA-90EAE400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C29C0-D4B9-44EF-B0D2-763D61DF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F4A-DF73-4994-BB1F-08B839C4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20DB9-C922-462B-BB93-93DD31B0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D73D3-56CC-4914-97ED-DC99F108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9455A-2F0B-49B1-867C-BAF5FA18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3D2BD-8CE4-445C-8F28-C7C7117D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5F2AC-2F6C-4DB0-8E78-5BB7E6B4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E153A-7A15-40D7-AF09-1700FC3A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2B100-9D2B-472B-B022-938EB2CF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35D36-9601-49D5-BACB-0B3F5245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90096-D8DF-4339-AAB4-921D7F15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F814D-109A-4DD7-8211-48B91FFE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38EE-CCED-4A94-8131-81B975AF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1A8A5-AC9B-4810-8463-DC5AFED2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1AA3F-E140-472A-8B95-813AF605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851B0-EC1F-4F35-8597-6944C097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160EB-1F53-475F-AF52-79FFBF8D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0C1B6-D203-4FC7-A1B9-76795F3C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A816B-49ED-482B-9A59-E84D19DF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2FAAD-92E1-4C23-80FA-D4F8CFD3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61EB7-D6A3-483F-B55C-E83A3C0C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17E5B-CB0E-4906-A63D-13B0B101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48CD2-ED69-4289-9DCF-1FDFDD32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FB44-3604-4613-BA5E-6A577691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B586B-9AC8-4352-B797-64FFFD32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294FB-D5C9-4E47-969D-5BD3654C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EE0EB-962A-41A3-ADE6-76BC9FA4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F6F42-41E5-4C63-8994-4AF56E61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DDC8A-F434-43A3-9692-C90C6393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E0D42-F75A-468D-9F2C-F45592B4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690B0-37D6-4683-B9AF-1240EAA4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3FC58-5257-41D5-B5D7-BE022227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5F6B0-88B7-403D-9A80-84A820EC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7F24E-5ABB-434F-B5E5-BFD8CADA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D6AA-2200-4A8A-8BEE-9B58EC59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2827A-62DF-462E-B4F4-EC598A7B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0DA22-1CBF-409A-9829-2958E91D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E6B70-69BC-4FC1-B47A-3C8595E8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B05D11-C181-4B24-98C3-1F09CFA0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3FA83D-37D2-4515-9AAA-09875214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37437D-915C-49DD-BEA0-5867085E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14B087-5089-4431-AA69-B1EFC317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762773-2B6C-4CDF-B9E5-41A1F868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798927-8755-4A35-910F-D3D513F2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0A558F-0FC5-4A74-9F47-C82FFCF5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E68-D00F-4AD2-AB3D-094AC2BE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4FE51C-3CF4-4FE9-AB36-7F305F68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CB6266-BA7F-4171-9F6B-312D0C3D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875537-6394-447A-BA2D-71A2FFA5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2175D9-FF09-48A7-BC14-6774B726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69D738-84D4-4C1B-B233-44A649D2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4FD5E-7A67-419E-8C71-65CE91F5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C0B50-FABD-4F96-AB18-CB263F80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278EA-C02A-46D4-B223-C4C55DEB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99FA4-4A7F-4AD9-9C97-0152C03A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1249A-C284-413A-A46B-04FEF777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D1A-3C6A-4101-BCEA-E01F8A5C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F9C40-4258-44F5-BF2F-5A78C971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99FFC-E730-46E6-BF3E-F94AA46C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6B369-4166-47FE-9CEA-34C58E95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8621D-66D0-4B09-8CA6-40303B2C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F2EEE-2971-4C81-9A4D-9C8862F2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578A0-7134-4ACF-AE3C-CF2074E3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9D035-9D23-402C-8721-7BDE0868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950B-1650-41A4-9316-F6A3591FE96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1FD5-B19B-475B-9C92-22366096EE7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4A50-1D86-484C-9A0B-F2FC9AAFC8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D8BB-2B9D-4D97-9882-AF3971572B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A95D-26AE-401C-B084-899082BF0F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9642-EF31-470D-A282-E80058775E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2E2A-3890-40BB-B857-1863F1CCDC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0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5ABC-8870-4784-88D5-22676357CD6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" Target="slide13.xml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3.xml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" Target="slide3.xml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9880" y="1963800"/>
            <a:ext cx="5334120" cy="489420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579096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 Narrow"/>
              </a:rPr>
              <a:t>Техника безопасности в компьютерном классе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6" name="">
            <a:hlinkClick r:id="" action="ppaction://hlinkshowjump?jump=nextslide"/>
          </p:cNvPr>
          <p:cNvSpPr/>
          <p:nvPr/>
        </p:nvSpPr>
        <p:spPr>
          <a:xfrm>
            <a:off x="8307360" y="6129360"/>
            <a:ext cx="836640" cy="728640"/>
          </a:xfrm>
          <a:custGeom>
            <a:avLst/>
            <a:gdLst>
              <a:gd name="textAreaLeft" fmla="*/ 47160 w 836640"/>
              <a:gd name="textAreaRight" fmla="*/ 789480 w 836640"/>
              <a:gd name="textAreaTop" fmla="*/ 47160 h 728640"/>
              <a:gd name="textAreaBottom" fmla="*/ 681480 h 728640"/>
            </a:gdLst>
            <a:ahLst/>
            <a:rect l="textAreaLeft" t="textAreaTop" r="textAreaRight" b="textAreaBottom"/>
            <a:pathLst>
              <a:path w="24800" h="21600">
                <a:moveTo>
                  <a:pt x="0" y="0"/>
                </a:moveTo>
                <a:lnTo>
                  <a:pt x="24800" y="0"/>
                </a:lnTo>
                <a:lnTo>
                  <a:pt x="24800" y="21600"/>
                </a:lnTo>
                <a:lnTo>
                  <a:pt x="0" y="21600"/>
                </a:lnTo>
                <a:close/>
              </a:path>
              <a:path fill="lightenLess" w="24800" h="21600">
                <a:moveTo>
                  <a:pt x="0" y="0"/>
                </a:moveTo>
                <a:lnTo>
                  <a:pt x="24800" y="0"/>
                </a:lnTo>
                <a:lnTo>
                  <a:pt x="23400" y="1400"/>
                </a:lnTo>
                <a:lnTo>
                  <a:pt x="1400" y="1400"/>
                </a:lnTo>
                <a:close/>
              </a:path>
              <a:path fill="darken" w="24800" h="21600">
                <a:moveTo>
                  <a:pt x="24800" y="0"/>
                </a:moveTo>
                <a:lnTo>
                  <a:pt x="24800" y="21600"/>
                </a:lnTo>
                <a:lnTo>
                  <a:pt x="23400" y="20200"/>
                </a:lnTo>
                <a:lnTo>
                  <a:pt x="23400" y="1400"/>
                </a:lnTo>
                <a:close/>
              </a:path>
              <a:path fill="darkenLess" w="24800" h="21600">
                <a:moveTo>
                  <a:pt x="2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00" y="20200"/>
                </a:lnTo>
                <a:close/>
              </a:path>
              <a:path fill="lighten" w="2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00" h="21600">
                <a:moveTo>
                  <a:pt x="5394" y="3794"/>
                </a:moveTo>
                <a:lnTo>
                  <a:pt x="19406" y="10800"/>
                </a:lnTo>
                <a:lnTo>
                  <a:pt x="5394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имеры из жизн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8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огда нештатная ситуация поджидает вас в самом неожиданном месте. В комнате несколько дней пахло чем-то сладковато-карамельным. Оказалось, в настольную лампу с красивым пластмассовым плафоном вкрутили слишком «сильную» лампочку: 75 ватт вместо положенных 40. Жаль, что причина выяснилась, когда плафон, увы, расплавил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же знал, что в импортную пластмассу добавляют ароматизаторы, чтобы она приятно пахла при нагревани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nextslide"/>
          </p:cNvPr>
          <p:cNvSpPr/>
          <p:nvPr/>
        </p:nvSpPr>
        <p:spPr>
          <a:xfrm>
            <a:off x="8172360" y="5985000"/>
            <a:ext cx="971640" cy="873000"/>
          </a:xfrm>
          <a:custGeom>
            <a:avLst/>
            <a:gdLst>
              <a:gd name="textAreaLeft" fmla="*/ 56520 w 971640"/>
              <a:gd name="textAreaRight" fmla="*/ 915120 w 971640"/>
              <a:gd name="textAreaTop" fmla="*/ 56520 h 873000"/>
              <a:gd name="textAreaBottom" fmla="*/ 816480 h 873000"/>
            </a:gdLst>
            <a:ahLst/>
            <a:rect l="textAreaLeft" t="textAreaTop" r="textAreaRight" b="textAreaBottom"/>
            <a:pathLst>
              <a:path w="24040" h="21600">
                <a:moveTo>
                  <a:pt x="0" y="0"/>
                </a:moveTo>
                <a:lnTo>
                  <a:pt x="24040" y="0"/>
                </a:lnTo>
                <a:lnTo>
                  <a:pt x="24040" y="21600"/>
                </a:lnTo>
                <a:lnTo>
                  <a:pt x="0" y="21600"/>
                </a:lnTo>
                <a:close/>
              </a:path>
              <a:path fill="lightenLess" w="24040" h="21600">
                <a:moveTo>
                  <a:pt x="0" y="0"/>
                </a:moveTo>
                <a:lnTo>
                  <a:pt x="24040" y="0"/>
                </a:lnTo>
                <a:lnTo>
                  <a:pt x="22640" y="1400"/>
                </a:lnTo>
                <a:lnTo>
                  <a:pt x="1400" y="1400"/>
                </a:lnTo>
                <a:close/>
              </a:path>
              <a:path fill="darken" w="24040" h="21600">
                <a:moveTo>
                  <a:pt x="24040" y="0"/>
                </a:moveTo>
                <a:lnTo>
                  <a:pt x="24040" y="21600"/>
                </a:lnTo>
                <a:lnTo>
                  <a:pt x="22640" y="20200"/>
                </a:lnTo>
                <a:lnTo>
                  <a:pt x="22640" y="1400"/>
                </a:lnTo>
                <a:close/>
              </a:path>
              <a:path fill="darkenLess" w="24040" h="21600">
                <a:moveTo>
                  <a:pt x="24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40" y="20200"/>
                </a:lnTo>
                <a:close/>
              </a:path>
              <a:path fill="lighten" w="24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40" h="21600">
                <a:moveTo>
                  <a:pt x="5013" y="3794"/>
                </a:moveTo>
                <a:lnTo>
                  <a:pt x="19026" y="10800"/>
                </a:lnTo>
                <a:lnTo>
                  <a:pt x="5013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Что все это значит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180432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се учащиеся должны изучить правила ТБ при работе в компьютерном классе и расписаться в специальной графе журнала по Т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Это поможет им сохранить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доровь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рогостоящую техни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шелек родител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зможность дальнейшего обучения с использованием компьютер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>
            <a:hlinkClick r:id="" action="ppaction://hlinkshowjump?jump=nextslide"/>
          </p:cNvPr>
          <p:cNvSpPr/>
          <p:nvPr/>
        </p:nvSpPr>
        <p:spPr>
          <a:xfrm>
            <a:off x="8217000" y="5985000"/>
            <a:ext cx="927000" cy="873000"/>
          </a:xfrm>
          <a:custGeom>
            <a:avLst/>
            <a:gdLst>
              <a:gd name="textAreaLeft" fmla="*/ 56520 w 927000"/>
              <a:gd name="textAreaRight" fmla="*/ 870480 w 927000"/>
              <a:gd name="textAreaTop" fmla="*/ 56520 h 873000"/>
              <a:gd name="textAreaBottom" fmla="*/ 816480 h 873000"/>
            </a:gdLst>
            <a:ahLst/>
            <a:rect l="textAreaLeft" t="textAreaTop" r="textAreaRight" b="textAreaBottom"/>
            <a:pathLst>
              <a:path w="22936" h="21600">
                <a:moveTo>
                  <a:pt x="0" y="0"/>
                </a:moveTo>
                <a:lnTo>
                  <a:pt x="22936" y="0"/>
                </a:lnTo>
                <a:lnTo>
                  <a:pt x="22936" y="21600"/>
                </a:lnTo>
                <a:lnTo>
                  <a:pt x="0" y="21600"/>
                </a:lnTo>
                <a:close/>
              </a:path>
              <a:path fill="lightenLess" w="22936" h="21600">
                <a:moveTo>
                  <a:pt x="0" y="0"/>
                </a:moveTo>
                <a:lnTo>
                  <a:pt x="22936" y="0"/>
                </a:lnTo>
                <a:lnTo>
                  <a:pt x="21536" y="1400"/>
                </a:lnTo>
                <a:lnTo>
                  <a:pt x="1400" y="1400"/>
                </a:lnTo>
                <a:close/>
              </a:path>
              <a:path fill="darken" w="22936" h="21600">
                <a:moveTo>
                  <a:pt x="22936" y="0"/>
                </a:moveTo>
                <a:lnTo>
                  <a:pt x="22936" y="21600"/>
                </a:lnTo>
                <a:lnTo>
                  <a:pt x="21536" y="20200"/>
                </a:lnTo>
                <a:lnTo>
                  <a:pt x="21536" y="1400"/>
                </a:lnTo>
                <a:close/>
              </a:path>
              <a:path fill="darkenLess" w="22936" h="21600">
                <a:moveTo>
                  <a:pt x="229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6" y="20200"/>
                </a:lnTo>
                <a:close/>
              </a:path>
              <a:path fill="lighten" w="229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6" h="21600">
                <a:moveTo>
                  <a:pt x="4461" y="3794"/>
                </a:moveTo>
                <a:lnTo>
                  <a:pt x="18474" y="10800"/>
                </a:lnTo>
                <a:lnTo>
                  <a:pt x="4461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41280" y="-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Заключени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2" name=""/>
          <p:cNvSpPr/>
          <p:nvPr/>
        </p:nvSpPr>
        <p:spPr>
          <a:xfrm>
            <a:off x="250920" y="1398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ащиеся, нарушившие правила ТБ в компьютерном классе, от выполнения практических работ отстраняются. Сведения о нарушении передаются администрации школы, которая принимает соответствующие решения о наказании, возмещении причиненного ущерба и возможности дальнейших занятий в компьютерном классе. Допуск таких учащихся к работе возможен только после повторного инструктажа и сдачи зачета по ТБ с соответствующей записью в журнале по Т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 грубое нарушение ТБ учащиеся и их родители несут все виды ответственности, предусмотренные законами РФ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>
            <a:hlinkClick r:id="" action="ppaction://hlinkshowjump?jump=nextslide"/>
          </p:cNvPr>
          <p:cNvSpPr/>
          <p:nvPr/>
        </p:nvSpPr>
        <p:spPr>
          <a:xfrm>
            <a:off x="8209080" y="5985000"/>
            <a:ext cx="934920" cy="873000"/>
          </a:xfrm>
          <a:custGeom>
            <a:avLst/>
            <a:gdLst>
              <a:gd name="textAreaLeft" fmla="*/ 56520 w 934920"/>
              <a:gd name="textAreaRight" fmla="*/ 878400 w 934920"/>
              <a:gd name="textAreaTop" fmla="*/ 56520 h 873000"/>
              <a:gd name="textAreaBottom" fmla="*/ 816480 h 873000"/>
            </a:gdLst>
            <a:ahLst/>
            <a:rect l="textAreaLeft" t="textAreaTop" r="textAreaRight" b="textAreaBottom"/>
            <a:pathLst>
              <a:path w="23131" h="21600">
                <a:moveTo>
                  <a:pt x="0" y="0"/>
                </a:moveTo>
                <a:lnTo>
                  <a:pt x="23131" y="0"/>
                </a:lnTo>
                <a:lnTo>
                  <a:pt x="23131" y="21600"/>
                </a:lnTo>
                <a:lnTo>
                  <a:pt x="0" y="21600"/>
                </a:lnTo>
                <a:close/>
              </a:path>
              <a:path fill="lightenLess" w="23131" h="21600">
                <a:moveTo>
                  <a:pt x="0" y="0"/>
                </a:moveTo>
                <a:lnTo>
                  <a:pt x="23131" y="0"/>
                </a:lnTo>
                <a:lnTo>
                  <a:pt x="21731" y="1400"/>
                </a:lnTo>
                <a:lnTo>
                  <a:pt x="1400" y="1400"/>
                </a:lnTo>
                <a:close/>
              </a:path>
              <a:path fill="darken" w="23131" h="21600">
                <a:moveTo>
                  <a:pt x="23131" y="0"/>
                </a:moveTo>
                <a:lnTo>
                  <a:pt x="23131" y="21600"/>
                </a:lnTo>
                <a:lnTo>
                  <a:pt x="21731" y="20200"/>
                </a:lnTo>
                <a:lnTo>
                  <a:pt x="21731" y="1400"/>
                </a:lnTo>
                <a:close/>
              </a:path>
              <a:path fill="darkenLess" w="23131" h="21600">
                <a:moveTo>
                  <a:pt x="23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1" y="20200"/>
                </a:lnTo>
                <a:close/>
              </a:path>
              <a:path fill="lighten" w="23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31" h="21600">
                <a:moveTo>
                  <a:pt x="4559" y="3794"/>
                </a:moveTo>
                <a:lnTo>
                  <a:pt x="18572" y="10800"/>
                </a:lnTo>
                <a:lnTo>
                  <a:pt x="4559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>
            <a:hlinkClick r:id="" action="ppaction://hlinkshowjump?jump=firstslide"/>
          </p:cNvPr>
          <p:cNvSpPr/>
          <p:nvPr/>
        </p:nvSpPr>
        <p:spPr>
          <a:xfrm>
            <a:off x="8101080" y="5877000"/>
            <a:ext cx="952560" cy="898560"/>
          </a:xfrm>
          <a:custGeom>
            <a:avLst/>
            <a:gdLst>
              <a:gd name="textAreaLeft" fmla="*/ 57960 w 952560"/>
              <a:gd name="textAreaRight" fmla="*/ 894600 w 95256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2898" h="21600">
                <a:moveTo>
                  <a:pt x="0" y="0"/>
                </a:moveTo>
                <a:lnTo>
                  <a:pt x="22898" y="0"/>
                </a:lnTo>
                <a:lnTo>
                  <a:pt x="22898" y="21600"/>
                </a:lnTo>
                <a:lnTo>
                  <a:pt x="0" y="21600"/>
                </a:lnTo>
                <a:close/>
              </a:path>
              <a:path fill="lightenLess" w="22898" h="21600">
                <a:moveTo>
                  <a:pt x="0" y="0"/>
                </a:moveTo>
                <a:lnTo>
                  <a:pt x="22898" y="0"/>
                </a:lnTo>
                <a:lnTo>
                  <a:pt x="21498" y="1400"/>
                </a:lnTo>
                <a:lnTo>
                  <a:pt x="1400" y="1400"/>
                </a:lnTo>
                <a:close/>
              </a:path>
              <a:path fill="darken" w="22898" h="21600">
                <a:moveTo>
                  <a:pt x="22898" y="0"/>
                </a:moveTo>
                <a:lnTo>
                  <a:pt x="22898" y="21600"/>
                </a:lnTo>
                <a:lnTo>
                  <a:pt x="21498" y="20200"/>
                </a:lnTo>
                <a:lnTo>
                  <a:pt x="21498" y="1400"/>
                </a:lnTo>
                <a:close/>
              </a:path>
              <a:path fill="darkenLess" w="22898" h="21600">
                <a:moveTo>
                  <a:pt x="22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98" y="20200"/>
                </a:lnTo>
                <a:close/>
              </a:path>
              <a:path fill="lighten" w="22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98" h="21600">
                <a:moveTo>
                  <a:pt x="11449" y="3837"/>
                </a:moveTo>
                <a:lnTo>
                  <a:pt x="14025" y="6448"/>
                </a:lnTo>
                <a:lnTo>
                  <a:pt x="14025" y="4707"/>
                </a:lnTo>
                <a:lnTo>
                  <a:pt x="15801" y="4707"/>
                </a:lnTo>
                <a:lnTo>
                  <a:pt x="15801" y="8224"/>
                </a:lnTo>
                <a:lnTo>
                  <a:pt x="18412" y="10800"/>
                </a:lnTo>
                <a:lnTo>
                  <a:pt x="16758" y="10800"/>
                </a:lnTo>
                <a:lnTo>
                  <a:pt x="16758" y="17989"/>
                </a:lnTo>
                <a:lnTo>
                  <a:pt x="6140" y="17989"/>
                </a:lnTo>
                <a:lnTo>
                  <a:pt x="6140" y="10800"/>
                </a:lnTo>
                <a:lnTo>
                  <a:pt x="4486" y="10800"/>
                </a:lnTo>
                <a:close/>
              </a:path>
              <a:path fill="darkenLess" w="22898" h="21600">
                <a:moveTo>
                  <a:pt x="14025" y="6448"/>
                </a:moveTo>
                <a:lnTo>
                  <a:pt x="14025" y="4707"/>
                </a:lnTo>
                <a:lnTo>
                  <a:pt x="15801" y="4707"/>
                </a:lnTo>
                <a:lnTo>
                  <a:pt x="15801" y="8224"/>
                </a:lnTo>
                <a:close/>
              </a:path>
              <a:path fill="darkenLess" w="22898" h="21600">
                <a:moveTo>
                  <a:pt x="10526" y="14299"/>
                </a:moveTo>
                <a:lnTo>
                  <a:pt x="12371" y="14299"/>
                </a:lnTo>
                <a:lnTo>
                  <a:pt x="12371" y="17989"/>
                </a:lnTo>
                <a:lnTo>
                  <a:pt x="16758" y="17989"/>
                </a:lnTo>
                <a:lnTo>
                  <a:pt x="16758" y="10800"/>
                </a:lnTo>
                <a:lnTo>
                  <a:pt x="6140" y="10800"/>
                </a:lnTo>
                <a:lnTo>
                  <a:pt x="6140" y="17989"/>
                </a:lnTo>
                <a:lnTo>
                  <a:pt x="10526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209680" y="7632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спресс-т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09480" y="838080"/>
            <a:ext cx="853452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Comic Sans MS"/>
              </a:rPr>
              <a:t>Выбери один из предложенных вариантов отве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Times New Roman"/>
              </a:rPr>
              <a:t>При появлении признаков пожара следу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Воспользоваться огнетушителе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2" action="ppaction://hlinksldjump"/>
              </a:rPr>
              <a:t>Отключить питание сет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3" action="ppaction://hlinksldjump"/>
              </a:rPr>
              <a:t>Сообщить учителю и организованно покинуть поме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9480" y="3119400"/>
            <a:ext cx="8534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Times New Roman"/>
              </a:rPr>
              <a:t>Если у соседа по компьютеру не ладится работа, следу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4" action="ppaction://hlinksldjump"/>
              </a:rPr>
              <a:t>Оставить свой  компьютер и выполнить задание за него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5" action="ppaction://hlinksldjump"/>
              </a:rPr>
              <a:t>Помочь совето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6" action="ppaction://hlinksldjump"/>
              </a:rPr>
              <a:t>Пожаловаться учите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3520" y="4902120"/>
            <a:ext cx="8534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Times New Roman"/>
              </a:rPr>
              <a:t>Если компьютер в процессе работы «зависает», следу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7" action="ppaction://hlinksldjump"/>
              </a:rPr>
              <a:t>Сообщить учителю и сделать запись в регистрационном журнал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8" action="ppaction://hlinksldjump"/>
              </a:rPr>
              <a:t>Открыть крышку системного блока и «пошевелить» материнскую плат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9" action="ppaction://hlinksldjump"/>
              </a:rPr>
              <a:t>Проверить системные установ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1640" y="11426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лохо!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нимательно изучи материал!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3390840" cy="5562720"/>
          </a:xfrm>
          <a:prstGeom prst="rect">
            <a:avLst/>
          </a:prstGeom>
          <a:ln w="0">
            <a:noFill/>
          </a:ln>
        </p:spPr>
      </p:pic>
      <p:sp>
        <p:nvSpPr>
          <p:cNvPr id="711" name="">
            <a:hlinkClick r:id="rId2" action="ppaction://hlinksldjump"/>
          </p:cNvPr>
          <p:cNvSpPr/>
          <p:nvPr/>
        </p:nvSpPr>
        <p:spPr>
          <a:xfrm>
            <a:off x="7991640" y="5772240"/>
            <a:ext cx="936360" cy="860400"/>
          </a:xfrm>
          <a:custGeom>
            <a:avLst/>
            <a:gdLst>
              <a:gd name="textAreaLeft" fmla="*/ 55440 w 936360"/>
              <a:gd name="textAreaRight" fmla="*/ 880920 w 936360"/>
              <a:gd name="textAreaTop" fmla="*/ 55440 h 860400"/>
              <a:gd name="textAreaBottom" fmla="*/ 804960 h 860400"/>
            </a:gdLst>
            <a:ahLst/>
            <a:rect l="textAreaLeft" t="textAreaTop" r="textAreaRight" b="textAreaBottom"/>
            <a:pathLst>
              <a:path w="23506" h="21600">
                <a:moveTo>
                  <a:pt x="0" y="0"/>
                </a:moveTo>
                <a:lnTo>
                  <a:pt x="23506" y="0"/>
                </a:lnTo>
                <a:lnTo>
                  <a:pt x="23506" y="21600"/>
                </a:lnTo>
                <a:lnTo>
                  <a:pt x="0" y="21600"/>
                </a:lnTo>
                <a:close/>
              </a:path>
              <a:path fill="lightenLess" w="23506" h="21600">
                <a:moveTo>
                  <a:pt x="0" y="0"/>
                </a:moveTo>
                <a:lnTo>
                  <a:pt x="23506" y="0"/>
                </a:lnTo>
                <a:lnTo>
                  <a:pt x="22106" y="1400"/>
                </a:lnTo>
                <a:lnTo>
                  <a:pt x="1400" y="1400"/>
                </a:lnTo>
                <a:close/>
              </a:path>
              <a:path fill="darken" w="23506" h="21600">
                <a:moveTo>
                  <a:pt x="23506" y="0"/>
                </a:moveTo>
                <a:lnTo>
                  <a:pt x="23506" y="21600"/>
                </a:lnTo>
                <a:lnTo>
                  <a:pt x="22106" y="20200"/>
                </a:lnTo>
                <a:lnTo>
                  <a:pt x="22106" y="1400"/>
                </a:lnTo>
                <a:close/>
              </a:path>
              <a:path fill="darkenLess" w="23506" h="21600">
                <a:moveTo>
                  <a:pt x="23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06" y="20200"/>
                </a:lnTo>
                <a:close/>
              </a:path>
              <a:path fill="lighten" w="23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06" h="21600">
                <a:moveTo>
                  <a:pt x="1175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506" h="21600">
                <a:moveTo>
                  <a:pt x="12858" y="14281"/>
                </a:moveTo>
                <a:lnTo>
                  <a:pt x="12858" y="12323"/>
                </a:lnTo>
                <a:cubicBezTo>
                  <a:pt x="12858" y="11496"/>
                  <a:pt x="13189" y="10800"/>
                  <a:pt x="13790" y="10800"/>
                </a:cubicBezTo>
                <a:cubicBezTo>
                  <a:pt x="14921" y="10800"/>
                  <a:pt x="15818" y="9434"/>
                  <a:pt x="15818" y="7849"/>
                </a:cubicBezTo>
                <a:cubicBezTo>
                  <a:pt x="15818" y="5534"/>
                  <a:pt x="13964" y="3794"/>
                  <a:pt x="11753" y="3794"/>
                </a:cubicBezTo>
                <a:cubicBezTo>
                  <a:pt x="9542" y="3794"/>
                  <a:pt x="7871" y="5534"/>
                  <a:pt x="7871" y="7849"/>
                </a:cubicBezTo>
                <a:lnTo>
                  <a:pt x="9725" y="7849"/>
                </a:lnTo>
                <a:cubicBezTo>
                  <a:pt x="9725" y="6709"/>
                  <a:pt x="10648" y="5821"/>
                  <a:pt x="11753" y="5821"/>
                </a:cubicBezTo>
                <a:cubicBezTo>
                  <a:pt x="12858" y="5821"/>
                  <a:pt x="13790" y="6709"/>
                  <a:pt x="13790" y="7849"/>
                </a:cubicBezTo>
                <a:cubicBezTo>
                  <a:pt x="13790" y="8589"/>
                  <a:pt x="13320" y="9320"/>
                  <a:pt x="12858" y="9320"/>
                </a:cubicBezTo>
                <a:cubicBezTo>
                  <a:pt x="11753" y="9320"/>
                  <a:pt x="10648" y="10800"/>
                  <a:pt x="10648" y="12323"/>
                </a:cubicBezTo>
                <a:lnTo>
                  <a:pt x="10648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олодец!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твет верен!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3913200" cy="4113360"/>
          </a:xfrm>
          <a:prstGeom prst="rect">
            <a:avLst/>
          </a:prstGeom>
          <a:ln w="0">
            <a:noFill/>
          </a:ln>
        </p:spPr>
      </p:pic>
      <p:sp>
        <p:nvSpPr>
          <p:cNvPr id="714" name="">
            <a:hlinkClick r:id="rId3" action="ppaction://hlinksldjump"/>
          </p:cNvPr>
          <p:cNvSpPr/>
          <p:nvPr/>
        </p:nvSpPr>
        <p:spPr>
          <a:xfrm>
            <a:off x="8029440" y="5823000"/>
            <a:ext cx="971640" cy="882720"/>
          </a:xfrm>
          <a:custGeom>
            <a:avLst/>
            <a:gdLst>
              <a:gd name="textAreaLeft" fmla="*/ 56880 w 971640"/>
              <a:gd name="textAreaRight" fmla="*/ 914760 w 971640"/>
              <a:gd name="textAreaTop" fmla="*/ 56880 h 882720"/>
              <a:gd name="textAreaBottom" fmla="*/ 825840 h 882720"/>
            </a:gdLst>
            <a:ahLst/>
            <a:rect l="textAreaLeft" t="textAreaTop" r="textAreaRight" b="textAreaBottom"/>
            <a:pathLst>
              <a:path w="23775" h="21600">
                <a:moveTo>
                  <a:pt x="0" y="0"/>
                </a:moveTo>
                <a:lnTo>
                  <a:pt x="23775" y="0"/>
                </a:lnTo>
                <a:lnTo>
                  <a:pt x="23775" y="21600"/>
                </a:lnTo>
                <a:lnTo>
                  <a:pt x="0" y="21600"/>
                </a:lnTo>
                <a:close/>
              </a:path>
              <a:path fill="lightenLess" w="23775" h="21600">
                <a:moveTo>
                  <a:pt x="0" y="0"/>
                </a:moveTo>
                <a:lnTo>
                  <a:pt x="23775" y="0"/>
                </a:lnTo>
                <a:lnTo>
                  <a:pt x="22375" y="1400"/>
                </a:lnTo>
                <a:lnTo>
                  <a:pt x="1400" y="1400"/>
                </a:lnTo>
                <a:close/>
              </a:path>
              <a:path fill="darken" w="23775" h="21600">
                <a:moveTo>
                  <a:pt x="23775" y="0"/>
                </a:moveTo>
                <a:lnTo>
                  <a:pt x="23775" y="21600"/>
                </a:lnTo>
                <a:lnTo>
                  <a:pt x="22375" y="20200"/>
                </a:lnTo>
                <a:lnTo>
                  <a:pt x="22375" y="1400"/>
                </a:lnTo>
                <a:close/>
              </a:path>
              <a:path fill="darkenLess" w="23775" h="21600">
                <a:moveTo>
                  <a:pt x="23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75" y="20200"/>
                </a:lnTo>
                <a:close/>
              </a:path>
              <a:path fill="lighten" w="23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75" h="21600">
                <a:moveTo>
                  <a:pt x="1188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775" h="21600">
                <a:moveTo>
                  <a:pt x="12993" y="14281"/>
                </a:moveTo>
                <a:lnTo>
                  <a:pt x="12993" y="12323"/>
                </a:lnTo>
                <a:cubicBezTo>
                  <a:pt x="12993" y="11496"/>
                  <a:pt x="13324" y="10800"/>
                  <a:pt x="13924" y="10800"/>
                </a:cubicBezTo>
                <a:cubicBezTo>
                  <a:pt x="15056" y="10800"/>
                  <a:pt x="15952" y="9434"/>
                  <a:pt x="15952" y="7849"/>
                </a:cubicBezTo>
                <a:cubicBezTo>
                  <a:pt x="15952" y="5534"/>
                  <a:pt x="14098" y="3794"/>
                  <a:pt x="11887" y="3794"/>
                </a:cubicBezTo>
                <a:cubicBezTo>
                  <a:pt x="9677" y="3794"/>
                  <a:pt x="8006" y="5534"/>
                  <a:pt x="8006" y="7849"/>
                </a:cubicBezTo>
                <a:lnTo>
                  <a:pt x="9860" y="7849"/>
                </a:lnTo>
                <a:cubicBezTo>
                  <a:pt x="9860" y="6709"/>
                  <a:pt x="10782" y="5821"/>
                  <a:pt x="11887" y="5821"/>
                </a:cubicBezTo>
                <a:cubicBezTo>
                  <a:pt x="12993" y="5821"/>
                  <a:pt x="13924" y="6709"/>
                  <a:pt x="13924" y="7849"/>
                </a:cubicBezTo>
                <a:cubicBezTo>
                  <a:pt x="13924" y="8589"/>
                  <a:pt x="13454" y="9320"/>
                  <a:pt x="12993" y="9320"/>
                </a:cubicBezTo>
                <a:cubicBezTo>
                  <a:pt x="11887" y="9320"/>
                  <a:pt x="10782" y="10800"/>
                  <a:pt x="10782" y="12323"/>
                </a:cubicBezTo>
                <a:lnTo>
                  <a:pt x="10782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68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68" fill="hold"/>
                                        <p:tgtEl>
                                          <p:spTgt spid="7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3693960" cy="227016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Введени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560" y="25142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чему актуален вопрос о технике безопасности в компьютерном класс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ccff"/>
                </a:solidFill>
                <a:latin typeface="Times New Roman"/>
              </a:rPr>
              <a:t>В кабинете вычислительной техники установлена дорогостоящая, сложная и требующая осторожного и аккуратного обращения аппаратура — компьютеры</a:t>
            </a: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, </a:t>
            </a:r>
            <a:r>
              <a:rPr b="1" lang="fr-FR" sz="2400" spc="-1" strike="noStrike">
                <a:solidFill>
                  <a:srgbClr val="ccccff"/>
                </a:solidFill>
                <a:latin typeface="Times New Roman"/>
              </a:rPr>
              <a:t>принтер</a:t>
            </a: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ы и </a:t>
            </a:r>
            <a:r>
              <a:rPr b="1" lang="fr-FR" sz="2400" spc="-1" strike="noStrike">
                <a:solidFill>
                  <a:srgbClr val="ccccff"/>
                </a:solidFill>
                <a:latin typeface="Times New Roman"/>
              </a:rPr>
              <a:t>другие технические средства.</a:t>
            </a: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Факты нахождения в кабинете большого количества техники, питающейся от электросети, с одновременным присутствием  школьников являются достаточными для выдвижения повышенных требований к безопасности такого помещ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>
            <a:hlinkClick r:id="" action="ppaction://hlinkshowjump?jump=nextslide"/>
          </p:cNvPr>
          <p:cNvSpPr/>
          <p:nvPr/>
        </p:nvSpPr>
        <p:spPr>
          <a:xfrm>
            <a:off x="8352000" y="605808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4175" y="3794"/>
                </a:moveTo>
                <a:lnTo>
                  <a:pt x="18187" y="10800"/>
                </a:lnTo>
                <a:lnTo>
                  <a:pt x="4175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6962760" y="3724200"/>
            <a:ext cx="2181240" cy="31338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77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Темы для обсуждения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33160" y="274284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Правила поведения в компьютерном кл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Правила электро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Правила пожарной 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-576360" y="3681360"/>
            <a:ext cx="3635640" cy="344952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авила поведения в компьютерном классе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6" name=""/>
          <p:cNvSpPr/>
          <p:nvPr/>
        </p:nvSpPr>
        <p:spPr>
          <a:xfrm>
            <a:off x="1727280" y="3097080"/>
            <a:ext cx="741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ходите в кабинет спокойно, не торопясь, не толкаясь, не задевая столы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анимайте отведенное вам мест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ережно обращайтесь с технико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 кладите книги, тетради на монитор и клавиатуру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пишитесь в журнал регистраци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чинайте работу только по указанию преподавател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лавно нажимайте на клавиши, не допуская резких ударов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е вставайте со своих мест, когда в кабинет входят посетител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" y="16002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Чем отличаются правила поведения в компьютерном классе от правил поведения в школе?</a:t>
            </a:r>
            <a:br>
              <a:rPr sz="2000"/>
            </a:br>
            <a:r>
              <a:rPr b="1" lang="ru-RU" sz="2000" spc="-1" strike="noStrike">
                <a:solidFill>
                  <a:srgbClr val="ff9966"/>
                </a:solidFill>
                <a:latin typeface="Times New Roman"/>
              </a:rPr>
              <a:t>Правила поведения в компьютерном классе не противоречат общим правилам поведения в школе, но имеют ряд существенных добавлений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>
            <a:hlinkClick r:id="" action="ppaction://hlinkshowjump?jump=nextslide"/>
          </p:cNvPr>
          <p:cNvSpPr/>
          <p:nvPr/>
        </p:nvSpPr>
        <p:spPr>
          <a:xfrm>
            <a:off x="8244000" y="587700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3794" y="3889"/>
                </a:moveTo>
                <a:lnTo>
                  <a:pt x="17806" y="10895"/>
                </a:lnTo>
                <a:lnTo>
                  <a:pt x="3794" y="17901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97000" y="-360"/>
            <a:ext cx="5032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Забота о здоровь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0" y="1042560"/>
            <a:ext cx="8856720" cy="490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ледует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работать на расстоянии 60—70 см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от экрана монитора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, допустимо не менее 50 см, соблюдая правильную посадку, не сутулясь, не наклоняяс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чащимся, имеющим очки для постоянного ношения,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следует работать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в очках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свещен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 должно быть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достаточ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ы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ельзя работат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при плохом самочувстви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ожение при работе должно быть таким, чтобы линия взора приходилась в центр экрана. Не следует наклоняться и сутулиться при пользовании клавиатурой и чтении с экрана монито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ремя непрерывной работы за компьютером не должно превышать 30 мин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>
            <a:hlinkClick r:id="rId1" action="ppaction://hlinksldjump"/>
          </p:cNvPr>
          <p:cNvSpPr/>
          <p:nvPr/>
        </p:nvSpPr>
        <p:spPr>
          <a:xfrm>
            <a:off x="8209080" y="5950080"/>
            <a:ext cx="900000" cy="873000"/>
          </a:xfrm>
          <a:custGeom>
            <a:avLst/>
            <a:gdLst>
              <a:gd name="textAreaLeft" fmla="*/ 56520 w 900000"/>
              <a:gd name="textAreaRight" fmla="*/ 843480 w 900000"/>
              <a:gd name="textAreaTop" fmla="*/ 56520 h 873000"/>
              <a:gd name="textAreaBottom" fmla="*/ 816480 h 873000"/>
            </a:gdLst>
            <a:ahLst/>
            <a:rect l="textAreaLeft" t="textAreaTop" r="textAreaRight" b="textAreaBottom"/>
            <a:pathLst>
              <a:path w="22268" h="21600">
                <a:moveTo>
                  <a:pt x="0" y="0"/>
                </a:moveTo>
                <a:lnTo>
                  <a:pt x="22268" y="0"/>
                </a:lnTo>
                <a:lnTo>
                  <a:pt x="22268" y="21600"/>
                </a:lnTo>
                <a:lnTo>
                  <a:pt x="0" y="21600"/>
                </a:lnTo>
                <a:close/>
              </a:path>
              <a:path fill="lightenLess" w="22268" h="21600">
                <a:moveTo>
                  <a:pt x="0" y="0"/>
                </a:moveTo>
                <a:lnTo>
                  <a:pt x="22268" y="0"/>
                </a:lnTo>
                <a:lnTo>
                  <a:pt x="20868" y="1400"/>
                </a:lnTo>
                <a:lnTo>
                  <a:pt x="1400" y="1400"/>
                </a:lnTo>
                <a:close/>
              </a:path>
              <a:path fill="darken" w="22268" h="21600">
                <a:moveTo>
                  <a:pt x="22268" y="0"/>
                </a:moveTo>
                <a:lnTo>
                  <a:pt x="22268" y="21600"/>
                </a:lnTo>
                <a:lnTo>
                  <a:pt x="20868" y="20200"/>
                </a:lnTo>
                <a:lnTo>
                  <a:pt x="20868" y="1400"/>
                </a:lnTo>
                <a:close/>
              </a:path>
              <a:path fill="darkenLess" w="22268" h="21600">
                <a:moveTo>
                  <a:pt x="2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68" y="20200"/>
                </a:lnTo>
                <a:close/>
              </a:path>
              <a:path fill="lighten" w="2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119640" y="5977080"/>
            <a:ext cx="1513080" cy="944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236160 h 944280"/>
              <a:gd name="textAreaBottom" fmla="*/ 708480 h 944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нП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2"/>
          <a:srcRect l="15428" t="13841" r="3156" b="40692"/>
          <a:stretch/>
        </p:blipFill>
        <p:spPr>
          <a:xfrm>
            <a:off x="3311640" y="5938920"/>
            <a:ext cx="21952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laptop"/>
          <p:cNvSpPr/>
          <p:nvPr/>
        </p:nvSpPr>
        <p:spPr>
          <a:xfrm>
            <a:off x="3402000" y="3249720"/>
            <a:ext cx="1809720" cy="1361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33520" y="208548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На рабочем мест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чащегося в компьютерном классе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размещены составные части ПЭВМ — системный блок, клавиатура и монитор. Во время работы лучевая трубка монитора работает под высоким напряжением. Неправильное обращение с аппаратурой, кабелями и мониторами может привести к тяжелым поражениям электрическим током, вызвать загорание аппарату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ower"/>
          <p:cNvSpPr/>
          <p:nvPr/>
        </p:nvSpPr>
        <p:spPr>
          <a:xfrm>
            <a:off x="297000" y="324000"/>
            <a:ext cx="90468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rinter2"/>
          <p:cNvSpPr/>
          <p:nvPr/>
        </p:nvSpPr>
        <p:spPr>
          <a:xfrm>
            <a:off x="297000" y="5724360"/>
            <a:ext cx="1809720" cy="905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авила электробезопасност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9" name="scanner1"/>
          <p:cNvSpPr/>
          <p:nvPr/>
        </p:nvSpPr>
        <p:spPr>
          <a:xfrm>
            <a:off x="7047000" y="728640"/>
            <a:ext cx="1809720" cy="905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nextslide"/>
          </p:cNvPr>
          <p:cNvSpPr/>
          <p:nvPr/>
        </p:nvSpPr>
        <p:spPr>
          <a:xfrm>
            <a:off x="8209080" y="5985000"/>
            <a:ext cx="927000" cy="836640"/>
          </a:xfrm>
          <a:custGeom>
            <a:avLst/>
            <a:gdLst>
              <a:gd name="textAreaLeft" fmla="*/ 54000 w 927000"/>
              <a:gd name="textAreaRight" fmla="*/ 873000 w 927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932" h="21600">
                <a:moveTo>
                  <a:pt x="0" y="0"/>
                </a:moveTo>
                <a:lnTo>
                  <a:pt x="23932" y="0"/>
                </a:lnTo>
                <a:lnTo>
                  <a:pt x="23932" y="21600"/>
                </a:lnTo>
                <a:lnTo>
                  <a:pt x="0" y="21600"/>
                </a:lnTo>
                <a:close/>
              </a:path>
              <a:path fill="lightenLess" w="23932" h="21600">
                <a:moveTo>
                  <a:pt x="0" y="0"/>
                </a:moveTo>
                <a:lnTo>
                  <a:pt x="23932" y="0"/>
                </a:lnTo>
                <a:lnTo>
                  <a:pt x="22532" y="1400"/>
                </a:lnTo>
                <a:lnTo>
                  <a:pt x="1400" y="1400"/>
                </a:lnTo>
                <a:close/>
              </a:path>
              <a:path fill="darken" w="23932" h="21600">
                <a:moveTo>
                  <a:pt x="23932" y="0"/>
                </a:moveTo>
                <a:lnTo>
                  <a:pt x="23932" y="21600"/>
                </a:lnTo>
                <a:lnTo>
                  <a:pt x="22532" y="20200"/>
                </a:lnTo>
                <a:lnTo>
                  <a:pt x="22532" y="1400"/>
                </a:lnTo>
                <a:close/>
              </a:path>
              <a:path fill="darkenLess" w="23932" h="21600">
                <a:moveTo>
                  <a:pt x="23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32" y="20200"/>
                </a:lnTo>
                <a:close/>
              </a:path>
              <a:path fill="lighten" w="23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32" h="21600">
                <a:moveTo>
                  <a:pt x="4959" y="3794"/>
                </a:moveTo>
                <a:lnTo>
                  <a:pt x="18972" y="10800"/>
                </a:lnTo>
                <a:lnTo>
                  <a:pt x="4959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0" y="4770360"/>
            <a:ext cx="2771640" cy="208764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трого запрещается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47280" y="1052640"/>
            <a:ext cx="9186840" cy="37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ать влажными и грязными рук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ходить в рабочую зону (за компьютер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трогать разъемы соединительных каб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касаться к питающим проводам и устройствам зазем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касаться к экрану и к тыльной стороне монитора, клавиату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ключать и отключать аппаратуру без указания преподава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самостоятельно устра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ть неисправнос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в работе аппаратур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>
            <a:hlinkClick r:id="rId2" action="ppaction://hlinksldjump"/>
          </p:cNvPr>
          <p:cNvSpPr/>
          <p:nvPr/>
        </p:nvSpPr>
        <p:spPr>
          <a:xfrm>
            <a:off x="8101080" y="5877000"/>
            <a:ext cx="971640" cy="936720"/>
          </a:xfrm>
          <a:custGeom>
            <a:avLst/>
            <a:gdLst>
              <a:gd name="textAreaLeft" fmla="*/ 60480 w 971640"/>
              <a:gd name="textAreaRight" fmla="*/ 911160 w 971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2405" h="21600">
                <a:moveTo>
                  <a:pt x="0" y="0"/>
                </a:moveTo>
                <a:lnTo>
                  <a:pt x="22405" y="0"/>
                </a:lnTo>
                <a:lnTo>
                  <a:pt x="22405" y="21600"/>
                </a:lnTo>
                <a:lnTo>
                  <a:pt x="0" y="21600"/>
                </a:lnTo>
                <a:close/>
              </a:path>
              <a:path fill="lightenLess" w="22405" h="21600">
                <a:moveTo>
                  <a:pt x="0" y="0"/>
                </a:moveTo>
                <a:lnTo>
                  <a:pt x="22405" y="0"/>
                </a:lnTo>
                <a:lnTo>
                  <a:pt x="21005" y="1400"/>
                </a:lnTo>
                <a:lnTo>
                  <a:pt x="1400" y="1400"/>
                </a:lnTo>
                <a:close/>
              </a:path>
              <a:path fill="darken" w="22405" h="21600">
                <a:moveTo>
                  <a:pt x="22405" y="0"/>
                </a:moveTo>
                <a:lnTo>
                  <a:pt x="22405" y="21600"/>
                </a:lnTo>
                <a:lnTo>
                  <a:pt x="21005" y="20200"/>
                </a:lnTo>
                <a:lnTo>
                  <a:pt x="21005" y="1400"/>
                </a:lnTo>
                <a:close/>
              </a:path>
              <a:path fill="darkenLess" w="22405" h="21600">
                <a:moveTo>
                  <a:pt x="2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5" y="20200"/>
                </a:lnTo>
                <a:close/>
              </a:path>
              <a:path fill="lighten" w="2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авила пожарной безопасност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6" name=""/>
          <p:cNvSpPr/>
          <p:nvPr/>
        </p:nvSpPr>
        <p:spPr>
          <a:xfrm>
            <a:off x="264960" y="2210760"/>
            <a:ext cx="8447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Times New Roman"/>
              </a:rPr>
              <a:t>ВО ИЗБЕЖАНИЕ ПОЖАРА НЕОБХОДИМО СТРОГО СОБЛЮДАТЬ СЛЕДУЮЩИЕ ТРЕБОВА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стоянно поддерживать порядок в рабочих помещениях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одержать в чистоте свое рабочее место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е накапливать ненужных материалов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е загромождать проходы, выход, коридоры и доступ к средствам пожаротуш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ширина минимально допустимых проходо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между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борудованием должна быть не менее 1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>
            <a:hlinkClick r:id="" action="ppaction://hlinkshowjump?jump=nextslide"/>
          </p:cNvPr>
          <p:cNvSpPr/>
          <p:nvPr/>
        </p:nvSpPr>
        <p:spPr>
          <a:xfrm>
            <a:off x="8128080" y="5913360"/>
            <a:ext cx="1015920" cy="944640"/>
          </a:xfrm>
          <a:custGeom>
            <a:avLst/>
            <a:gdLst>
              <a:gd name="textAreaLeft" fmla="*/ 61200 w 1015920"/>
              <a:gd name="textAreaRight" fmla="*/ 954720 w 1015920"/>
              <a:gd name="textAreaTop" fmla="*/ 61200 h 944640"/>
              <a:gd name="textAreaBottom" fmla="*/ 883440 h 944640"/>
            </a:gdLst>
            <a:ahLst/>
            <a:rect l="textAreaLeft" t="textAreaTop" r="textAreaRight" b="textAreaBottom"/>
            <a:pathLst>
              <a:path w="23229" h="21600">
                <a:moveTo>
                  <a:pt x="0" y="0"/>
                </a:moveTo>
                <a:lnTo>
                  <a:pt x="23229" y="0"/>
                </a:lnTo>
                <a:lnTo>
                  <a:pt x="23229" y="21600"/>
                </a:lnTo>
                <a:lnTo>
                  <a:pt x="0" y="21600"/>
                </a:lnTo>
                <a:close/>
              </a:path>
              <a:path fill="lightenLess" w="23229" h="21600">
                <a:moveTo>
                  <a:pt x="0" y="0"/>
                </a:moveTo>
                <a:lnTo>
                  <a:pt x="23229" y="0"/>
                </a:lnTo>
                <a:lnTo>
                  <a:pt x="21829" y="1400"/>
                </a:lnTo>
                <a:lnTo>
                  <a:pt x="1400" y="1400"/>
                </a:lnTo>
                <a:close/>
              </a:path>
              <a:path fill="darken" w="23229" h="21600">
                <a:moveTo>
                  <a:pt x="23229" y="0"/>
                </a:moveTo>
                <a:lnTo>
                  <a:pt x="23229" y="21600"/>
                </a:lnTo>
                <a:lnTo>
                  <a:pt x="21829" y="20200"/>
                </a:lnTo>
                <a:lnTo>
                  <a:pt x="21829" y="1400"/>
                </a:lnTo>
                <a:close/>
              </a:path>
              <a:path fill="darkenLess" w="23229" h="21600">
                <a:moveTo>
                  <a:pt x="232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29" y="20200"/>
                </a:lnTo>
                <a:close/>
              </a:path>
              <a:path fill="lighten" w="232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29" h="21600">
                <a:moveTo>
                  <a:pt x="4608" y="3794"/>
                </a:moveTo>
                <a:lnTo>
                  <a:pt x="18621" y="10800"/>
                </a:lnTo>
                <a:lnTo>
                  <a:pt x="4608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6335640" y="138240"/>
            <a:ext cx="2529000" cy="20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7632720" y="1376280"/>
            <a:ext cx="1052640" cy="136836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6767640" y="2349360"/>
            <a:ext cx="2376360" cy="182880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0" y="41058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9966"/>
                </a:solidFill>
                <a:latin typeface="Times New Roman"/>
              </a:rPr>
              <a:t>КАТЕГОРИЧЕСКИ ЗАПРЕЩАЕТ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Курить в помещен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льзоваться зажигалко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ешать одежду и класть горючие предметы на электрощиты, электропроводку и другое электрооборудова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>
            <a:hlinkClick r:id="rId3" action="ppaction://hlinksldjump"/>
          </p:cNvPr>
          <p:cNvSpPr/>
          <p:nvPr/>
        </p:nvSpPr>
        <p:spPr>
          <a:xfrm>
            <a:off x="8101080" y="5877000"/>
            <a:ext cx="1008000" cy="944640"/>
          </a:xfrm>
          <a:custGeom>
            <a:avLst/>
            <a:gdLst>
              <a:gd name="textAreaLeft" fmla="*/ 61200 w 1008000"/>
              <a:gd name="textAreaRight" fmla="*/ 946800 w 1008000"/>
              <a:gd name="textAreaTop" fmla="*/ 61200 h 944640"/>
              <a:gd name="textAreaBottom" fmla="*/ 883440 h 944640"/>
            </a:gdLst>
            <a:ahLst/>
            <a:rect l="textAreaLeft" t="textAreaTop" r="textAreaRight" b="textAreaBottom"/>
            <a:pathLst>
              <a:path w="23048" h="21600">
                <a:moveTo>
                  <a:pt x="0" y="0"/>
                </a:moveTo>
                <a:lnTo>
                  <a:pt x="23048" y="0"/>
                </a:lnTo>
                <a:lnTo>
                  <a:pt x="23048" y="21600"/>
                </a:lnTo>
                <a:lnTo>
                  <a:pt x="0" y="21600"/>
                </a:lnTo>
                <a:close/>
              </a:path>
              <a:path fill="lightenLess" w="23048" h="21600">
                <a:moveTo>
                  <a:pt x="0" y="0"/>
                </a:moveTo>
                <a:lnTo>
                  <a:pt x="23048" y="0"/>
                </a:lnTo>
                <a:lnTo>
                  <a:pt x="21648" y="1400"/>
                </a:lnTo>
                <a:lnTo>
                  <a:pt x="1400" y="1400"/>
                </a:lnTo>
                <a:close/>
              </a:path>
              <a:path fill="darken" w="23048" h="21600">
                <a:moveTo>
                  <a:pt x="23048" y="0"/>
                </a:moveTo>
                <a:lnTo>
                  <a:pt x="23048" y="21600"/>
                </a:lnTo>
                <a:lnTo>
                  <a:pt x="21648" y="20200"/>
                </a:lnTo>
                <a:lnTo>
                  <a:pt x="21648" y="1400"/>
                </a:lnTo>
                <a:close/>
              </a:path>
              <a:path fill="darkenLess" w="23048" h="21600">
                <a:moveTo>
                  <a:pt x="23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8" y="20200"/>
                </a:lnTo>
                <a:close/>
              </a:path>
              <a:path fill="lighten" w="23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166920" y="6093000"/>
            <a:ext cx="2449800" cy="765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Times New Roman"/>
              </a:rPr>
              <a:t>Подробне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7000" y="364680"/>
            <a:ext cx="84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Times New Roman"/>
              </a:rPr>
              <a:t>В НЕШТАТНЫХ СИТУАЦИЯХ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 нештатных ситуациях, при нагревании  устройств, появлении постороннего запаха, звука необходимо немедленно поставить в известность преподавателя и в случае необходимости организованно покинуть помещ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Меры по ликвидации ситуации (отключать напряжение, вызывать пожарную команду по телефону 01) должно принимать лицо, ответственное за пожарную безопаснос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чук</cp:lastModifiedBy>
  <dcterms:modified xsi:type="dcterms:W3CDTF">2005-09-04T18:47:50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