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955-35F7-4D1E-8E27-6BF117BA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A48-085B-48FD-B0BB-309BDCF7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686-A0F8-4B0C-A307-BAEC8D69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E56-664C-4110-8668-3639DCA7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0FC3-EA13-40B2-B15E-BD5B73F4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E6FF-A8AC-4C33-85C0-58B7C2FD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DAFC-6023-498D-A3F1-43188894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46F0-A85F-4BEA-9F40-58F7973E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9828-5352-40DC-B4E5-C04634DB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439B-287D-4A8C-A511-8FE778CF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4B93-EBCC-4E69-AF48-8BE1DFCD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647-11BE-41BC-9DB0-5D426BD0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6581-B212-49D5-87C8-53BD22EA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CEAE-3377-46DC-A7D3-21810FF1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4222-66B3-468B-A062-0B965B60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3063-28FB-41C9-9C73-2C14569E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F79E-223D-49F0-B497-C1DD7193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9B35-768C-4BF5-9D2A-53B930E1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7957-2C4F-4F5F-9DDB-F2E0C9D4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FB53-B76B-46A8-8AD6-1592D22A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F554-6880-4BB8-BCAF-26099B5F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0DBB-B850-4A46-AC81-1496B5F5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D9F-4401-410B-8057-9876261C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14853-3822-4E3C-A8A4-E174AEE7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0BE39-5EF1-42BD-91C8-445A3D2B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96AF-8264-4803-BB30-42F0BE83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61B7-9D97-4FEF-84F9-1DD19CCE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F7AC-51C9-4AE6-B7AC-A07D34CD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0B25-7524-4D2B-9C57-322A3B1D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6E14-0781-4A76-B6FE-B90AD3DA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039BE-EBDB-4751-A3A0-1C941A8E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AEF30-62E9-479C-921D-9C45D58C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EE53B-89DC-4D60-97DB-51D27ABB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EA2-EA5C-4EF8-BC13-F85A08F7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6DFAC-256E-41CD-91D0-033613F0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D2B7-67C0-4690-806E-F7AD022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68D45-A740-4785-8D12-197DA350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3D387-2214-497E-A43E-5141C18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861B3-8810-4900-B22D-D0BFCB19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BC06-EE98-4586-BC18-DD2FB639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A9904-8D05-4A21-A214-67C3AECE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7874-964D-4D23-B460-06CE355A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FDDFD-7233-411A-8D86-F0E82291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9DA9E-C53E-42D6-976C-618230E2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485-0742-4F84-A0B7-48C3E5C1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2F43D-2F75-4AD1-B226-23DA6DFF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1BC34-527F-4B9B-B799-A319FD02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C6A9C-E364-4F7F-875C-B1F1C1C5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FD303-FCC6-4115-8CCD-2A14C0DD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571B-3B9F-4447-90C2-8DC74337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D9259-9D4D-43CB-A87C-0FC4BAF4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7D80C-456F-4B9C-8B7F-451C8645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591A0-1175-4F57-B7B3-4D9BACEB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B22C7-CD02-4CCF-A6F1-46B451F1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10AF8-13C9-4967-AB76-057D0074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B4F-3029-486A-BE75-7EA70714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24775-187F-4B02-BA5C-5715C501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AF92B-7128-4C7C-852E-8B318911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774DC-A748-4662-9873-57BE5409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64CFE-4919-4FC9-AC0F-20D7701B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3B6BB-46DF-413C-B32D-E86A6736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629DA-049A-4A57-8EA1-3C2DB72A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23E5E-1092-4C22-BB49-81208604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8A95C-A4DE-4ED4-9F4F-0C72CDA0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44D02-AEEC-4AC1-9165-044D880A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2F8EA-05F8-4648-8B3F-D4E8820B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900-A696-4949-AF64-04C576BC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F45AF-E5BC-417D-91AF-A2A41CD5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CEB86-80B7-4D73-B83E-3EFAE424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A46EA-6565-4333-8AD3-5A1F2ED3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C6E40-A610-4553-8077-1AE68F34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E4333-0661-46DD-8F33-12B2DD5E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2760B-4F17-425A-9BB0-B6FEB9F7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474AF-1965-4C7D-A0AD-27938DC3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A2042-5B2E-4D00-99E4-C26FBF99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38427-4C50-4E6D-8042-8F88F6D0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BED3A-1247-4903-9847-C416954F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CD7-B59B-43FA-9A46-3BF9FEB0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BD982-5D7C-4B85-97CA-F6963E57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650AF-F9B1-4E57-97DF-EAE24CEB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01910-2A2C-41E3-827C-DCA7688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891A3D-5204-4FFD-A558-406D2D7B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17180B-A36C-4AB9-906B-F2E0C489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4D9D5-5E52-45C3-BDB6-BBEF0432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0716C-2B5C-4F01-8FB5-81F933F5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0932A-2ADA-4AF2-8312-732EAE42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EBF6B-D6B4-4DC1-ACD7-E669CEAD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52384-104E-4DD2-92C2-1E405EC8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E03-7BD9-4FA8-BAC8-C0E3184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DF2EB-2056-4502-BC75-41D4EBAC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752C1-3FE0-4080-8D34-4539E7C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52A76-C8CF-47B0-8036-F7E1B782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AB91D-C92A-485B-A2B4-A12A4F2A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53DFD-6CE5-427F-BCC7-E4E40938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55502-4C4F-405B-BD91-62F21173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9BE09-541E-46F1-B97E-1A0F7F92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2B16-4F72-4D8E-81B6-EEF6EC995B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4679-40B1-4F05-B2F3-83BA8EAAFA9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996E-795C-409F-AE62-863571A8BF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CA20-6A96-46CB-A0E5-86AF4EB012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6C94-1303-4141-8567-497E31D6C9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0171-7000-41BA-ADCD-4D43E83E33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8413-B72E-4986-9B31-7932421E0B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ECC6-0314-426D-A5D2-229F2D5475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3.xml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" Target="slide3.xml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9880" y="1963800"/>
            <a:ext cx="5334120" cy="48942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57909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Narrow"/>
              </a:rPr>
              <a:t>Техника безопасности в компьютерном классе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6" name="">
            <a:hlinkClick r:id="" action="ppaction://hlinkshowjump?jump=nextslide"/>
          </p:cNvPr>
          <p:cNvSpPr/>
          <p:nvPr/>
        </p:nvSpPr>
        <p:spPr>
          <a:xfrm>
            <a:off x="8307360" y="6129360"/>
            <a:ext cx="836640" cy="728640"/>
          </a:xfrm>
          <a:custGeom>
            <a:avLst/>
            <a:gdLst>
              <a:gd name="textAreaLeft" fmla="*/ 47160 w 836640"/>
              <a:gd name="textAreaRight" fmla="*/ 789480 w 83664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800" h="21600">
                <a:moveTo>
                  <a:pt x="0" y="0"/>
                </a:moveTo>
                <a:lnTo>
                  <a:pt x="24800" y="0"/>
                </a:lnTo>
                <a:lnTo>
                  <a:pt x="24800" y="21600"/>
                </a:lnTo>
                <a:lnTo>
                  <a:pt x="0" y="21600"/>
                </a:lnTo>
                <a:close/>
              </a:path>
              <a:path fill="lightenLess" w="24800" h="21600">
                <a:moveTo>
                  <a:pt x="0" y="0"/>
                </a:moveTo>
                <a:lnTo>
                  <a:pt x="24800" y="0"/>
                </a:lnTo>
                <a:lnTo>
                  <a:pt x="23400" y="1400"/>
                </a:lnTo>
                <a:lnTo>
                  <a:pt x="1400" y="1400"/>
                </a:lnTo>
                <a:close/>
              </a:path>
              <a:path fill="darken" w="24800" h="21600">
                <a:moveTo>
                  <a:pt x="24800" y="0"/>
                </a:moveTo>
                <a:lnTo>
                  <a:pt x="24800" y="21600"/>
                </a:lnTo>
                <a:lnTo>
                  <a:pt x="23400" y="20200"/>
                </a:lnTo>
                <a:lnTo>
                  <a:pt x="23400" y="1400"/>
                </a:lnTo>
                <a:close/>
              </a:path>
              <a:path fill="darkenLess" w="24800" h="21600">
                <a:moveTo>
                  <a:pt x="2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0" y="20200"/>
                </a:lnTo>
                <a:close/>
              </a:path>
              <a:path fill="lighten" w="2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00" h="21600">
                <a:moveTo>
                  <a:pt x="5394" y="3794"/>
                </a:moveTo>
                <a:lnTo>
                  <a:pt x="19406" y="10800"/>
                </a:lnTo>
                <a:lnTo>
                  <a:pt x="5394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имеры из жизн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огда нештатная ситуация поджидает вас в самом неожиданном месте. В комнате несколько дней пахло чем-то сладковато-карамельным. Оказалось, в настольную лампу с красивым пластмассовым плафоном вкрутили слишком «сильную» лампочку: 75 ватт вместо положенных 40. Жаль, что причина выяснилась, когда плафон, увы, расплавил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же знал, что в импортную пластмассу добавляют ароматизаторы, чтобы она приятно пахла при нагревани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8172360" y="5985000"/>
            <a:ext cx="971640" cy="873000"/>
          </a:xfrm>
          <a:custGeom>
            <a:avLst/>
            <a:gdLst>
              <a:gd name="textAreaLeft" fmla="*/ 56520 w 971640"/>
              <a:gd name="textAreaRight" fmla="*/ 915120 w 97164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4040" h="21600">
                <a:moveTo>
                  <a:pt x="0" y="0"/>
                </a:moveTo>
                <a:lnTo>
                  <a:pt x="24040" y="0"/>
                </a:lnTo>
                <a:lnTo>
                  <a:pt x="24040" y="21600"/>
                </a:lnTo>
                <a:lnTo>
                  <a:pt x="0" y="21600"/>
                </a:lnTo>
                <a:close/>
              </a:path>
              <a:path fill="lightenLess" w="24040" h="21600">
                <a:moveTo>
                  <a:pt x="0" y="0"/>
                </a:moveTo>
                <a:lnTo>
                  <a:pt x="24040" y="0"/>
                </a:lnTo>
                <a:lnTo>
                  <a:pt x="22640" y="1400"/>
                </a:lnTo>
                <a:lnTo>
                  <a:pt x="1400" y="1400"/>
                </a:lnTo>
                <a:close/>
              </a:path>
              <a:path fill="darken" w="24040" h="21600">
                <a:moveTo>
                  <a:pt x="24040" y="0"/>
                </a:moveTo>
                <a:lnTo>
                  <a:pt x="24040" y="21600"/>
                </a:lnTo>
                <a:lnTo>
                  <a:pt x="22640" y="20200"/>
                </a:lnTo>
                <a:lnTo>
                  <a:pt x="22640" y="1400"/>
                </a:lnTo>
                <a:close/>
              </a:path>
              <a:path fill="darkenLess" w="24040" h="21600">
                <a:moveTo>
                  <a:pt x="24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0" y="20200"/>
                </a:lnTo>
                <a:close/>
              </a:path>
              <a:path fill="lighten" w="24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0" h="21600">
                <a:moveTo>
                  <a:pt x="5013" y="3794"/>
                </a:moveTo>
                <a:lnTo>
                  <a:pt x="19026" y="10800"/>
                </a:lnTo>
                <a:lnTo>
                  <a:pt x="5013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Что все это значит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18043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 учащиеся должны изучить правила ТБ при работе в компьютерном классе и расписаться в специальной графе журнала по Т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Это поможет им сохранит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доровь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рогостоящую техни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шелек родит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можность дальнейшего обучения с использованием компьюте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>
            <a:hlinkClick r:id="" action="ppaction://hlinkshowjump?jump=nextslide"/>
          </p:cNvPr>
          <p:cNvSpPr/>
          <p:nvPr/>
        </p:nvSpPr>
        <p:spPr>
          <a:xfrm>
            <a:off x="8217000" y="5985000"/>
            <a:ext cx="927000" cy="873000"/>
          </a:xfrm>
          <a:custGeom>
            <a:avLst/>
            <a:gdLst>
              <a:gd name="textAreaLeft" fmla="*/ 56520 w 927000"/>
              <a:gd name="textAreaRight" fmla="*/ 870480 w 92700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2936" h="21600">
                <a:moveTo>
                  <a:pt x="0" y="0"/>
                </a:moveTo>
                <a:lnTo>
                  <a:pt x="22936" y="0"/>
                </a:lnTo>
                <a:lnTo>
                  <a:pt x="22936" y="21600"/>
                </a:lnTo>
                <a:lnTo>
                  <a:pt x="0" y="21600"/>
                </a:lnTo>
                <a:close/>
              </a:path>
              <a:path fill="lightenLess" w="22936" h="21600">
                <a:moveTo>
                  <a:pt x="0" y="0"/>
                </a:moveTo>
                <a:lnTo>
                  <a:pt x="22936" y="0"/>
                </a:lnTo>
                <a:lnTo>
                  <a:pt x="21536" y="1400"/>
                </a:lnTo>
                <a:lnTo>
                  <a:pt x="1400" y="1400"/>
                </a:lnTo>
                <a:close/>
              </a:path>
              <a:path fill="darken" w="22936" h="21600">
                <a:moveTo>
                  <a:pt x="22936" y="0"/>
                </a:moveTo>
                <a:lnTo>
                  <a:pt x="22936" y="21600"/>
                </a:lnTo>
                <a:lnTo>
                  <a:pt x="21536" y="20200"/>
                </a:lnTo>
                <a:lnTo>
                  <a:pt x="21536" y="1400"/>
                </a:lnTo>
                <a:close/>
              </a:path>
              <a:path fill="darkenLess" w="22936" h="21600">
                <a:moveTo>
                  <a:pt x="22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6" y="20200"/>
                </a:lnTo>
                <a:close/>
              </a:path>
              <a:path fill="lighten" w="22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6" h="21600">
                <a:moveTo>
                  <a:pt x="4461" y="3794"/>
                </a:moveTo>
                <a:lnTo>
                  <a:pt x="18474" y="10800"/>
                </a:lnTo>
                <a:lnTo>
                  <a:pt x="4461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412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Заключе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2" name=""/>
          <p:cNvSpPr/>
          <p:nvPr/>
        </p:nvSpPr>
        <p:spPr>
          <a:xfrm>
            <a:off x="250920" y="1398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щиеся, нарушившие правила ТБ в компьютерном классе, от выполнения практических работ отстраняются. Сведения о нарушении передаются администрации школы, которая принимает соответствующие решения о наказании, возмещении причиненного ущерба и возможности дальнейших занятий в компьютерном классе. Допуск таких учащихся к работе возможен только после повторного инструктажа и сдачи зачета по ТБ с соответствующей записью в журнале по Т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грубое нарушение ТБ учащиеся и их родители несут все виды ответственности, предусмотренные законами Р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nextslide"/>
          </p:cNvPr>
          <p:cNvSpPr/>
          <p:nvPr/>
        </p:nvSpPr>
        <p:spPr>
          <a:xfrm>
            <a:off x="8209080" y="5985000"/>
            <a:ext cx="934920" cy="873000"/>
          </a:xfrm>
          <a:custGeom>
            <a:avLst/>
            <a:gdLst>
              <a:gd name="textAreaLeft" fmla="*/ 56520 w 934920"/>
              <a:gd name="textAreaRight" fmla="*/ 878400 w 93492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3131" h="21600">
                <a:moveTo>
                  <a:pt x="0" y="0"/>
                </a:moveTo>
                <a:lnTo>
                  <a:pt x="23131" y="0"/>
                </a:lnTo>
                <a:lnTo>
                  <a:pt x="23131" y="21600"/>
                </a:lnTo>
                <a:lnTo>
                  <a:pt x="0" y="21600"/>
                </a:lnTo>
                <a:close/>
              </a:path>
              <a:path fill="lightenLess" w="23131" h="21600">
                <a:moveTo>
                  <a:pt x="0" y="0"/>
                </a:moveTo>
                <a:lnTo>
                  <a:pt x="23131" y="0"/>
                </a:lnTo>
                <a:lnTo>
                  <a:pt x="21731" y="1400"/>
                </a:lnTo>
                <a:lnTo>
                  <a:pt x="1400" y="1400"/>
                </a:lnTo>
                <a:close/>
              </a:path>
              <a:path fill="darken" w="23131" h="21600">
                <a:moveTo>
                  <a:pt x="23131" y="0"/>
                </a:moveTo>
                <a:lnTo>
                  <a:pt x="23131" y="21600"/>
                </a:lnTo>
                <a:lnTo>
                  <a:pt x="21731" y="20200"/>
                </a:lnTo>
                <a:lnTo>
                  <a:pt x="21731" y="1400"/>
                </a:lnTo>
                <a:close/>
              </a:path>
              <a:path fill="darkenLess" w="23131" h="21600">
                <a:moveTo>
                  <a:pt x="23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1" y="20200"/>
                </a:lnTo>
                <a:close/>
              </a:path>
              <a:path fill="lighten" w="23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1" h="21600">
                <a:moveTo>
                  <a:pt x="4559" y="3794"/>
                </a:moveTo>
                <a:lnTo>
                  <a:pt x="18572" y="10800"/>
                </a:lnTo>
                <a:lnTo>
                  <a:pt x="455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>
            <a:hlinkClick r:id="" action="ppaction://hlinkshowjump?jump=firstslide"/>
          </p:cNvPr>
          <p:cNvSpPr/>
          <p:nvPr/>
        </p:nvSpPr>
        <p:spPr>
          <a:xfrm>
            <a:off x="8101080" y="5877000"/>
            <a:ext cx="952560" cy="898560"/>
          </a:xfrm>
          <a:custGeom>
            <a:avLst/>
            <a:gdLst>
              <a:gd name="textAreaLeft" fmla="*/ 57960 w 952560"/>
              <a:gd name="textAreaRight" fmla="*/ 894600 w 95256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2898" h="21600">
                <a:moveTo>
                  <a:pt x="0" y="0"/>
                </a:moveTo>
                <a:lnTo>
                  <a:pt x="22898" y="0"/>
                </a:lnTo>
                <a:lnTo>
                  <a:pt x="22898" y="21600"/>
                </a:lnTo>
                <a:lnTo>
                  <a:pt x="0" y="21600"/>
                </a:lnTo>
                <a:close/>
              </a:path>
              <a:path fill="lightenLess" w="22898" h="21600">
                <a:moveTo>
                  <a:pt x="0" y="0"/>
                </a:moveTo>
                <a:lnTo>
                  <a:pt x="22898" y="0"/>
                </a:lnTo>
                <a:lnTo>
                  <a:pt x="21498" y="1400"/>
                </a:lnTo>
                <a:lnTo>
                  <a:pt x="1400" y="1400"/>
                </a:lnTo>
                <a:close/>
              </a:path>
              <a:path fill="darken" w="22898" h="21600">
                <a:moveTo>
                  <a:pt x="22898" y="0"/>
                </a:moveTo>
                <a:lnTo>
                  <a:pt x="22898" y="21600"/>
                </a:lnTo>
                <a:lnTo>
                  <a:pt x="21498" y="20200"/>
                </a:lnTo>
                <a:lnTo>
                  <a:pt x="21498" y="1400"/>
                </a:lnTo>
                <a:close/>
              </a:path>
              <a:path fill="darkenLess" w="22898" h="21600">
                <a:moveTo>
                  <a:pt x="22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98" y="20200"/>
                </a:lnTo>
                <a:close/>
              </a:path>
              <a:path fill="lighten" w="22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98" h="21600">
                <a:moveTo>
                  <a:pt x="11449" y="3837"/>
                </a:moveTo>
                <a:lnTo>
                  <a:pt x="14025" y="6448"/>
                </a:lnTo>
                <a:lnTo>
                  <a:pt x="14025" y="4707"/>
                </a:lnTo>
                <a:lnTo>
                  <a:pt x="15801" y="4707"/>
                </a:lnTo>
                <a:lnTo>
                  <a:pt x="15801" y="8224"/>
                </a:lnTo>
                <a:lnTo>
                  <a:pt x="18412" y="10800"/>
                </a:lnTo>
                <a:lnTo>
                  <a:pt x="16758" y="10800"/>
                </a:lnTo>
                <a:lnTo>
                  <a:pt x="16758" y="17989"/>
                </a:lnTo>
                <a:lnTo>
                  <a:pt x="6140" y="17989"/>
                </a:lnTo>
                <a:lnTo>
                  <a:pt x="6140" y="10800"/>
                </a:lnTo>
                <a:lnTo>
                  <a:pt x="4486" y="10800"/>
                </a:lnTo>
                <a:close/>
              </a:path>
              <a:path fill="darkenLess" w="22898" h="21600">
                <a:moveTo>
                  <a:pt x="14025" y="6448"/>
                </a:moveTo>
                <a:lnTo>
                  <a:pt x="14025" y="4707"/>
                </a:lnTo>
                <a:lnTo>
                  <a:pt x="15801" y="4707"/>
                </a:lnTo>
                <a:lnTo>
                  <a:pt x="15801" y="8224"/>
                </a:lnTo>
                <a:close/>
              </a:path>
              <a:path fill="darkenLess" w="22898" h="21600">
                <a:moveTo>
                  <a:pt x="10526" y="14299"/>
                </a:moveTo>
                <a:lnTo>
                  <a:pt x="12371" y="14299"/>
                </a:lnTo>
                <a:lnTo>
                  <a:pt x="12371" y="17989"/>
                </a:lnTo>
                <a:lnTo>
                  <a:pt x="16758" y="17989"/>
                </a:lnTo>
                <a:lnTo>
                  <a:pt x="16758" y="10800"/>
                </a:lnTo>
                <a:lnTo>
                  <a:pt x="6140" y="10800"/>
                </a:lnTo>
                <a:lnTo>
                  <a:pt x="6140" y="17989"/>
                </a:lnTo>
                <a:lnTo>
                  <a:pt x="10526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209680" y="7632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ресс-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9480" y="838080"/>
            <a:ext cx="853452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Comic Sans MS"/>
              </a:rPr>
              <a:t>Выбери один из предложенных вариантов от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При появлении признаков пожара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Воспользоваться огнетушителе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Отключить питание се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Сообщить учителю и организованно покинуть поме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9480" y="3119400"/>
            <a:ext cx="8534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Если у соседа по компьютеру не ладится работа,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4" action="ppaction://hlinksldjump"/>
              </a:rPr>
              <a:t>Оставить свой  компьютер и выполнить задание за нег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5" action="ppaction://hlinksldjump"/>
              </a:rPr>
              <a:t>Помочь совето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6" action="ppaction://hlinksldjump"/>
              </a:rPr>
              <a:t>Пожаловаться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4902120"/>
            <a:ext cx="8534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Если компьютер в процессе работы «зависает»,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7" action="ppaction://hlinksldjump"/>
              </a:rPr>
              <a:t>Сообщить учителю и сделать запись в регистрационном журнал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8" action="ppaction://hlinksldjump"/>
              </a:rPr>
              <a:t>Открыть крышку системного блока и «пошевелить» материнскую плат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9" action="ppaction://hlinksldjump"/>
              </a:rPr>
              <a:t>Проверить системные установ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1640" y="1142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охо!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нимательно изучи материал!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3390840" cy="556272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rId2" action="ppaction://hlinksldjump"/>
          </p:cNvPr>
          <p:cNvSpPr/>
          <p:nvPr/>
        </p:nvSpPr>
        <p:spPr>
          <a:xfrm>
            <a:off x="7991640" y="5772240"/>
            <a:ext cx="936360" cy="860400"/>
          </a:xfrm>
          <a:custGeom>
            <a:avLst/>
            <a:gdLst>
              <a:gd name="textAreaLeft" fmla="*/ 55440 w 936360"/>
              <a:gd name="textAreaRight" fmla="*/ 880920 w 936360"/>
              <a:gd name="textAreaTop" fmla="*/ 55440 h 860400"/>
              <a:gd name="textAreaBottom" fmla="*/ 804960 h 860400"/>
            </a:gdLst>
            <a:ahLst/>
            <a:rect l="textAreaLeft" t="textAreaTop" r="textAreaRight" b="textAreaBottom"/>
            <a:pathLst>
              <a:path w="23506" h="21600">
                <a:moveTo>
                  <a:pt x="0" y="0"/>
                </a:moveTo>
                <a:lnTo>
                  <a:pt x="23506" y="0"/>
                </a:lnTo>
                <a:lnTo>
                  <a:pt x="23506" y="21600"/>
                </a:lnTo>
                <a:lnTo>
                  <a:pt x="0" y="21600"/>
                </a:lnTo>
                <a:close/>
              </a:path>
              <a:path fill="lightenLess" w="23506" h="21600">
                <a:moveTo>
                  <a:pt x="0" y="0"/>
                </a:moveTo>
                <a:lnTo>
                  <a:pt x="23506" y="0"/>
                </a:lnTo>
                <a:lnTo>
                  <a:pt x="22106" y="1400"/>
                </a:lnTo>
                <a:lnTo>
                  <a:pt x="1400" y="1400"/>
                </a:lnTo>
                <a:close/>
              </a:path>
              <a:path fill="darken" w="23506" h="21600">
                <a:moveTo>
                  <a:pt x="23506" y="0"/>
                </a:moveTo>
                <a:lnTo>
                  <a:pt x="23506" y="21600"/>
                </a:lnTo>
                <a:lnTo>
                  <a:pt x="22106" y="20200"/>
                </a:lnTo>
                <a:lnTo>
                  <a:pt x="22106" y="1400"/>
                </a:lnTo>
                <a:close/>
              </a:path>
              <a:path fill="darkenLess" w="23506" h="21600">
                <a:moveTo>
                  <a:pt x="23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06" y="20200"/>
                </a:lnTo>
                <a:close/>
              </a:path>
              <a:path fill="lighten" w="23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06" h="21600">
                <a:moveTo>
                  <a:pt x="1175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506" h="21600">
                <a:moveTo>
                  <a:pt x="12858" y="14281"/>
                </a:moveTo>
                <a:lnTo>
                  <a:pt x="12858" y="12323"/>
                </a:lnTo>
                <a:cubicBezTo>
                  <a:pt x="12858" y="11496"/>
                  <a:pt x="13189" y="10800"/>
                  <a:pt x="13790" y="10800"/>
                </a:cubicBezTo>
                <a:cubicBezTo>
                  <a:pt x="14921" y="10800"/>
                  <a:pt x="15818" y="9434"/>
                  <a:pt x="15818" y="7849"/>
                </a:cubicBezTo>
                <a:cubicBezTo>
                  <a:pt x="15818" y="5534"/>
                  <a:pt x="13964" y="3794"/>
                  <a:pt x="11753" y="3794"/>
                </a:cubicBezTo>
                <a:cubicBezTo>
                  <a:pt x="9542" y="3794"/>
                  <a:pt x="7871" y="5534"/>
                  <a:pt x="7871" y="7849"/>
                </a:cubicBezTo>
                <a:lnTo>
                  <a:pt x="9725" y="7849"/>
                </a:lnTo>
                <a:cubicBezTo>
                  <a:pt x="9725" y="6709"/>
                  <a:pt x="10648" y="5821"/>
                  <a:pt x="11753" y="5821"/>
                </a:cubicBezTo>
                <a:cubicBezTo>
                  <a:pt x="12858" y="5821"/>
                  <a:pt x="13790" y="6709"/>
                  <a:pt x="13790" y="7849"/>
                </a:cubicBezTo>
                <a:cubicBezTo>
                  <a:pt x="13790" y="8589"/>
                  <a:pt x="13320" y="9320"/>
                  <a:pt x="12858" y="9320"/>
                </a:cubicBezTo>
                <a:cubicBezTo>
                  <a:pt x="11753" y="9320"/>
                  <a:pt x="10648" y="10800"/>
                  <a:pt x="10648" y="12323"/>
                </a:cubicBezTo>
                <a:lnTo>
                  <a:pt x="10648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лодец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твет верен!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3913200" cy="4113360"/>
          </a:xfrm>
          <a:prstGeom prst="rect">
            <a:avLst/>
          </a:prstGeom>
          <a:ln w="0">
            <a:noFill/>
          </a:ln>
        </p:spPr>
      </p:pic>
      <p:sp>
        <p:nvSpPr>
          <p:cNvPr id="714" name="">
            <a:hlinkClick r:id="rId3" action="ppaction://hlinksldjump"/>
          </p:cNvPr>
          <p:cNvSpPr/>
          <p:nvPr/>
        </p:nvSpPr>
        <p:spPr>
          <a:xfrm>
            <a:off x="8029440" y="5823000"/>
            <a:ext cx="971640" cy="882720"/>
          </a:xfrm>
          <a:custGeom>
            <a:avLst/>
            <a:gdLst>
              <a:gd name="textAreaLeft" fmla="*/ 56880 w 971640"/>
              <a:gd name="textAreaRight" fmla="*/ 914760 w 971640"/>
              <a:gd name="textAreaTop" fmla="*/ 56880 h 882720"/>
              <a:gd name="textAreaBottom" fmla="*/ 825840 h 882720"/>
            </a:gdLst>
            <a:ahLst/>
            <a:rect l="textAreaLeft" t="textAreaTop" r="textAreaRight" b="textAreaBottom"/>
            <a:pathLst>
              <a:path w="23775" h="21600">
                <a:moveTo>
                  <a:pt x="0" y="0"/>
                </a:moveTo>
                <a:lnTo>
                  <a:pt x="23775" y="0"/>
                </a:lnTo>
                <a:lnTo>
                  <a:pt x="23775" y="21600"/>
                </a:lnTo>
                <a:lnTo>
                  <a:pt x="0" y="21600"/>
                </a:lnTo>
                <a:close/>
              </a:path>
              <a:path fill="lightenLess" w="23775" h="21600">
                <a:moveTo>
                  <a:pt x="0" y="0"/>
                </a:moveTo>
                <a:lnTo>
                  <a:pt x="23775" y="0"/>
                </a:lnTo>
                <a:lnTo>
                  <a:pt x="22375" y="1400"/>
                </a:lnTo>
                <a:lnTo>
                  <a:pt x="1400" y="1400"/>
                </a:lnTo>
                <a:close/>
              </a:path>
              <a:path fill="darken" w="23775" h="21600">
                <a:moveTo>
                  <a:pt x="23775" y="0"/>
                </a:moveTo>
                <a:lnTo>
                  <a:pt x="23775" y="21600"/>
                </a:lnTo>
                <a:lnTo>
                  <a:pt x="22375" y="20200"/>
                </a:lnTo>
                <a:lnTo>
                  <a:pt x="22375" y="1400"/>
                </a:lnTo>
                <a:close/>
              </a:path>
              <a:path fill="darkenLess" w="23775" h="21600">
                <a:moveTo>
                  <a:pt x="23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5" y="20200"/>
                </a:lnTo>
                <a:close/>
              </a:path>
              <a:path fill="lighten" w="23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5" h="21600">
                <a:moveTo>
                  <a:pt x="1188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75" h="21600">
                <a:moveTo>
                  <a:pt x="12993" y="14281"/>
                </a:moveTo>
                <a:lnTo>
                  <a:pt x="12993" y="12323"/>
                </a:lnTo>
                <a:cubicBezTo>
                  <a:pt x="12993" y="11496"/>
                  <a:pt x="13324" y="10800"/>
                  <a:pt x="13924" y="10800"/>
                </a:cubicBezTo>
                <a:cubicBezTo>
                  <a:pt x="15056" y="10800"/>
                  <a:pt x="15952" y="9434"/>
                  <a:pt x="15952" y="7849"/>
                </a:cubicBezTo>
                <a:cubicBezTo>
                  <a:pt x="15952" y="5534"/>
                  <a:pt x="14098" y="3794"/>
                  <a:pt x="11887" y="3794"/>
                </a:cubicBezTo>
                <a:cubicBezTo>
                  <a:pt x="9677" y="3794"/>
                  <a:pt x="8006" y="5534"/>
                  <a:pt x="8006" y="7849"/>
                </a:cubicBezTo>
                <a:lnTo>
                  <a:pt x="9860" y="7849"/>
                </a:lnTo>
                <a:cubicBezTo>
                  <a:pt x="9860" y="6709"/>
                  <a:pt x="10782" y="5821"/>
                  <a:pt x="11887" y="5821"/>
                </a:cubicBezTo>
                <a:cubicBezTo>
                  <a:pt x="12993" y="5821"/>
                  <a:pt x="13924" y="6709"/>
                  <a:pt x="13924" y="7849"/>
                </a:cubicBezTo>
                <a:cubicBezTo>
                  <a:pt x="13924" y="8589"/>
                  <a:pt x="13454" y="9320"/>
                  <a:pt x="12993" y="9320"/>
                </a:cubicBezTo>
                <a:cubicBezTo>
                  <a:pt x="11887" y="9320"/>
                  <a:pt x="10782" y="10800"/>
                  <a:pt x="10782" y="12323"/>
                </a:cubicBezTo>
                <a:lnTo>
                  <a:pt x="10782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7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3693960" cy="227016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Введе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560" y="25142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чему актуален вопрос о технике безопасности в компьютерном класс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В кабинете вычислительной техники установлена дорогостоящая, сложная и требующая осторожного и аккуратного обращения аппаратура — компьютеры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принтер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ы и </a:t>
            </a: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другие технические средства.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Факты нахождения в кабинете большого количества техники, питающейся от электросети, с одновременным присутствием  школьников являются достаточными для выдвижения повышенных требований к безопасности такого поме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</p:cNvPr>
          <p:cNvSpPr/>
          <p:nvPr/>
        </p:nvSpPr>
        <p:spPr>
          <a:xfrm>
            <a:off x="8352000" y="605808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4175" y="3794"/>
                </a:moveTo>
                <a:lnTo>
                  <a:pt x="18187" y="10800"/>
                </a:lnTo>
                <a:lnTo>
                  <a:pt x="4175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6962760" y="3724200"/>
            <a:ext cx="2181240" cy="31338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77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емы для обсуждения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Правила поведения в компьютерном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Правила электро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Правила 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576360" y="3681360"/>
            <a:ext cx="3635640" cy="344952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поведения в компьютерном классе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6" name=""/>
          <p:cNvSpPr/>
          <p:nvPr/>
        </p:nvSpPr>
        <p:spPr>
          <a:xfrm>
            <a:off x="1727280" y="3097080"/>
            <a:ext cx="741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ходите в кабинет спокойно, не торопясь, не толкаясь, не задевая столы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анимайте отведенное вам мест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ережно обращайтесь с технико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 кладите книги, тетради на монитор и клавиатур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пишитесь в журнал регистр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чинайте работу только по указанию преподава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лавно нажимайте на клавиши, не допуская резких ударов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е вставайте со своих мест, когда в кабинет входят посетител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1600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Чем отличаются правила поведения в компьютерном классе от правил поведения в школе?</a:t>
            </a:r>
            <a:br>
              <a:rPr sz="2000"/>
            </a:br>
            <a:r>
              <a:rPr b="1" lang="ru-RU" sz="2000" spc="-1" strike="noStrike">
                <a:solidFill>
                  <a:srgbClr val="ff9966"/>
                </a:solidFill>
                <a:latin typeface="Times New Roman"/>
              </a:rPr>
              <a:t>Правила поведения в компьютерном классе не противоречат общим правилам поведения в школе, но имеют ряд существенных добавлен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3889"/>
                </a:moveTo>
                <a:lnTo>
                  <a:pt x="17806" y="10895"/>
                </a:lnTo>
                <a:lnTo>
                  <a:pt x="3794" y="17901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97000" y="-360"/>
            <a:ext cx="5032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Забота о здоровь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0" y="1042560"/>
            <a:ext cx="8856720" cy="490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едует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работать на расстоянии 60—70 с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т экрана монитора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, допустимо не менее 50 см, соблюдая правильную посадку, не сутулясь, не наклоняяс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чащимся, имеющим очки для постоянного ношения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ледует работать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в очках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свещен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 должно быть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достаточ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ельзя работат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при плохом самочувстви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ожение при работе должно быть таким, чтобы линия взора приходилась в центр экрана. Не следует наклоняться и сутулиться при пользовании клавиатурой и чтении с экрана монито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ремя непрерывной работы за компьютером не должно превышать 3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>
            <a:hlinkClick r:id="rId1" action="ppaction://hlinksldjump"/>
          </p:cNvPr>
          <p:cNvSpPr/>
          <p:nvPr/>
        </p:nvSpPr>
        <p:spPr>
          <a:xfrm>
            <a:off x="8209080" y="5950080"/>
            <a:ext cx="900000" cy="873000"/>
          </a:xfrm>
          <a:custGeom>
            <a:avLst/>
            <a:gdLst>
              <a:gd name="textAreaLeft" fmla="*/ 56520 w 900000"/>
              <a:gd name="textAreaRight" fmla="*/ 843480 w 90000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2268" h="21600">
                <a:moveTo>
                  <a:pt x="0" y="0"/>
                </a:moveTo>
                <a:lnTo>
                  <a:pt x="22268" y="0"/>
                </a:lnTo>
                <a:lnTo>
                  <a:pt x="22268" y="21600"/>
                </a:lnTo>
                <a:lnTo>
                  <a:pt x="0" y="21600"/>
                </a:lnTo>
                <a:close/>
              </a:path>
              <a:path fill="lightenLess" w="22268" h="21600">
                <a:moveTo>
                  <a:pt x="0" y="0"/>
                </a:moveTo>
                <a:lnTo>
                  <a:pt x="22268" y="0"/>
                </a:lnTo>
                <a:lnTo>
                  <a:pt x="20868" y="1400"/>
                </a:lnTo>
                <a:lnTo>
                  <a:pt x="1400" y="1400"/>
                </a:lnTo>
                <a:close/>
              </a:path>
              <a:path fill="darken" w="22268" h="21600">
                <a:moveTo>
                  <a:pt x="22268" y="0"/>
                </a:moveTo>
                <a:lnTo>
                  <a:pt x="22268" y="21600"/>
                </a:lnTo>
                <a:lnTo>
                  <a:pt x="20868" y="20200"/>
                </a:lnTo>
                <a:lnTo>
                  <a:pt x="20868" y="1400"/>
                </a:lnTo>
                <a:close/>
              </a:path>
              <a:path fill="darkenLess" w="22268" h="21600">
                <a:moveTo>
                  <a:pt x="2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68" y="20200"/>
                </a:lnTo>
                <a:close/>
              </a:path>
              <a:path fill="lighten" w="2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119640" y="5977080"/>
            <a:ext cx="1513080" cy="944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236160 h 944280"/>
              <a:gd name="textAreaBottom" fmla="*/ 708480 h 944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нП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2"/>
          <a:srcRect l="15428" t="13841" r="3156" b="40692"/>
          <a:stretch/>
        </p:blipFill>
        <p:spPr>
          <a:xfrm>
            <a:off x="3311640" y="5938920"/>
            <a:ext cx="21952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laptop"/>
          <p:cNvSpPr/>
          <p:nvPr/>
        </p:nvSpPr>
        <p:spPr>
          <a:xfrm>
            <a:off x="3402000" y="3249720"/>
            <a:ext cx="1809720" cy="1361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520" y="208548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На рабочем мест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щегося в компьютерном классе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размещены составные части ПЭВМ — системный блок, клавиатура и монитор. Во время работы лучевая трубка монитора работает под высоким напряжением. Неправильное обращение с аппаратурой, кабелями и мониторами может привести к тяжелым поражениям электрическим током, вызвать загорание аппарату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ower"/>
          <p:cNvSpPr/>
          <p:nvPr/>
        </p:nvSpPr>
        <p:spPr>
          <a:xfrm>
            <a:off x="297000" y="324000"/>
            <a:ext cx="90468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rinter2"/>
          <p:cNvSpPr/>
          <p:nvPr/>
        </p:nvSpPr>
        <p:spPr>
          <a:xfrm>
            <a:off x="297000" y="5724360"/>
            <a:ext cx="180972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электробезопасност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9" name="scanner1"/>
          <p:cNvSpPr/>
          <p:nvPr/>
        </p:nvSpPr>
        <p:spPr>
          <a:xfrm>
            <a:off x="7047000" y="728640"/>
            <a:ext cx="180972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nextslide"/>
          </p:cNvPr>
          <p:cNvSpPr/>
          <p:nvPr/>
        </p:nvSpPr>
        <p:spPr>
          <a:xfrm>
            <a:off x="8209080" y="5985000"/>
            <a:ext cx="927000" cy="836640"/>
          </a:xfrm>
          <a:custGeom>
            <a:avLst/>
            <a:gdLst>
              <a:gd name="textAreaLeft" fmla="*/ 54000 w 927000"/>
              <a:gd name="textAreaRight" fmla="*/ 873000 w 927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932" h="21600">
                <a:moveTo>
                  <a:pt x="0" y="0"/>
                </a:moveTo>
                <a:lnTo>
                  <a:pt x="23932" y="0"/>
                </a:lnTo>
                <a:lnTo>
                  <a:pt x="23932" y="21600"/>
                </a:lnTo>
                <a:lnTo>
                  <a:pt x="0" y="21600"/>
                </a:lnTo>
                <a:close/>
              </a:path>
              <a:path fill="lightenLess" w="23932" h="21600">
                <a:moveTo>
                  <a:pt x="0" y="0"/>
                </a:moveTo>
                <a:lnTo>
                  <a:pt x="23932" y="0"/>
                </a:lnTo>
                <a:lnTo>
                  <a:pt x="22532" y="1400"/>
                </a:lnTo>
                <a:lnTo>
                  <a:pt x="1400" y="1400"/>
                </a:lnTo>
                <a:close/>
              </a:path>
              <a:path fill="darken" w="23932" h="21600">
                <a:moveTo>
                  <a:pt x="23932" y="0"/>
                </a:moveTo>
                <a:lnTo>
                  <a:pt x="23932" y="21600"/>
                </a:lnTo>
                <a:lnTo>
                  <a:pt x="22532" y="20200"/>
                </a:lnTo>
                <a:lnTo>
                  <a:pt x="22532" y="1400"/>
                </a:lnTo>
                <a:close/>
              </a:path>
              <a:path fill="darkenLess" w="23932" h="21600">
                <a:moveTo>
                  <a:pt x="23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32" y="20200"/>
                </a:lnTo>
                <a:close/>
              </a:path>
              <a:path fill="lighten" w="23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32" h="21600">
                <a:moveTo>
                  <a:pt x="4959" y="3794"/>
                </a:moveTo>
                <a:lnTo>
                  <a:pt x="18972" y="10800"/>
                </a:lnTo>
                <a:lnTo>
                  <a:pt x="495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4770360"/>
            <a:ext cx="2771640" cy="208764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трого запрещается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47280" y="1052640"/>
            <a:ext cx="9186840" cy="37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ть влажными и грязными ру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ходить в рабочую зону (за компьютер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трогать разъемы соединительных каб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саться к питающим проводам и устройствам зазем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саться к экрану и к тыльной стороне монитора, клавиа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ключать и отключать аппаратуру без указания преподава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самостоятельно устр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ть неисправнос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в работе аппаратур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>
            <a:hlinkClick r:id="rId2" action="ppaction://hlinksldjump"/>
          </p:cNvPr>
          <p:cNvSpPr/>
          <p:nvPr/>
        </p:nvSpPr>
        <p:spPr>
          <a:xfrm>
            <a:off x="8101080" y="5877000"/>
            <a:ext cx="971640" cy="936720"/>
          </a:xfrm>
          <a:custGeom>
            <a:avLst/>
            <a:gdLst>
              <a:gd name="textAreaLeft" fmla="*/ 60480 w 971640"/>
              <a:gd name="textAreaRight" fmla="*/ 911160 w 971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2405" h="21600">
                <a:moveTo>
                  <a:pt x="0" y="0"/>
                </a:moveTo>
                <a:lnTo>
                  <a:pt x="22405" y="0"/>
                </a:lnTo>
                <a:lnTo>
                  <a:pt x="22405" y="21600"/>
                </a:lnTo>
                <a:lnTo>
                  <a:pt x="0" y="21600"/>
                </a:lnTo>
                <a:close/>
              </a:path>
              <a:path fill="lightenLess" w="22405" h="21600">
                <a:moveTo>
                  <a:pt x="0" y="0"/>
                </a:moveTo>
                <a:lnTo>
                  <a:pt x="22405" y="0"/>
                </a:lnTo>
                <a:lnTo>
                  <a:pt x="21005" y="1400"/>
                </a:lnTo>
                <a:lnTo>
                  <a:pt x="1400" y="1400"/>
                </a:lnTo>
                <a:close/>
              </a:path>
              <a:path fill="darken" w="22405" h="21600">
                <a:moveTo>
                  <a:pt x="22405" y="0"/>
                </a:moveTo>
                <a:lnTo>
                  <a:pt x="22405" y="21600"/>
                </a:lnTo>
                <a:lnTo>
                  <a:pt x="21005" y="20200"/>
                </a:lnTo>
                <a:lnTo>
                  <a:pt x="21005" y="1400"/>
                </a:lnTo>
                <a:close/>
              </a:path>
              <a:path fill="darkenLess" w="22405" h="21600">
                <a:moveTo>
                  <a:pt x="2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5" y="20200"/>
                </a:lnTo>
                <a:close/>
              </a:path>
              <a:path fill="lighten" w="2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пожарной безопасност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6" name=""/>
          <p:cNvSpPr/>
          <p:nvPr/>
        </p:nvSpPr>
        <p:spPr>
          <a:xfrm>
            <a:off x="264960" y="2210760"/>
            <a:ext cx="844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ВО ИЗБЕЖАНИЕ ПОЖАРА НЕОБХОДИМО СТРОГО СОБЛЮДАТЬ СЛЕДУЮЩИЕ ТРЕБОВА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стоянно поддерживать порядок в рабочих помещениях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держать в чистоте свое рабочее место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накапливать ненужных материал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загромождать проходы, выход, коридоры и доступ к средствам пожаротуш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ширина минимально допустимых проход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между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борудованием должна быть не менее 1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8128080" y="5913360"/>
            <a:ext cx="1015920" cy="944640"/>
          </a:xfrm>
          <a:custGeom>
            <a:avLst/>
            <a:gdLst>
              <a:gd name="textAreaLeft" fmla="*/ 61200 w 1015920"/>
              <a:gd name="textAreaRight" fmla="*/ 954720 w 1015920"/>
              <a:gd name="textAreaTop" fmla="*/ 61200 h 944640"/>
              <a:gd name="textAreaBottom" fmla="*/ 883440 h 944640"/>
            </a:gdLst>
            <a:ahLst/>
            <a:rect l="textAreaLeft" t="textAreaTop" r="textAreaRight" b="textAreaBottom"/>
            <a:pathLst>
              <a:path w="23229" h="21600">
                <a:moveTo>
                  <a:pt x="0" y="0"/>
                </a:moveTo>
                <a:lnTo>
                  <a:pt x="23229" y="0"/>
                </a:lnTo>
                <a:lnTo>
                  <a:pt x="23229" y="21600"/>
                </a:lnTo>
                <a:lnTo>
                  <a:pt x="0" y="21600"/>
                </a:lnTo>
                <a:close/>
              </a:path>
              <a:path fill="lightenLess" w="23229" h="21600">
                <a:moveTo>
                  <a:pt x="0" y="0"/>
                </a:moveTo>
                <a:lnTo>
                  <a:pt x="23229" y="0"/>
                </a:lnTo>
                <a:lnTo>
                  <a:pt x="21829" y="1400"/>
                </a:lnTo>
                <a:lnTo>
                  <a:pt x="1400" y="1400"/>
                </a:lnTo>
                <a:close/>
              </a:path>
              <a:path fill="darken" w="23229" h="21600">
                <a:moveTo>
                  <a:pt x="23229" y="0"/>
                </a:moveTo>
                <a:lnTo>
                  <a:pt x="23229" y="21600"/>
                </a:lnTo>
                <a:lnTo>
                  <a:pt x="21829" y="20200"/>
                </a:lnTo>
                <a:lnTo>
                  <a:pt x="21829" y="1400"/>
                </a:lnTo>
                <a:close/>
              </a:path>
              <a:path fill="darkenLess" w="23229" h="21600">
                <a:moveTo>
                  <a:pt x="23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29" y="20200"/>
                </a:lnTo>
                <a:close/>
              </a:path>
              <a:path fill="lighten" w="23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29" h="21600">
                <a:moveTo>
                  <a:pt x="4608" y="3794"/>
                </a:moveTo>
                <a:lnTo>
                  <a:pt x="18621" y="10800"/>
                </a:lnTo>
                <a:lnTo>
                  <a:pt x="4608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6335640" y="138240"/>
            <a:ext cx="2529000" cy="20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7632720" y="1376280"/>
            <a:ext cx="1052640" cy="136836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6767640" y="2349360"/>
            <a:ext cx="2376360" cy="182880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0" y="4105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КАТЕГОРИЧЕСКИ ЗАПРЕЩАЕ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урить в помеще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льзоваться зажигалко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ешать одежду и класть горючие предметы на электрощиты, электропроводку и другое электрооборудов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>
            <a:hlinkClick r:id="rId3" action="ppaction://hlinksldjump"/>
          </p:cNvPr>
          <p:cNvSpPr/>
          <p:nvPr/>
        </p:nvSpPr>
        <p:spPr>
          <a:xfrm>
            <a:off x="8101080" y="5877000"/>
            <a:ext cx="1008000" cy="944640"/>
          </a:xfrm>
          <a:custGeom>
            <a:avLst/>
            <a:gdLst>
              <a:gd name="textAreaLeft" fmla="*/ 61200 w 1008000"/>
              <a:gd name="textAreaRight" fmla="*/ 946800 w 1008000"/>
              <a:gd name="textAreaTop" fmla="*/ 61200 h 944640"/>
              <a:gd name="textAreaBottom" fmla="*/ 883440 h 944640"/>
            </a:gdLst>
            <a:ahLst/>
            <a:rect l="textAreaLeft" t="textAreaTop" r="textAreaRight" b="textAreaBottom"/>
            <a:pathLst>
              <a:path w="23048" h="21600">
                <a:moveTo>
                  <a:pt x="0" y="0"/>
                </a:moveTo>
                <a:lnTo>
                  <a:pt x="23048" y="0"/>
                </a:lnTo>
                <a:lnTo>
                  <a:pt x="23048" y="21600"/>
                </a:lnTo>
                <a:lnTo>
                  <a:pt x="0" y="21600"/>
                </a:lnTo>
                <a:close/>
              </a:path>
              <a:path fill="lightenLess" w="23048" h="21600">
                <a:moveTo>
                  <a:pt x="0" y="0"/>
                </a:moveTo>
                <a:lnTo>
                  <a:pt x="23048" y="0"/>
                </a:lnTo>
                <a:lnTo>
                  <a:pt x="21648" y="1400"/>
                </a:lnTo>
                <a:lnTo>
                  <a:pt x="1400" y="1400"/>
                </a:lnTo>
                <a:close/>
              </a:path>
              <a:path fill="darken" w="23048" h="21600">
                <a:moveTo>
                  <a:pt x="23048" y="0"/>
                </a:moveTo>
                <a:lnTo>
                  <a:pt x="23048" y="21600"/>
                </a:lnTo>
                <a:lnTo>
                  <a:pt x="21648" y="20200"/>
                </a:lnTo>
                <a:lnTo>
                  <a:pt x="21648" y="1400"/>
                </a:lnTo>
                <a:close/>
              </a:path>
              <a:path fill="darkenLess" w="23048" h="21600">
                <a:moveTo>
                  <a:pt x="23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8" y="20200"/>
                </a:lnTo>
                <a:close/>
              </a:path>
              <a:path fill="lighten" w="23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66920" y="6093000"/>
            <a:ext cx="2449800" cy="765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Подробн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000" y="36468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В НЕШТАТНЫХ СИТУАЦИЯХ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 нештатных ситуациях, при нагревании  устройств, появлении постороннего запаха, звука необходимо немедленно поставить в известность преподавателя и в случае необходимости организованно покинуть помещ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еры по ликвидации ситуации (отключать напряжение, вызывать пожарную команду по телефону 01) должно принимать лицо, ответственное за пожарную безопас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чук</cp:lastModifiedBy>
  <dcterms:modified xsi:type="dcterms:W3CDTF">2005-09-04T18:47:50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