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332-FBAA-479B-B88D-ECFDEF09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086-5A03-45B2-A6D1-D1E35E92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717-1612-4EC1-9D75-FC7F794D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A07-D6D1-4B33-836C-B39963E1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F7C8-7D35-41EB-A616-78570BC5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E3B8-8B81-4EBF-8297-E8BDE034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9354-83EA-4F42-9FBA-826FECE0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8563-4423-421A-A329-655865F7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82D1-DB0D-4A6A-AFF0-061036CF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AA3F-3E40-476C-B069-E8E88AD0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A25D-20BE-4E2B-AD8C-8955D07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AA4-D2A2-4401-A385-F112AD7E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5D3B-F308-438E-93AF-5B729E2A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C16B-D1D8-411A-B247-C006D5E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2BDD-F313-4BED-8940-8B33E480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8A4D-0210-4CD2-A87D-0F1A4A0C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93D2-7F3D-4564-9434-0DD1D5FC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4B7-09C6-466B-A99E-F433ED26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08E-0C9C-49E2-84CF-83C15F24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056-9C10-4617-B23A-2795F8A8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319-CAB8-4779-8C3C-E24F517E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6C3-B0F1-40E6-8FE7-C1DA329C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666-A335-4494-B6D7-0CC821C4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B48-31FB-4E3A-8F08-4CB08D5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6B0E-6FAB-49AC-A6AD-0E83FE5E7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61D2-6FA3-4E8D-A781-95F9E4D31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2556000" cy="248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30760" y="1341360"/>
            <a:ext cx="3513240" cy="5516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омпьютер и здоровь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360" y="3962160"/>
            <a:ext cx="7181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ебный комплекс по информатике и информационным технологи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72360" y="587700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3916"/>
                </a:moveTo>
                <a:lnTo>
                  <a:pt x="17806" y="10922"/>
                </a:lnTo>
                <a:lnTo>
                  <a:pt x="3794" y="1792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580536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7615"/>
                </a:moveTo>
                <a:lnTo>
                  <a:pt x="7301" y="7615"/>
                </a:lnTo>
                <a:lnTo>
                  <a:pt x="7301" y="12950"/>
                </a:lnTo>
                <a:cubicBezTo>
                  <a:pt x="7301" y="13873"/>
                  <a:pt x="8102" y="14604"/>
                  <a:pt x="9138" y="14604"/>
                </a:cubicBezTo>
                <a:lnTo>
                  <a:pt x="10800" y="14604"/>
                </a:lnTo>
                <a:cubicBezTo>
                  <a:pt x="11836" y="14604"/>
                  <a:pt x="12636" y="13873"/>
                  <a:pt x="12636" y="12950"/>
                </a:cubicBezTo>
                <a:lnTo>
                  <a:pt x="12636" y="7615"/>
                </a:lnTo>
                <a:lnTo>
                  <a:pt x="10800" y="7615"/>
                </a:lnTo>
                <a:lnTo>
                  <a:pt x="14308" y="4107"/>
                </a:lnTo>
                <a:lnTo>
                  <a:pt x="17981" y="7615"/>
                </a:lnTo>
                <a:lnTo>
                  <a:pt x="16144" y="7615"/>
                </a:lnTo>
                <a:lnTo>
                  <a:pt x="16144" y="12950"/>
                </a:lnTo>
                <a:cubicBezTo>
                  <a:pt x="16144" y="15718"/>
                  <a:pt x="13568" y="18277"/>
                  <a:pt x="10800" y="18277"/>
                </a:cubicBezTo>
                <a:lnTo>
                  <a:pt x="9138" y="18277"/>
                </a:lnTo>
                <a:cubicBezTo>
                  <a:pt x="6370" y="18277"/>
                  <a:pt x="3794" y="15718"/>
                  <a:pt x="3794" y="1295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озврат 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ызвавшую презент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57340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лено по Санитарным правилам и нормам (СанПи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бочий компьютерный сто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716436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17080" y="6093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0920" y="6093000"/>
            <a:ext cx="1728720" cy="62064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930400" cy="453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88280" y="1297080"/>
            <a:ext cx="24048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ремя непрерывной работы за компью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Компьютер и утомление школь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Компьютер и з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Освещение рабочего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Размещение нескольких компьют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Конструктивные особенности рабочего крес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Рабочий компьютерный ст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 время работы за компьютером лучевая трубка видеомонитора является источником электромагнитного излучения, которое при работе вблизи экрана неблагоприятно действует на зрение, вызывает усталость и снижение работоспособ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2673360" cy="2673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Время непрерывной работы за компьютер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351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прерывная длительность занятий за компьютером не должна превышат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 классов (6 лет) - 1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I - V классов - 1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 - VII классов - 2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II - IX классов -2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X - XI класс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первом часу учебных занятий  - 30 мину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втором часу - 20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738600" cy="3286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Компьютер и утомление школьн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общего утомления, улучшения функционального состояния нервной, сердечно-сосудистой, дыхательной систем, а также мышц плечевого пояса, рук, спины, шеи и ног, следует проводить физкультпау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локального утомления индивидуально или организованно должны использоваться упражнения целенаправленного назначения под контролем уч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ы упражнений следует менять через 2 - 3 нед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753080" cy="4752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3008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ля уменьшения зрительного напряжения важно следить за тем, чтобы изображение на экране компьютера было четким и контрастным. Необходимо также исключить возможность засветки экрана, поскольку блики снижают контрастность и яркость изобр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ран видеомонитора должен находиться от глаз пользователя на расстоянии 600 - 700 мм, но не ближе 500 мм с учетом размеров алфавитно-цифровых знаков и симво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вень глаз при вертикально расположенном экране должен приходиться на центр или 2/3 высоты экрана. Линия взора должна быть перпендикулярна центру экрана. Оптимальное ее отклонение от перпендикуляра, проходящего через центр экрана в вертикальной плоскости, не должно превышать ±5 градусов, допустимое ±10 граду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 работе с текстовой информацией предпочтение следует отдавать позитивному контрасту: темные знаки на светлом фо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Компьютер и зр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Освещение рабочего мес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мещение, где эксплуатируются компьютеры, должно иметь искусственное и естественное освещение. Желательно выбирать такие помещения, выходящие окнами на север и северо-восток и оборудованные регулируемыми устройствами типа жалюзи, занавесей, внешних козырьков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 лучше расположить так, чтобы свет на экран падал слева. Несмотря на то, что экран светится, занятия  должны проходить не в темном, а в  хорошо освещенном помещ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050920" y="5186520"/>
            <a:ext cx="6119640" cy="1671480"/>
            <a:chOff x="2050920" y="5186520"/>
            <a:chExt cx="6119640" cy="1671480"/>
          </a:xfrm>
        </p:grpSpPr>
        <p:sp>
          <p:nvSpPr>
            <p:cNvPr id="128" name=""/>
            <p:cNvSpPr/>
            <p:nvPr/>
          </p:nvSpPr>
          <p:spPr>
            <a:xfrm>
              <a:off x="2050920" y="5661000"/>
              <a:ext cx="4103640" cy="1197000"/>
            </a:xfrm>
            <a:prstGeom prst="parallelogram">
              <a:avLst>
                <a:gd name="adj" fmla="val 47472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03960" y="5186520"/>
              <a:ext cx="1866600" cy="609480"/>
            </a:xfr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лощадь не менее 6 кв.м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змещение нескольких компьютер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341360"/>
            <a:ext cx="88455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ждое рабочее место в компьютерном классе создает электромагнитное поле с радиусом 1,5м и более.  Оптимальное расположение оборудования должно исключать влияние излучения от компьютера на учащихся, работающих за другими компьюте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рещается использование одного компьютера для одновременной работы двух и более школьников независимо от их возра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5280" y="3213000"/>
            <a:ext cx="3644640" cy="1440000"/>
            <a:chOff x="395280" y="3213000"/>
            <a:chExt cx="3644640" cy="1440000"/>
          </a:xfrm>
        </p:grpSpPr>
        <p:sp>
          <p:nvSpPr>
            <p:cNvPr id="134" name="computr2"/>
            <p:cNvSpPr/>
            <p:nvPr/>
          </p:nvSpPr>
          <p:spPr>
            <a:xfrm>
              <a:off x="395280" y="3323520"/>
              <a:ext cx="1533240" cy="1329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computr2"/>
            <p:cNvSpPr/>
            <p:nvPr/>
          </p:nvSpPr>
          <p:spPr>
            <a:xfrm>
              <a:off x="2506680" y="3318840"/>
              <a:ext cx="1533240" cy="1329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91920" y="3582360"/>
              <a:ext cx="1220040" cy="317160"/>
            </a:xfrm>
            <a:prstGeom prst="leftRightArrow">
              <a:avLst>
                <a:gd name="adj1" fmla="val 50000"/>
                <a:gd name="adj2" fmla="val 76579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5160" y="3213000"/>
              <a:ext cx="91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&gt;1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2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80000" y="50245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2594160" cy="201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227640" y="299736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Конструктивные особенности рабочего кресл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6165720"/>
            <a:ext cx="1729080" cy="62100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714760" cy="3816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076720" y="2133720"/>
            <a:ext cx="24782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7:23:08Z</dcterms:created>
  <dc:creator>Admin</dc:creator>
  <dc:description/>
  <dc:language>en-US</dc:language>
  <cp:lastModifiedBy>Николайчук</cp:lastModifiedBy>
  <dcterms:modified xsi:type="dcterms:W3CDTF">2004-11-23T16:15:39Z</dcterms:modified>
  <cp:revision>27</cp:revision>
  <dc:subject/>
  <dc:title>Слайд 1</dc:title>
</cp:coreProperties>
</file>