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7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6CEB-F262-47E3-BD6B-7D59A41D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F1F1-AB6D-48D7-BDBD-628BABD3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012-9618-4DD4-B853-482C3A9A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EF1-59AD-4648-8D87-D4E35314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3BDE-2E00-4F45-9800-F979C001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22F3-607C-48AB-916C-2A539181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5800-7B54-4848-9024-FFE15587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DA45-A8A2-4EB9-864E-5F8238E1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872C-FC1B-48D1-897E-5496E026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2514-F359-4090-B2CE-A707DE51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9E83-2D25-44DF-B48A-181F0EB0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84D-0FF2-46C8-B803-6F3C4D61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E955-CEA4-4C1C-905B-ADB5E5A5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3AE5-EB78-4156-ACE1-8025E3AE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43CC-CC08-4714-A49E-4DE6D3AD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98F1-11AE-42AD-B0EE-A02C7CA0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BD08-12F3-4D23-A5F1-AF35DAE8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C566-8E51-4E2F-8B68-529A1E48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E493-81CF-4816-838C-752586EF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B6B-9997-41AD-AD71-FEDEF006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4D4-A442-4706-8522-E1D5E2E5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C89-ACD5-4B06-ABD1-32C40EA3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A65-8537-435B-9E17-591742E8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6DC-23DC-431B-BE35-B14C4910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52F6-EE13-4C20-AC58-A59C84EEAEA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11F9-F884-4C0E-8AF7-4935451C2A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tmp/home/.config/libreoffice/4/user/gallery/coin.wav" TargetMode="External"/><Relationship Id="rId3" Type="http://schemas.openxmlformats.org/officeDocument/2006/relationships/image" Target="../media/image9.jpe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678168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Компьютерная 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графика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94920" y="5950080"/>
            <a:ext cx="62485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4A6F-50DA-4605-9506-78C271633268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3439" r="0" b="0"/>
          <a:stretch/>
        </p:blipFill>
        <p:spPr>
          <a:xfrm>
            <a:off x="1476360" y="3141720"/>
            <a:ext cx="4392720" cy="2852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26920" y="404640"/>
            <a:ext cx="6782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ные изображения могут иметь различную глубину цвета (бит на точку 4, 8, 16, 24). Каждый цвет можно рассматривать как возможные состояния точки, и тогда по форму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вычислено количество цветов отображаемых на экране мони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5486400"/>
            <a:ext cx="198108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11280" y="3357720"/>
          <a:ext cx="7848360" cy="3062160"/>
        </p:xfrm>
        <a:graphic>
          <a:graphicData uri="http://schemas.openxmlformats.org/drawingml/2006/table">
            <a:tbl>
              <a:tblPr/>
              <a:tblGrid>
                <a:gridCol w="3925800"/>
                <a:gridCol w="39225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 цвет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отображаемых цветов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</a:tr>
              <a:tr h="55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55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Colo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65 53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(True Colo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6 777 2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49748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87280" y="189000"/>
            <a:ext cx="6008760" cy="6476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71640" y="476280"/>
            <a:ext cx="670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ображение может иметь различный размер, которое определяется количеством точек по горизонтали и вертик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826920" y="2565360"/>
            <a:ext cx="4822560" cy="3313080"/>
            <a:chOff x="826920" y="2565360"/>
            <a:chExt cx="4822560" cy="3313080"/>
          </a:xfrm>
        </p:grpSpPr>
        <p:grpSp>
          <p:nvGrpSpPr>
            <p:cNvPr id="183" name=""/>
            <p:cNvGrpSpPr/>
            <p:nvPr/>
          </p:nvGrpSpPr>
          <p:grpSpPr>
            <a:xfrm>
              <a:off x="1545840" y="3141720"/>
              <a:ext cx="4103640" cy="2736720"/>
              <a:chOff x="1545840" y="3141720"/>
              <a:chExt cx="4103640" cy="2736720"/>
            </a:xfrm>
          </p:grpSpPr>
          <p:sp>
            <p:nvSpPr>
              <p:cNvPr id="184" name=""/>
              <p:cNvSpPr/>
              <p:nvPr/>
            </p:nvSpPr>
            <p:spPr>
              <a:xfrm>
                <a:off x="1545840" y="3141720"/>
                <a:ext cx="4103640" cy="2736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1761840" y="3286080"/>
                <a:ext cx="360360" cy="2375640"/>
                <a:chOff x="1761840" y="3286080"/>
                <a:chExt cx="360360" cy="23756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176184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76184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76184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76184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76184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2265120" y="3286080"/>
                <a:ext cx="360360" cy="2375640"/>
                <a:chOff x="2265120" y="3286080"/>
                <a:chExt cx="360360" cy="23756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26512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26512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26512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26512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26512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841480" y="3286080"/>
                <a:ext cx="360360" cy="2375640"/>
                <a:chOff x="2841480" y="3286080"/>
                <a:chExt cx="360360" cy="23756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84148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84148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84148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84148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84148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3417480" y="3286080"/>
                <a:ext cx="360360" cy="2375640"/>
                <a:chOff x="3417480" y="3286080"/>
                <a:chExt cx="360360" cy="23756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41748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41748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41748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41748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41748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3922560" y="3286080"/>
                <a:ext cx="360360" cy="2375640"/>
                <a:chOff x="3922560" y="3286080"/>
                <a:chExt cx="360360" cy="23756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392256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92256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92256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92256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92256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4498560" y="3286080"/>
                <a:ext cx="360360" cy="2375640"/>
                <a:chOff x="4498560" y="3286080"/>
                <a:chExt cx="360360" cy="23756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49856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49856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49856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49856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49856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5001840" y="3286080"/>
                <a:ext cx="360360" cy="2375640"/>
                <a:chOff x="5001840" y="3286080"/>
                <a:chExt cx="360360" cy="23756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00184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00184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00184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00184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00184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1834920" y="2781360"/>
              <a:ext cx="33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3492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4620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01840" y="2565360"/>
              <a:ext cx="57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14200" y="3429000"/>
              <a:ext cx="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14200" y="5516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14200" y="3429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26920" y="4076640"/>
              <a:ext cx="502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219280" y="2708280"/>
            <a:ext cx="3167280" cy="1295280"/>
            <a:chOff x="5219280" y="2708280"/>
            <a:chExt cx="3167280" cy="1295280"/>
          </a:xfrm>
        </p:grpSpPr>
        <p:sp>
          <p:nvSpPr>
            <p:cNvPr id="236" name=""/>
            <p:cNvSpPr/>
            <p:nvPr/>
          </p:nvSpPr>
          <p:spPr>
            <a:xfrm flipH="1">
              <a:off x="5219280" y="3139920"/>
              <a:ext cx="143964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514920" y="2708280"/>
              <a:ext cx="1871640" cy="433440"/>
              <a:chOff x="6514920" y="2708280"/>
              <a:chExt cx="1871640" cy="433440"/>
            </a:xfrm>
          </p:grpSpPr>
          <p:sp>
            <p:nvSpPr>
              <p:cNvPr id="238" name=""/>
              <p:cNvSpPr/>
              <p:nvPr/>
            </p:nvSpPr>
            <p:spPr>
              <a:xfrm>
                <a:off x="6659280" y="314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14920" y="2708280"/>
                <a:ext cx="187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Пиксел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"/>
          <p:cNvSpPr/>
          <p:nvPr/>
        </p:nvSpPr>
        <p:spPr>
          <a:xfrm>
            <a:off x="5940360" y="407664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Растр</a:t>
            </a:r>
            <a:r>
              <a:rPr b="0" lang="ru-RU" sz="1800" spc="-1" strike="noStrike" u="sng">
                <a:solidFill>
                  <a:srgbClr val="7e9ce8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x N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рафическая сетка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3" action="ppaction://hlinksldjump"/>
          </p:cNvPr>
          <p:cNvSpPr/>
          <p:nvPr/>
        </p:nvSpPr>
        <p:spPr>
          <a:xfrm>
            <a:off x="7524720" y="558972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15493" y="10800"/>
                </a:moveTo>
                <a:lnTo>
                  <a:pt x="4988" y="17806"/>
                </a:lnTo>
                <a:lnTo>
                  <a:pt x="4988" y="3794"/>
                </a:lnTo>
                <a:close/>
              </a:path>
              <a:path fill="darken" w="23988" h="21600">
                <a:moveTo>
                  <a:pt x="17338" y="3794"/>
                </a:moveTo>
                <a:lnTo>
                  <a:pt x="17338" y="17806"/>
                </a:lnTo>
                <a:lnTo>
                  <a:pt x="19000" y="17806"/>
                </a:lnTo>
                <a:lnTo>
                  <a:pt x="19000" y="3794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астр  -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от англ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ste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– представление изображения в виде двумерного массива точек (пикселов), упорядоченных в ряды и столбц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7740720" y="5805360"/>
            <a:ext cx="718920" cy="64800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3963" h="21600">
                <a:moveTo>
                  <a:pt x="0" y="0"/>
                </a:moveTo>
                <a:lnTo>
                  <a:pt x="23963" y="0"/>
                </a:lnTo>
                <a:lnTo>
                  <a:pt x="23963" y="21600"/>
                </a:lnTo>
                <a:lnTo>
                  <a:pt x="0" y="21600"/>
                </a:lnTo>
                <a:close/>
              </a:path>
              <a:path fill="lightenLess" w="23963" h="21600">
                <a:moveTo>
                  <a:pt x="0" y="0"/>
                </a:moveTo>
                <a:lnTo>
                  <a:pt x="23963" y="0"/>
                </a:lnTo>
                <a:lnTo>
                  <a:pt x="22563" y="1400"/>
                </a:lnTo>
                <a:lnTo>
                  <a:pt x="1400" y="1400"/>
                </a:lnTo>
                <a:close/>
              </a:path>
              <a:path fill="darken" w="23963" h="21600">
                <a:moveTo>
                  <a:pt x="23963" y="0"/>
                </a:moveTo>
                <a:lnTo>
                  <a:pt x="23963" y="21600"/>
                </a:lnTo>
                <a:lnTo>
                  <a:pt x="22563" y="20200"/>
                </a:lnTo>
                <a:lnTo>
                  <a:pt x="22563" y="1400"/>
                </a:lnTo>
                <a:close/>
              </a:path>
              <a:path fill="darkenLess" w="23963" h="21600">
                <a:moveTo>
                  <a:pt x="23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3" y="20200"/>
                </a:lnTo>
                <a:close/>
              </a:path>
              <a:path fill="lighten" w="23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3" h="21600">
                <a:moveTo>
                  <a:pt x="4975" y="10800"/>
                </a:moveTo>
                <a:lnTo>
                  <a:pt x="18988" y="3794"/>
                </a:lnTo>
                <a:lnTo>
                  <a:pt x="18988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76520" y="1219320"/>
            <a:ext cx="678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 современных ПК обычно используются 4 основных размера изображения или разрешающих способностей экрана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40х480, 800х600, 1024х768, 1280х1024 пиксе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11280" y="836640"/>
            <a:ext cx="73612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рафический режим вывода изображения на экран определяется </a:t>
            </a:r>
            <a:r>
              <a:rPr b="0" lang="en-US" sz="3600" spc="-1" strike="noStrike">
                <a:solidFill>
                  <a:srgbClr val="669999"/>
                </a:solidFill>
                <a:latin typeface="Arial"/>
              </a:rPr>
              <a:t>разрешающей способностью экрана</a:t>
            </a:r>
            <a:r>
              <a:rPr b="0" lang="en-US" sz="36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9999"/>
                </a:solidFill>
                <a:latin typeface="Arial"/>
              </a:rPr>
              <a:t>глубиной (интенсивностью) цвет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ная информация о всех точках изображения, хранящаяся в видеопамяти, называется </a:t>
            </a:r>
            <a:r>
              <a:rPr b="0" lang="en-US" sz="3600" spc="-1" strike="noStrike">
                <a:solidFill>
                  <a:srgbClr val="669999"/>
                </a:solidFill>
                <a:latin typeface="Arial"/>
              </a:rPr>
              <a:t>битовой картой изображения</a:t>
            </a:r>
            <a:r>
              <a:rPr b="0" lang="en-US" sz="3600" spc="-1" strike="noStrike">
                <a:solidFill>
                  <a:srgbClr val="6699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Основные проблемы при работе с растровой графикой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3308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ие объемы данных. Для обработки растровых изображений требуются высокопроизводительные компьют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величение изображения приводит к эффекту пикселизации, иллюстрация искаж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715000" y="259092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2212920" cy="30970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979640" y="620640"/>
            <a:ext cx="4573440" cy="5335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187280" y="0"/>
            <a:ext cx="6264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Форматы файлов растровой граф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719360"/>
          <a:ext cx="8229600" cy="4763880"/>
        </p:xfrm>
        <a:graphic>
          <a:graphicData uri="http://schemas.openxmlformats.org/drawingml/2006/table">
            <a:tbl>
              <a:tblPr/>
              <a:tblGrid>
                <a:gridCol w="1378080"/>
                <a:gridCol w="6851520"/>
              </a:tblGrid>
              <a:tr h="15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bm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map.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андартный формат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.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размер файлов из-за отсутствия сжатия изображения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jp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e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 Photographic Experts Group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Предназначен для хранения многоцветных изображений (фотографий). Отличается огромной степенью сжатия за счет потери информации. Степень сжатия можно регулировать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gi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ый «плотный». Фиксированное количество цветов (256). Позволяет создавать прозрачность фона и анимацию изображ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1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Изучив эту тему вы узнает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ы графических компьютерных изображ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нципы формирования графических изображ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ипы форматов графических изображ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Форматы файлов растровой граф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95280" y="1484280"/>
          <a:ext cx="8229600" cy="4746600"/>
        </p:xfrm>
        <a:graphic>
          <a:graphicData uri="http://schemas.openxmlformats.org/drawingml/2006/table">
            <a:tbl>
              <a:tblPr/>
              <a:tblGrid>
                <a:gridCol w="1378080"/>
                <a:gridCol w="6851520"/>
              </a:tblGrid>
              <a:tr h="25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ti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ged Image File Format.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Формат предназначен для хранения растровых изображений высокого качества. Неплохая степень сжатия. Возможность наложения аннотаций и примечаний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ps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Shop Document.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зволяет запоминать параметры слоев, каналов, степени прозрачности, множества масок. Большой объем файлов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1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екторная граф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475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едназначена для создания иллюстраций с применением шрифтов и простейших геометрических объек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новным элементом векторного изображения является контур (линия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93080" y="4508640"/>
            <a:ext cx="1873080" cy="1225440"/>
          </a:xfrm>
          <a:custGeom>
            <a:avLst/>
            <a:gdLst>
              <a:gd name="textAreaLeft" fmla="*/ 440280 w 1873080"/>
              <a:gd name="textAreaRight" fmla="*/ 1431720 w 1873080"/>
              <a:gd name="textAreaTop" fmla="*/ 144000 h 1225440"/>
              <a:gd name="textAreaBottom" fmla="*/ 768600 h 1225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92720" y="2708280"/>
            <a:ext cx="2951280" cy="2736720"/>
          </a:xfrm>
          <a:prstGeom prst="sun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95280" y="47628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ожные объекты векторной графики при увеличении можно рассматривать более подроб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Географическая"/>
          <p:cNvPicPr/>
          <p:nvPr/>
        </p:nvPicPr>
        <p:blipFill>
          <a:blip r:embed="rId1"/>
          <a:stretch/>
        </p:blipFill>
        <p:spPr>
          <a:xfrm>
            <a:off x="971640" y="1197000"/>
            <a:ext cx="6624720" cy="5448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Фрактальная график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05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Фрактальная графика, как и векторная, основана на математических вычисления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азовым элементом фрактальной графики является сама математическая формула, изображение строится исключительно по уравн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651640" y="3645000"/>
            <a:ext cx="3106440" cy="2441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9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e9ce8"/>
                </a:solidFill>
                <a:latin typeface="Arial"/>
              </a:rPr>
              <a:t>Сравнительная характеристика растровой и векторной граф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1557360"/>
          <a:ext cx="8228160" cy="4680000"/>
        </p:xfrm>
        <a:graphic>
          <a:graphicData uri="http://schemas.openxmlformats.org/drawingml/2006/table">
            <a:tbl>
              <a:tblPr/>
              <a:tblGrid>
                <a:gridCol w="3106800"/>
                <a:gridCol w="2560680"/>
                <a:gridCol w="2560680"/>
              </a:tblGrid>
              <a:tr h="53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ровая граф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торная граф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арный объек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ксель (точк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ур и внутренняя обла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ображ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окупность точек (матриц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окупность объек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тографическое качеств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ечатка на принтер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гк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огда не печатаются или выглядят не та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памя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ень больш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сительно небольш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штабирование и вращ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желатель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ировка и разгруппиров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MP, GIF, JPG, PCX, TI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MF, EPS, DXF, CG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1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e9ce8"/>
                </a:solidFill>
                <a:latin typeface="Arial"/>
              </a:rPr>
              <a:t>Области примен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40384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и разработке электронных (мультимедийных) и полиграфических изд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Интерне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ьшинство графических редакторов, предназначенных для работы с растровыми иллюстрациями, ориентированы не столько на создание изображений, сколько на их обработ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2920" y="2138040"/>
            <a:ext cx="4249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рекламных агентств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дизайнерских бю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редакциях и издательств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ьшинство векторных редакторов предназначены, в первую очередь, для создания иллюстраций и в меньшей степени для их обработки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оформительских работах, основанных на применении шрифтов и простейших геометрических эле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000" y="126828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65c"/>
                </a:solidFill>
                <a:latin typeface="Times New Roman"/>
              </a:rPr>
              <a:t>Растров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12654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65c"/>
                </a:solidFill>
                <a:latin typeface="Times New Roman"/>
              </a:rPr>
              <a:t>Вектор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67280" y="404640"/>
            <a:ext cx="4068720" cy="3372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3743280" cy="2836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276876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257800" y="3962520"/>
            <a:ext cx="3657600" cy="2431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3276720" y="3809880"/>
            <a:ext cx="2314440" cy="2727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270036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7502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иды компьютерной граф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тровая граф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екторная граф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рактальная граф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граф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4000" y="436572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ды компьютерной графики отличаются принципами формирования изоб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астровая граф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меняется при разработке электронных и полиграфических изд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ольшинство редакторов ориентированы не столько на создание изображений, сколько на их обработ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Интернете применяются только растровые иллюстр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09744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Основным элементом растрового изображения является точка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2920" y="1844640"/>
            <a:ext cx="40388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решение изображения выражает количество точек в единице длины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p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количество точек на дюй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изображение экранное, то эта точка называется </a:t>
            </a:r>
            <a:r>
              <a:rPr b="0" lang="ru-RU" sz="26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пиксел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680" y="2060640"/>
            <a:ext cx="3809880" cy="384948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7956720" y="595008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11349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  <a:path fill="darken" w="29695" h="21600">
                <a:moveTo>
                  <a:pt x="7841" y="3794"/>
                </a:moveTo>
                <a:lnTo>
                  <a:pt x="9503" y="3794"/>
                </a:lnTo>
                <a:lnTo>
                  <a:pt x="9503" y="17806"/>
                </a:lnTo>
                <a:lnTo>
                  <a:pt x="7841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иксел (пиксель) -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от англ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icture element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элемент картинки) – наименьший элемент растрового изобра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7596360" y="5734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71640" y="549360"/>
            <a:ext cx="670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остейшем случае (черно-белое изображение без градаций серого цвета). Каждая точка экрана может иметь лишь два состояния – «черная» или «белая», т.е. для хранения ее состояния необходим 1 б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71640" y="2781360"/>
            <a:ext cx="728640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5715000" cy="5607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04:21:34Z</dcterms:created>
  <dc:creator>Усольцева Э.М. Преподаватель информатики ГОУ НПО КПУ</dc:creator>
  <dc:description/>
  <dc:language>en-US</dc:language>
  <cp:lastModifiedBy>Компьютер</cp:lastModifiedBy>
  <dcterms:modified xsi:type="dcterms:W3CDTF">2007-12-19T12:52:16Z</dcterms:modified>
  <cp:revision>87</cp:revision>
  <dc:subject/>
  <dc:title>Компьютерная графика</dc:title>
</cp:coreProperties>
</file>