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0000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E408C-02E1-451A-8547-7DED579DDDD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0F9B6-9FC6-42B9-A543-9EF628AEBF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DA70-B60A-4601-90BC-83226295B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EDB2-7FA4-413C-A1FF-AF1C2E539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A49C-A3B5-43C5-90EF-F966CED3D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DA6B-2B43-4432-965D-55E775FF7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DE89B-BC93-49A9-9B05-E34C8A9D3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AAB4F-D74B-4F3E-B663-0D3E7616C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8B071-4D96-4DBC-BBA6-C82633B93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81622-0961-4FC1-8FF4-B2D29C4E7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269C9-82A9-4A1B-87EB-80817F823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9E5D3-81FB-4772-9C57-3626AB431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0612C-91AD-4634-99B0-8CB238AA6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95D1-00EB-4949-B89D-6C23C330D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9F32C-A638-4EC2-98E6-DDA318D7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700B2-AC97-4D45-8604-B514909E7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E2CCB-93CA-4E33-A936-A797362E0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D93F7-8AAD-4489-AA34-D950B2EFF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6506C-24AA-46C7-AF67-1E572CFFA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28D61-3C4B-42D9-9CD7-A824BD33D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3B4B1-C072-4878-893D-831B401F3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D93A0-453B-4369-8C20-3A04CC1A5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FA998-3719-4D3E-B88D-10803C8C5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390E3-166B-4F8F-B442-D27622014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A3E8-2C27-4153-9E48-0A25693E6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B0C4C-9B43-4B8F-865E-3DDC7826F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A4B41-06A7-4ABC-922E-A6000EBF8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50169-0BBD-4C4A-926B-C28D156C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5D9B7-32E9-4019-84F4-16626A21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23CB2-032A-49FE-8097-9A84E300B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53986-DDAF-46D1-81F9-97767ED49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F3797-B06B-40EB-B6E2-A9DA3A533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5131-0728-4D62-A124-27A845827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17B1-153C-4BE2-9448-6BD28BDA5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E3F6-B280-4025-AA7F-F45DBEC23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C0E3-906A-4DEE-A205-691AB43B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2AEF-10D2-44F1-B983-19F0C51D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4B8E-A096-4715-A95A-69EEDCF67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0000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cc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6600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2DB3D-BF6C-4E95-88B0-4CDD22EAB8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0000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cc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6600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066F6-8CD1-418D-9019-0F14F1D27D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8696c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89" name="Group 3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90" name="Group 4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91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prstGeom prst="pie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2" name="Group 6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93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prstGeom prst="pie">
                    <a:avLst/>
                  </a:pr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prstGeom prst="pie">
                    <a:avLst/>
                  </a:pr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prstGeom prst="pie">
                    <a:avLst/>
                  </a:pr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6" name="Group 10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97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prstGeom prst="pie">
                      <a:avLst/>
                    </a:pr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98" name="Group 12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99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prstGeom prst="pie">
                        <a:avLst/>
                      </a:pr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00" name="Group 14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01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2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3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4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5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6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7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8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9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0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1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2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3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4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5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6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7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8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9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0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1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2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3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4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5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6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7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9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0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1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2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3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4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5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6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prstGeom prst="pie">
                          <a:avLst/>
                        </a:pr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37" name="Group 51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138" name="Oval 52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9" name="Oval 53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0" name="Oval 54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1" name="Oval 55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2" name="Oval 56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3" name="Oval 57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4" name="Oval 58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5" name="Oval 59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6" name="Oval 60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7" name="Oval 61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8" name="Oval 62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9" name="Oval 63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50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1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2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3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4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5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6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7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8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9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0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1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2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3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4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5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6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7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8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9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0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1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2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3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4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5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6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7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8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186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187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9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190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prstGeom prst="pie">
                    <a:avLst/>
                  </a:pr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99" name="Group 113"/>
            <p:cNvGrpSpPr/>
            <p:nvPr/>
          </p:nvGrpSpPr>
          <p:grpSpPr>
            <a:xfrm>
              <a:off x="1800" y="2135160"/>
              <a:ext cx="5249880" cy="4686120"/>
              <a:chOff x="1800" y="2135160"/>
              <a:chExt cx="5249880" cy="4686120"/>
            </a:xfrm>
          </p:grpSpPr>
          <p:sp>
            <p:nvSpPr>
              <p:cNvPr id="200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prstGeom prst="pie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prstGeom prst="pie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Rectangle 118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6" name="Group 120"/>
              <p:cNvGrpSpPr/>
              <p:nvPr/>
            </p:nvGrpSpPr>
            <p:grpSpPr>
              <a:xfrm>
                <a:off x="4754520" y="2135160"/>
                <a:ext cx="497160" cy="492120"/>
                <a:chOff x="4754520" y="2135160"/>
                <a:chExt cx="497160" cy="492120"/>
              </a:xfrm>
            </p:grpSpPr>
            <p:sp>
              <p:nvSpPr>
                <p:cNvPr id="207" name="Oval 121"/>
                <p:cNvSpPr/>
                <p:nvPr/>
              </p:nvSpPr>
              <p:spPr>
                <a:xfrm rot="2828400">
                  <a:off x="4770360" y="2359440"/>
                  <a:ext cx="31464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Freeform 122"/>
                <p:cNvSpPr/>
                <p:nvPr/>
              </p:nvSpPr>
              <p:spPr>
                <a:xfrm>
                  <a:off x="4869000" y="2256840"/>
                  <a:ext cx="255960" cy="247680"/>
                </a:xfrm>
                <a:prstGeom prst="pi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Freeform 123"/>
                <p:cNvSpPr/>
                <p:nvPr/>
              </p:nvSpPr>
              <p:spPr>
                <a:xfrm>
                  <a:off x="4952520" y="2246400"/>
                  <a:ext cx="183960" cy="172800"/>
                </a:xfrm>
                <a:prstGeom prst="pi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Freeform 124"/>
                <p:cNvSpPr/>
                <p:nvPr/>
              </p:nvSpPr>
              <p:spPr>
                <a:xfrm>
                  <a:off x="5018040" y="2142720"/>
                  <a:ext cx="228960" cy="220680"/>
                </a:xfrm>
                <a:prstGeom prst="pi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Freeform 125"/>
                <p:cNvSpPr/>
                <p:nvPr/>
              </p:nvSpPr>
              <p:spPr>
                <a:xfrm>
                  <a:off x="5162400" y="2135160"/>
                  <a:ext cx="89280" cy="82440"/>
                </a:xfrm>
                <a:prstGeom prst="pi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1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9F0CD-91E7-482C-A6D9-0FB944EB9D39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62626"/>
                </a:solidFill>
                <a:latin typeface="Arial"/>
              </a:rPr>
              <a:t>ФАЙЛЫ И</a:t>
            </a:r>
            <a:br>
              <a:rPr sz="4000"/>
            </a:br>
            <a:r>
              <a:rPr b="1" lang="en-US" sz="4000" spc="-1" strike="noStrike">
                <a:solidFill>
                  <a:srgbClr val="262626"/>
                </a:solidFill>
                <a:latin typeface="Arial"/>
              </a:rPr>
              <a:t>ФАЙЛОВАЯ СИСТЕМА</a:t>
            </a:r>
            <a:endParaRPr b="0" lang="en-US" sz="4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Понятие файла, файловой системы, классификация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" dur="2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Установите соответствие:</a:t>
            </a: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97" name="AutoShape 16"/>
          <p:cNvSpPr/>
          <p:nvPr/>
        </p:nvSpPr>
        <p:spPr>
          <a:xfrm>
            <a:off x="380880" y="4876920"/>
            <a:ext cx="2362320" cy="9144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истемное П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17"/>
          <p:cNvSpPr/>
          <p:nvPr/>
        </p:nvSpPr>
        <p:spPr>
          <a:xfrm>
            <a:off x="5715000" y="4876920"/>
            <a:ext cx="3124080" cy="9144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истем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грамм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18"/>
          <p:cNvSpPr/>
          <p:nvPr/>
        </p:nvSpPr>
        <p:spPr>
          <a:xfrm>
            <a:off x="2971800" y="4876920"/>
            <a:ext cx="2590920" cy="9144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кладное П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16"/>
          <p:cNvSpPr/>
          <p:nvPr/>
        </p:nvSpPr>
        <p:spPr>
          <a:xfrm>
            <a:off x="228600" y="2209680"/>
            <a:ext cx="2514600" cy="1143000"/>
          </a:xfrm>
          <a:prstGeom prst="roundRect">
            <a:avLst>
              <a:gd name="adj" fmla="val 16667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грам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уч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нглийскому я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17"/>
          <p:cNvSpPr/>
          <p:nvPr/>
        </p:nvSpPr>
        <p:spPr>
          <a:xfrm>
            <a:off x="5791320" y="2209680"/>
            <a:ext cx="3124080" cy="1143000"/>
          </a:xfrm>
          <a:prstGeom prst="roundRect">
            <a:avLst>
              <a:gd name="adj" fmla="val 16667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Язы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грамм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ортр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18"/>
          <p:cNvSpPr/>
          <p:nvPr/>
        </p:nvSpPr>
        <p:spPr>
          <a:xfrm>
            <a:off x="2895480" y="2209680"/>
            <a:ext cx="2819520" cy="1143000"/>
          </a:xfrm>
          <a:prstGeom prst="roundRect">
            <a:avLst>
              <a:gd name="adj" fmla="val 16667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тивирус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62120" y="76212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0000"/>
                </a:solidFill>
                <a:latin typeface="Arial Black"/>
              </a:rPr>
              <a:t>Что такое файл?</a:t>
            </a: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Все программы и данные хранятся в долговременной (внешней) памяти компьютера в виде </a:t>
            </a:r>
            <a:r>
              <a:rPr b="1" i="1" lang="en-US" sz="3100" spc="-1" strike="noStrike">
                <a:solidFill>
                  <a:srgbClr val="000000"/>
                </a:solidFill>
                <a:latin typeface="Arial"/>
              </a:rPr>
              <a:t>файлов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000099"/>
                </a:solidFill>
                <a:uFillTx/>
                <a:latin typeface="Arial"/>
              </a:rPr>
              <a:t>Файл</a:t>
            </a:r>
            <a:r>
              <a:rPr b="1" lang="en-US" sz="31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— это информация, хранящаяся  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на внешнем носителе и         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объединенная общим именем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20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2000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000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0000"/>
                </a:solidFill>
                <a:latin typeface="Arial Black"/>
              </a:rPr>
              <a:t>Файловая система</a:t>
            </a: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762120" y="1752480"/>
            <a:ext cx="81532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На каждом носителе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гибком, жестком или лазерном диск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может храниться большое количеств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файлов. Порядок хранения файлов 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диске определяется установлен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файловой системой.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000000"/>
                </a:solidFill>
                <a:uFillTx/>
                <a:latin typeface="Arial"/>
              </a:rPr>
              <a:t>Файловая система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- это функциональная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часть ОС, обеспечивающая выполнение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операций с файлами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1000"/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1000"/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1000"/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3505320" y="1253880"/>
            <a:ext cx="4952880" cy="67788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Полное имя файла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539640" y="1219320"/>
            <a:ext cx="2386080" cy="172872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ис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фай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3505320" y="1940040"/>
            <a:ext cx="2003400" cy="100800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дре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иск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\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у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5508720" y="1940040"/>
            <a:ext cx="2950920" cy="100800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мя фай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мя.расшир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7"/>
          <p:cNvSpPr/>
          <p:nvPr/>
        </p:nvSpPr>
        <p:spPr>
          <a:xfrm>
            <a:off x="2925720" y="1752480"/>
            <a:ext cx="5796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2133720" y="3809880"/>
            <a:ext cx="525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Как найти нужный фай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6960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99"/>
                </a:solidFill>
                <a:latin typeface="Arial Black"/>
              </a:rPr>
              <a:t>Имя файла</a:t>
            </a: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762120" y="1676520"/>
            <a:ext cx="80769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Имя файла состоит из двух частей, разделенных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точкой: собственно </a:t>
            </a:r>
            <a:r>
              <a:rPr b="1" i="1" lang="ru-RU" sz="2500" spc="-1" strike="noStrike">
                <a:solidFill>
                  <a:srgbClr val="3333cc"/>
                </a:solidFill>
                <a:latin typeface="Arial"/>
              </a:rPr>
              <a:t>имя файла</a:t>
            </a:r>
            <a:r>
              <a:rPr b="0" i="1" lang="ru-RU" sz="2500" spc="-1" strike="noStrike">
                <a:solidFill>
                  <a:srgbClr val="409632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(до 255 символов) 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3300"/>
                </a:solidFill>
                <a:latin typeface="Arial"/>
              </a:rPr>
              <a:t>расширения</a:t>
            </a:r>
            <a:r>
              <a:rPr b="0" i="1" lang="ru-RU" sz="25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(3 символа)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Собственно имя файлу дает пользователь, а тип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файла обычно задается программой автоматическ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и его создани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000000"/>
                </a:solidFill>
                <a:uFillTx/>
                <a:latin typeface="Arial"/>
              </a:rPr>
              <a:t>Расширение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 указывает, какого рода информац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хранится в файле, тип файл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6600"/>
                </a:solidFill>
                <a:latin typeface="Arial"/>
              </a:rPr>
              <a:t>proba</a:t>
            </a:r>
            <a:r>
              <a:rPr b="1" lang="ru-RU" sz="4100" spc="-1" strike="noStrike">
                <a:solidFill>
                  <a:srgbClr val="ff7c80"/>
                </a:solidFill>
                <a:latin typeface="Arial"/>
              </a:rPr>
              <a:t>.</a:t>
            </a:r>
            <a:r>
              <a:rPr b="1" lang="ru-RU" sz="3100" spc="-1" strike="noStrike">
                <a:solidFill>
                  <a:srgbClr val="6600ff"/>
                </a:solidFill>
                <a:latin typeface="Arial"/>
              </a:rPr>
              <a:t>tx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4"/>
          <p:cNvSpPr/>
          <p:nvPr/>
        </p:nvSpPr>
        <p:spPr>
          <a:xfrm rot="16200000">
            <a:off x="1257120" y="49903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5"/>
          <p:cNvSpPr/>
          <p:nvPr/>
        </p:nvSpPr>
        <p:spPr>
          <a:xfrm rot="16200000">
            <a:off x="2209680" y="5181120"/>
            <a:ext cx="228600" cy="685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6"/>
          <p:cNvSpPr/>
          <p:nvPr/>
        </p:nvSpPr>
        <p:spPr>
          <a:xfrm>
            <a:off x="685800" y="56386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мя фай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7"/>
          <p:cNvSpPr/>
          <p:nvPr/>
        </p:nvSpPr>
        <p:spPr>
          <a:xfrm>
            <a:off x="1600200" y="56386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сшир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0000"/>
                </a:solidFill>
                <a:latin typeface="Arial Black"/>
              </a:rPr>
              <a:t>Соглашение 8.3</a:t>
            </a:r>
            <a:endParaRPr b="0" lang="en-US" sz="47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28400" y="1904760"/>
            <a:ext cx="8715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о соглашению 8.3 имя файла может состоять из двух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частей, разделенных точкой. Первая часть может имет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длину до 8 символов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и записи имени файла разрешается использоват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только буквы английского алфавита и цифры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Начинаться имя должно с буквы. Пробелы и знак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епинания не допускаются, за исключением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восклицательного знака (!), тильды (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) и символ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одчеркивания (_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0000"/>
                </a:solidFill>
                <a:latin typeface="Arial Black"/>
              </a:rPr>
              <a:t>Длинные имена файлов</a:t>
            </a: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. Разрешается использовать до 255 символ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 Разрешается использовать символы национальных алфавитов, в частности русског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. Разрешается использовать пробелы и другие ранее запрещенные символы, за исключением следующих девяти: / \ : *   ? "&lt; &gt;|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. В имени файла можно использовать несколько точек. Расширением имени считаются все символы, стоящие за последней точко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Arial Black"/>
              </a:rPr>
              <a:t>Символы, которые не используют при задании имени файла</a:t>
            </a:r>
            <a:endParaRPr b="0" lang="en-US" sz="29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300" spc="-1" strike="noStrike">
                <a:solidFill>
                  <a:srgbClr val="000000"/>
                </a:solidFill>
                <a:latin typeface="Arial"/>
              </a:rPr>
              <a:t>/ \ * : ? </a:t>
            </a:r>
            <a:r>
              <a:rPr b="1" lang="en-US" sz="73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ru-RU" sz="7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7300" spc="-1" strike="noStrike">
                <a:solidFill>
                  <a:srgbClr val="000000"/>
                </a:solidFill>
                <a:latin typeface="Arial"/>
              </a:rPr>
              <a:t>“ &lt; &gt;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9" dur="20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0" dur="20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20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AutoShape 15"/>
          <p:cNvSpPr/>
          <p:nvPr/>
        </p:nvSpPr>
        <p:spPr>
          <a:xfrm>
            <a:off x="1600200" y="685800"/>
            <a:ext cx="6095880" cy="83808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ФАЙ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16"/>
          <p:cNvSpPr/>
          <p:nvPr/>
        </p:nvSpPr>
        <p:spPr>
          <a:xfrm>
            <a:off x="914400" y="2743200"/>
            <a:ext cx="3124080" cy="121932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сполняем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программ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ициализация (запус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17"/>
          <p:cNvSpPr/>
          <p:nvPr/>
        </p:nvSpPr>
        <p:spPr>
          <a:xfrm>
            <a:off x="1447920" y="4724280"/>
            <a:ext cx="6172200" cy="121932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рхивные фай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ожет хранить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юбая информ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18"/>
          <p:cNvSpPr/>
          <p:nvPr/>
        </p:nvSpPr>
        <p:spPr>
          <a:xfrm>
            <a:off x="5257800" y="2743200"/>
            <a:ext cx="3124080" cy="121932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Файлы да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смотр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дактир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19"/>
          <p:cNvSpPr/>
          <p:nvPr/>
        </p:nvSpPr>
        <p:spPr>
          <a:xfrm>
            <a:off x="2286000" y="1752480"/>
            <a:ext cx="152280" cy="990720"/>
          </a:xfrm>
          <a:prstGeom prst="downArrow">
            <a:avLst>
              <a:gd name="adj1" fmla="val 50000"/>
              <a:gd name="adj2" fmla="val 162648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21"/>
          <p:cNvSpPr/>
          <p:nvPr/>
        </p:nvSpPr>
        <p:spPr>
          <a:xfrm>
            <a:off x="6781680" y="1752480"/>
            <a:ext cx="152640" cy="914400"/>
          </a:xfrm>
          <a:prstGeom prst="downArrow">
            <a:avLst>
              <a:gd name="adj1" fmla="val 50000"/>
              <a:gd name="adj2" fmla="val 149764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9"/>
          <p:cNvSpPr/>
          <p:nvPr/>
        </p:nvSpPr>
        <p:spPr>
          <a:xfrm rot="16200000">
            <a:off x="4324320" y="2876760"/>
            <a:ext cx="533520" cy="3009600"/>
          </a:xfrm>
          <a:custGeom>
            <a:avLst/>
            <a:gdLst>
              <a:gd name="textAreaLeft" fmla="*/ 340920 w 533520"/>
              <a:gd name="textAreaRight" fmla="*/ 533880 w 533520"/>
              <a:gd name="textAreaTop" fmla="*/ 78480 h 3009600"/>
              <a:gd name="textAreaBottom" fmla="*/ 2931120 h 300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000"/>
                            </p:stCondLst>
                            <p:childTnLst>
                              <p:par>
                                <p:cTn id="3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4000"/>
                            </p:stCondLst>
                            <p:childTnLst>
                              <p:par>
                                <p:cTn id="3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6000"/>
                            </p:stCondLst>
                            <p:childTnLst>
                              <p:par>
                                <p:cTn id="3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8000"/>
                            </p:stCondLst>
                            <p:childTnLst>
                              <p:par>
                                <p:cTn id="3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1009800" y="3069720"/>
            <a:ext cx="726912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0" y="0"/>
          <a:ext cx="9144000" cy="6857640"/>
        </p:xfrm>
        <a:graphic>
          <a:graphicData uri="http://schemas.openxmlformats.org/drawingml/2006/table">
            <a:tbl>
              <a:tblPr/>
              <a:tblGrid>
                <a:gridCol w="4573440"/>
                <a:gridCol w="4570560"/>
              </a:tblGrid>
              <a:tr h="74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файл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ширени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ff"/>
                    </a:solidFill>
                  </a:tcPr>
                </a:tc>
              </a:tr>
              <a:tr h="739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сполняемые программы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e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e, com,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1"/>
                    </a:solidFill>
                  </a:tcPr>
                </a:tc>
              </a:tr>
              <a:tr h="740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екстовые файлы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e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xt, rtf,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1"/>
                    </a:solidFill>
                  </a:tcPr>
                </a:tc>
              </a:tr>
              <a:tr h="742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рафические файлы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e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mp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if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pg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ng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1"/>
                    </a:solidFill>
                  </a:tcPr>
                </a:tc>
              </a:tr>
              <a:tr h="740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b-страницы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e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tm, htm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1"/>
                    </a:solidFill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вуковые файлы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e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av, mp3, midi, kar, og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1"/>
                    </a:solidFill>
                  </a:tcPr>
                </a:tc>
              </a:tr>
              <a:tr h="739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деофайлы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e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i, mpe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1"/>
                    </a:solidFill>
                  </a:tcPr>
                </a:tc>
              </a:tr>
              <a:tr h="1036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(текст) программы н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9800" indent="-46980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языках программирования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e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s, pas, cp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1"/>
                    </a:solidFill>
                  </a:tcPr>
                </a:tc>
              </a:tr>
              <a:tr h="594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рхивные файлы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e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j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zip, r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1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4"/>
          <p:cNvSpPr/>
          <p:nvPr/>
        </p:nvSpPr>
        <p:spPr>
          <a:xfrm>
            <a:off x="380880" y="609480"/>
            <a:ext cx="8305920" cy="528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о, что маленький компьютер может сделать имея большую программу, большой компьютер сделает малую, отсюда вывод, что большая программа может действовать безо всякого компьютер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Станислав Л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Папка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(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каталог) – совокупность файлов (подкаталогов) по одной тематике</a:t>
            </a: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04560" y="1828800"/>
            <a:ext cx="8839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7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В операционной системе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indows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вместо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каталогов используется понятие «папка»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 u="sng">
                <a:solidFill>
                  <a:srgbClr val="000000"/>
                </a:solidFill>
                <a:uFillTx/>
                <a:latin typeface="Arial"/>
              </a:rPr>
              <a:t>Папка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– это объект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, предназначенное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для объединения файлов и других папок в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группы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Понятие папки шире, чем понятие «каталог». В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Windows на вершине иерархии папок находится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папка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Рабочий стол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. (Следующий уровень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представлен папками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Мой компьютер, Корзина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Сетевое окружение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(если компьютер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подключен к локальной сети)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609480" y="380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На одном компьютере может быть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несколько дисков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Каждому дисководу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рисваивается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однобуквенное имя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осле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А:, В:, С:,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:, …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Логический диск – это физический диск,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реальный диск или часть физического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диска, которому присвоено имя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Файловая структура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– вся совокупность файлов на диске и взаимосвязей между ними.</a:t>
            </a: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38" name="AutoShape 19"/>
          <p:cNvSpPr/>
          <p:nvPr/>
        </p:nvSpPr>
        <p:spPr>
          <a:xfrm>
            <a:off x="2133720" y="1752480"/>
            <a:ext cx="152280" cy="990720"/>
          </a:xfrm>
          <a:prstGeom prst="downArrow">
            <a:avLst>
              <a:gd name="adj1" fmla="val 50000"/>
              <a:gd name="adj2" fmla="val 162648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21"/>
          <p:cNvSpPr/>
          <p:nvPr/>
        </p:nvSpPr>
        <p:spPr>
          <a:xfrm>
            <a:off x="6629400" y="1752480"/>
            <a:ext cx="152280" cy="914400"/>
          </a:xfrm>
          <a:prstGeom prst="downArrow">
            <a:avLst>
              <a:gd name="adj1" fmla="val 50000"/>
              <a:gd name="adj2" fmla="val 150118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16"/>
          <p:cNvSpPr/>
          <p:nvPr/>
        </p:nvSpPr>
        <p:spPr>
          <a:xfrm>
            <a:off x="914400" y="2743200"/>
            <a:ext cx="3124080" cy="121932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дноуровнев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18"/>
          <p:cNvSpPr/>
          <p:nvPr/>
        </p:nvSpPr>
        <p:spPr>
          <a:xfrm>
            <a:off x="5257800" y="2743200"/>
            <a:ext cx="3124080" cy="121932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ногоуровнев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иерархическа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4000"/>
                            </p:stCondLst>
                            <p:childTnLst>
                              <p:par>
                                <p:cTn id="4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6000"/>
                            </p:stCondLst>
                            <p:childTnLst>
                              <p:par>
                                <p:cTn id="4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8000"/>
                            </p:stCondLst>
                            <p:childTnLst>
                              <p:par>
                                <p:cTn id="4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Arial Black"/>
              </a:rPr>
              <a:t>Одноуровневая файловая система</a:t>
            </a:r>
            <a:endParaRPr b="0" lang="en-US" sz="31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762120" y="19051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ля дисков с небольшим количеством файлов (до нескольких десятков) удобно применять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одноуровневую файловую систему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когда каталог (оглавление диска) представляет собой линейную последовательность имен файлов. Для отыскания файла на диске достаточно указать лишь имя файл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Диск: имя.расширени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А: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etris.ex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4" descr="одноуровневая файловая система"/>
          <p:cNvPicPr/>
          <p:nvPr/>
        </p:nvPicPr>
        <p:blipFill>
          <a:blip r:embed="rId1"/>
          <a:stretch/>
        </p:blipFill>
        <p:spPr>
          <a:xfrm>
            <a:off x="2917800" y="3886200"/>
            <a:ext cx="5616720" cy="236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0000"/>
                </a:solidFill>
                <a:latin typeface="Arial Black"/>
              </a:rPr>
              <a:t>Многоуровневая иерархическая файловая система</a:t>
            </a:r>
            <a:endParaRPr b="0" lang="en-US" sz="31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762120" y="1752480"/>
            <a:ext cx="81532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Если на диске хранятся сотни и тысячи файлов, то дл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удобства поиска файлы организуются в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многоуровневую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иерархическую файловую систему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которая имее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древовидную» структуру (имеет вид перевернутого дерева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Диск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корневой каталог)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каталог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…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имя.расширени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5" descr="многоуровневая иерархическая файловая система"/>
          <p:cNvPicPr/>
          <p:nvPr/>
        </p:nvPicPr>
        <p:blipFill>
          <a:blip r:embed="rId1"/>
          <a:stretch/>
        </p:blipFill>
        <p:spPr>
          <a:xfrm>
            <a:off x="2124000" y="3517920"/>
            <a:ext cx="3286080" cy="280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436680"/>
            <a:ext cx="8229600" cy="123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Путь к файлу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– последовательность папок, начиная от самой верхней и заканчивая той, в которой непосредственно хранится файл</a:t>
            </a: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800240" y="2222640"/>
            <a:ext cx="43434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того чтобы найти файл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ерархической файлов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уктуре необходим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казать путь к файлу. В пу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файлу входя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исываемые чере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делитель "\" логическ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я диска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довательность им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ложенных друг в дру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талогов, в последнем и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торых находится дан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ужный фай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4" descr="Без-имени-2"/>
          <p:cNvPicPr/>
          <p:nvPr/>
        </p:nvPicPr>
        <p:blipFill>
          <a:blip r:embed="rId1"/>
          <a:stretch/>
        </p:blipFill>
        <p:spPr>
          <a:xfrm>
            <a:off x="457200" y="2286000"/>
            <a:ext cx="4267080" cy="269712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5"/>
          <p:cNvSpPr/>
          <p:nvPr/>
        </p:nvSpPr>
        <p:spPr>
          <a:xfrm>
            <a:off x="533520" y="5029200"/>
            <a:ext cx="3584520" cy="1191240"/>
          </a:xfrm>
          <a:prstGeom prst="rect">
            <a:avLst/>
          </a:prstGeom>
          <a:solidFill>
            <a:srgbClr val="e2f3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C:\Рефераты\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C:\Рефераты\Физика\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C:\Рефераты\Информатика\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C:\Рисунки\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6"/>
          <p:cNvSpPr/>
          <p:nvPr/>
        </p:nvSpPr>
        <p:spPr>
          <a:xfrm>
            <a:off x="250920" y="1690560"/>
            <a:ext cx="84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Полное имя файла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– имя логического диска + путь к файлу + имя фай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2000"/>
                            </p:stCondLst>
                            <p:childTnLst>
                              <p:par>
                                <p:cTn id="4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6000"/>
                            </p:stCondLst>
                            <p:childTnLst>
                              <p:par>
                                <p:cTn id="4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8000"/>
                            </p:stCondLst>
                            <p:childTnLst>
                              <p:par>
                                <p:cTn id="4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0000"/>
                            </p:stCondLst>
                            <p:childTnLst>
                              <p:par>
                                <p:cTn id="4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2000"/>
                            </p:stCondLst>
                            <p:childTnLst>
                              <p:par>
                                <p:cTn id="4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2000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4000"/>
                            </p:stCondLst>
                            <p:childTnLst>
                              <p:par>
                                <p:cTn id="4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2000"/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6000"/>
                            </p:stCondLst>
                            <p:childTnLst>
                              <p:par>
                                <p:cTn id="4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2000"/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18000"/>
                            </p:stCondLst>
                            <p:childTnLst>
                              <p:par>
                                <p:cTn id="5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3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20000"/>
                            </p:stCondLst>
                            <p:childTnLst>
                              <p:par>
                                <p:cTn id="5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3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2000"/>
                            </p:stCondLst>
                            <p:childTnLst>
                              <p:par>
                                <p:cTn id="5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2000"/>
                                        <p:tgtEl>
                                          <p:spTgt spid="3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24000"/>
                            </p:stCondLst>
                            <p:childTnLst>
                              <p:par>
                                <p:cTn id="5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3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26000"/>
                            </p:stCondLst>
                            <p:childTnLst>
                              <p:par>
                                <p:cTn id="5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3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42876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66"/>
                </a:solidFill>
                <a:latin typeface="Arial"/>
              </a:rPr>
              <a:t>Путь к файлу вместе с именем файла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66"/>
                </a:solidFill>
                <a:latin typeface="Arial"/>
              </a:rPr>
              <a:t>называют </a:t>
            </a:r>
            <a:r>
              <a:rPr b="1" lang="ru-RU" sz="2900" spc="-1" strike="noStrike" u="sng">
                <a:solidFill>
                  <a:srgbClr val="000066"/>
                </a:solidFill>
                <a:uFillTx/>
                <a:latin typeface="Arial"/>
              </a:rPr>
              <a:t>полным именем файла</a:t>
            </a:r>
            <a:r>
              <a:rPr b="1" lang="ru-RU" sz="29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4" descr="Без-имени-2"/>
          <p:cNvPicPr/>
          <p:nvPr/>
        </p:nvPicPr>
        <p:blipFill>
          <a:blip r:embed="rId1"/>
          <a:stretch/>
        </p:blipFill>
        <p:spPr>
          <a:xfrm>
            <a:off x="2428920" y="1752480"/>
            <a:ext cx="4248000" cy="2686320"/>
          </a:xfrm>
          <a:prstGeom prst="rect">
            <a:avLst/>
          </a:prstGeom>
          <a:ln w="0">
            <a:noFill/>
          </a:ln>
        </p:spPr>
      </p:pic>
      <p:sp>
        <p:nvSpPr>
          <p:cNvPr id="355" name="Text Box 5"/>
          <p:cNvSpPr/>
          <p:nvPr/>
        </p:nvSpPr>
        <p:spPr>
          <a:xfrm>
            <a:off x="428760" y="4479840"/>
            <a:ext cx="8334360" cy="1618560"/>
          </a:xfrm>
          <a:prstGeom prst="rect">
            <a:avLst/>
          </a:prstGeom>
          <a:solidFill>
            <a:srgbClr val="e2f3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C:\Рефераты\Физика\Оптические явления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C:\Рефераты\Информатика\Интернет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C:\Рефераты\Информатика\Компьютерные вирусы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C:\Рисунки\Закат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C:\Рисунки\ Зима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0000"/>
                </a:solidFill>
                <a:latin typeface="Arial Black"/>
              </a:rPr>
              <a:t>Иерархии папок Windows</a:t>
            </a: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pic>
        <p:nvPicPr>
          <p:cNvPr id="357" name="Picture 5" descr="раб-стол"/>
          <p:cNvPicPr/>
          <p:nvPr/>
        </p:nvPicPr>
        <p:blipFill>
          <a:blip r:embed="rId1"/>
          <a:stretch/>
        </p:blipFill>
        <p:spPr>
          <a:xfrm>
            <a:off x="395280" y="1916280"/>
            <a:ext cx="7920000" cy="402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66"/>
                </a:solidFill>
                <a:latin typeface="Arial Black"/>
              </a:rPr>
              <a:t>Операции с файлами и папками</a:t>
            </a: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228240" y="16765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74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Копирование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(копия файла помещается в другой каталог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74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Перемещение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(сам файл перемещается в другой каталог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74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Удаление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(запись о файле удаляется из каталога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74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Переименование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(изменяется имя файла)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20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2000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500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3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66"/>
                </a:solidFill>
                <a:latin typeface="Arial Black"/>
              </a:rPr>
              <a:t>Выберите допустимые имена файлов</a:t>
            </a: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0400" indent="-590400">
              <a:spcBef>
                <a:spcPts val="774"/>
              </a:spcBef>
              <a:buClr>
                <a:srgbClr val="000000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VAN*.DOC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spcBef>
                <a:spcPts val="774"/>
              </a:spcBef>
              <a:buClr>
                <a:srgbClr val="000000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IN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spcBef>
                <a:spcPts val="774"/>
              </a:spcBef>
              <a:buClr>
                <a:srgbClr val="000000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КУКУ.ВМР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spcBef>
                <a:spcPts val="774"/>
              </a:spcBef>
              <a:buClr>
                <a:srgbClr val="000000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А.В.ТХТ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20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20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20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2000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304920" y="990360"/>
            <a:ext cx="853416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омпьютер бе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_________________________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 это бесполезный хлам, груда желез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457200" y="990720"/>
            <a:ext cx="96012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программного обеспе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 Black"/>
              </a:rPr>
              <a:t>Придумайте имена и типы для файлов, содержащих следующую информацию:</a:t>
            </a:r>
            <a:endParaRPr b="0" lang="en-US" sz="29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63" name="Text Box 4"/>
          <p:cNvSpPr/>
          <p:nvPr/>
        </p:nvSpPr>
        <p:spPr>
          <a:xfrm>
            <a:off x="304920" y="1981080"/>
            <a:ext cx="2743200" cy="101592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5"/>
          <p:cNvSpPr/>
          <p:nvPr/>
        </p:nvSpPr>
        <p:spPr>
          <a:xfrm>
            <a:off x="6095880" y="1981080"/>
            <a:ext cx="2743200" cy="101592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6"/>
          <p:cNvSpPr/>
          <p:nvPr/>
        </p:nvSpPr>
        <p:spPr>
          <a:xfrm>
            <a:off x="3200400" y="1981080"/>
            <a:ext cx="2743200" cy="101592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7"/>
          <p:cNvSpPr/>
          <p:nvPr/>
        </p:nvSpPr>
        <p:spPr>
          <a:xfrm>
            <a:off x="228600" y="335268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отография дру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8"/>
          <p:cNvSpPr/>
          <p:nvPr/>
        </p:nvSpPr>
        <p:spPr>
          <a:xfrm>
            <a:off x="3124080" y="342900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цепт орехового печен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9"/>
          <p:cNvSpPr/>
          <p:nvPr/>
        </p:nvSpPr>
        <p:spPr>
          <a:xfrm>
            <a:off x="5943600" y="342900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не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0"/>
          <p:cNvSpPr/>
          <p:nvPr/>
        </p:nvSpPr>
        <p:spPr>
          <a:xfrm>
            <a:off x="304920" y="4175280"/>
            <a:ext cx="2743200" cy="101592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11"/>
          <p:cNvSpPr/>
          <p:nvPr/>
        </p:nvSpPr>
        <p:spPr>
          <a:xfrm>
            <a:off x="6095880" y="4175280"/>
            <a:ext cx="2743200" cy="101592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2"/>
          <p:cNvSpPr/>
          <p:nvPr/>
        </p:nvSpPr>
        <p:spPr>
          <a:xfrm>
            <a:off x="3200400" y="4175280"/>
            <a:ext cx="2743200" cy="101592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3"/>
          <p:cNvSpPr/>
          <p:nvPr/>
        </p:nvSpPr>
        <p:spPr>
          <a:xfrm>
            <a:off x="228600" y="554688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чи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4"/>
          <p:cNvSpPr/>
          <p:nvPr/>
        </p:nvSpPr>
        <p:spPr>
          <a:xfrm>
            <a:off x="2895480" y="5334120"/>
            <a:ext cx="32004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продукция карт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. Брюллова «Всадниц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5"/>
          <p:cNvSpPr/>
          <p:nvPr/>
        </p:nvSpPr>
        <p:spPr>
          <a:xfrm>
            <a:off x="5943600" y="562284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пись концерта рок-груп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Arial Black"/>
              </a:rPr>
              <a:t>Запишите полные имена всех файлов</a:t>
            </a:r>
            <a:endParaRPr b="0" lang="en-US" sz="3100" spc="-1" strike="noStrike">
              <a:solidFill>
                <a:srgbClr val="ff0000"/>
              </a:solidFill>
              <a:latin typeface="Arial Black"/>
            </a:endParaRPr>
          </a:p>
        </p:txBody>
      </p:sp>
      <p:pic>
        <p:nvPicPr>
          <p:cNvPr id="376" name="Picture 4" descr="файловая-система"/>
          <p:cNvPicPr/>
          <p:nvPr/>
        </p:nvPicPr>
        <p:blipFill>
          <a:blip r:embed="rId1"/>
          <a:stretch/>
        </p:blipFill>
        <p:spPr>
          <a:xfrm>
            <a:off x="971640" y="2187720"/>
            <a:ext cx="6191280" cy="4060800"/>
          </a:xfrm>
          <a:prstGeom prst="rect">
            <a:avLst/>
          </a:prstGeom>
          <a:ln w="0">
            <a:noFill/>
          </a:ln>
        </p:spPr>
      </p:pic>
      <p:sp>
        <p:nvSpPr>
          <p:cNvPr id="377" name="WordArt 5"/>
          <p:cNvSpPr txBox="1"/>
          <p:nvPr/>
        </p:nvSpPr>
        <p:spPr>
          <a:xfrm>
            <a:off x="8153280" y="685800"/>
            <a:ext cx="5637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09632"/>
                </a:solidFill>
                <a:latin typeface="Arial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409632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0000"/>
                </a:solidFill>
                <a:latin typeface="Arial Black"/>
              </a:rPr>
              <a:t>Запишите полные имена всех файлов</a:t>
            </a:r>
            <a:endParaRPr b="0" lang="en-US" sz="3100" spc="-1" strike="noStrike">
              <a:solidFill>
                <a:srgbClr val="ff0000"/>
              </a:solidFill>
              <a:latin typeface="Arial Black"/>
            </a:endParaRPr>
          </a:p>
        </p:txBody>
      </p:sp>
      <p:pic>
        <p:nvPicPr>
          <p:cNvPr id="379" name="Picture 3" descr="файловая-система"/>
          <p:cNvPicPr/>
          <p:nvPr/>
        </p:nvPicPr>
        <p:blipFill>
          <a:blip r:embed="rId1"/>
          <a:stretch/>
        </p:blipFill>
        <p:spPr>
          <a:xfrm>
            <a:off x="1835280" y="1773360"/>
            <a:ext cx="4824360" cy="2950920"/>
          </a:xfrm>
          <a:prstGeom prst="rect">
            <a:avLst/>
          </a:prstGeom>
          <a:ln w="0">
            <a:noFill/>
          </a:ln>
        </p:spPr>
      </p:pic>
      <p:sp>
        <p:nvSpPr>
          <p:cNvPr id="380" name="Text Box 4"/>
          <p:cNvSpPr/>
          <p:nvPr/>
        </p:nvSpPr>
        <p:spPr>
          <a:xfrm>
            <a:off x="250920" y="4941720"/>
            <a:ext cx="864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5"/>
          <p:cNvSpPr/>
          <p:nvPr/>
        </p:nvSpPr>
        <p:spPr>
          <a:xfrm>
            <a:off x="533520" y="4876920"/>
            <a:ext cx="8207280" cy="1313640"/>
          </a:xfrm>
          <a:prstGeom prst="rect">
            <a:avLst/>
          </a:prstGeom>
          <a:solidFill>
            <a:srgbClr val="e2f3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C:\Мои документы\Иванов\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Basic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C:\Мои документы\Петров\Письмо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C:\Мои документы\Петров\Рисунк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\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ре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C:\Фильмы\Интересный фильм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WordArt 6"/>
          <p:cNvSpPr txBox="1"/>
          <p:nvPr/>
        </p:nvSpPr>
        <p:spPr>
          <a:xfrm>
            <a:off x="7956720" y="692280"/>
            <a:ext cx="5634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09632"/>
                </a:solidFill>
                <a:latin typeface="Arial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409632"/>
              </a:solidFill>
              <a:latin typeface="Arial"/>
              <a:ea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3520" y="3885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 Black"/>
              </a:rPr>
              <a:t>Рефлексия</a:t>
            </a:r>
            <a:br>
              <a:rPr sz="2900"/>
            </a:br>
            <a:r>
              <a:rPr b="0" lang="en-US" sz="29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1" i="1" lang="en-US" sz="2900" spc="-1" strike="noStrike">
                <a:solidFill>
                  <a:srgbClr val="000066"/>
                </a:solidFill>
                <a:latin typeface="Arial"/>
              </a:rPr>
              <a:t>Оцените сегодняшний урок: </a:t>
            </a:r>
            <a:br>
              <a:rPr sz="2900"/>
            </a:br>
            <a:r>
              <a:rPr b="1" i="1" lang="en-US" sz="2900" spc="-1" strike="noStrike">
                <a:solidFill>
                  <a:srgbClr val="000066"/>
                </a:solidFill>
                <a:latin typeface="Arial"/>
              </a:rPr>
              <a:t>0- нет, 1-да.</a:t>
            </a:r>
            <a:endParaRPr b="0" lang="en-US" sz="29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533160"/>
            <a:ext cx="80773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0400" indent="-5904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Вам было интересно на уроке?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Вы узнали что-то новое на уроке?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Был ли доступен изучавшийся материал?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Вы его поняли?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Готовы ли вы на следующих уроках применить его на практике?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2000"/>
                            </p:stCondLst>
                            <p:childTnLst>
                              <p:par>
                                <p:cTn id="6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2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4000"/>
                            </p:stCondLst>
                            <p:childTnLst>
                              <p:par>
                                <p:cTn id="6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20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6000"/>
                            </p:stCondLst>
                            <p:childTnLst>
                              <p:par>
                                <p:cTn id="6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20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8000"/>
                            </p:stCondLst>
                            <p:childTnLst>
                              <p:par>
                                <p:cTn id="6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20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2000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371240" y="37335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66"/>
                </a:solidFill>
                <a:latin typeface="Arial Black"/>
              </a:rPr>
              <a:t>Домашнее задание</a:t>
            </a: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6960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0400" indent="-590400">
              <a:spcBef>
                <a:spcPts val="774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  <a:ea typeface="Arial"/>
              </a:rPr>
              <a:t> 11, конспект лекции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spcBef>
                <a:spcPts val="774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  <a:ea typeface="Arial"/>
              </a:rPr>
              <a:t>Составить кроссворд, используя новые термины и понятия уроков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20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20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0000"/>
                </a:solidFill>
                <a:latin typeface="Arial Black"/>
              </a:rPr>
              <a:t>Постройте дерево каталогов</a:t>
            </a: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152280" y="1980720"/>
            <a:ext cx="91440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"/>
              </a:rPr>
              <a:t>C:\Рисунки\Природа\Небо.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bmp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"/>
              </a:rPr>
              <a:t>C:\Рисунки\Природа\Снег.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bmp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"/>
              </a:rPr>
              <a:t>C:\Рисунки\Компьютер\Монитор.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bmp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"/>
              </a:rPr>
              <a:t>C:\Мои документы\Доклад.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doc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WordArt 8"/>
          <p:cNvSpPr txBox="1"/>
          <p:nvPr/>
        </p:nvSpPr>
        <p:spPr>
          <a:xfrm>
            <a:off x="7956720" y="457200"/>
            <a:ext cx="5634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09632"/>
                </a:solidFill>
                <a:latin typeface="Arial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409632"/>
              </a:solidFill>
              <a:latin typeface="Arial"/>
              <a:ea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0000"/>
                </a:solidFill>
                <a:latin typeface="Arial Black"/>
              </a:rPr>
              <a:t>Постройте дерево каталогов</a:t>
            </a: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pic>
        <p:nvPicPr>
          <p:cNvPr id="391" name="Picture 4" descr="файловая-сис2"/>
          <p:cNvPicPr/>
          <p:nvPr/>
        </p:nvPicPr>
        <p:blipFill>
          <a:blip r:embed="rId1"/>
          <a:stretch/>
        </p:blipFill>
        <p:spPr>
          <a:xfrm>
            <a:off x="857160" y="1812960"/>
            <a:ext cx="7067520" cy="3898800"/>
          </a:xfrm>
          <a:prstGeom prst="rect">
            <a:avLst/>
          </a:prstGeom>
          <a:ln w="0">
            <a:noFill/>
          </a:ln>
        </p:spPr>
      </p:pic>
      <p:sp>
        <p:nvSpPr>
          <p:cNvPr id="392" name="WordArt 6"/>
          <p:cNvSpPr txBox="1"/>
          <p:nvPr/>
        </p:nvSpPr>
        <p:spPr>
          <a:xfrm>
            <a:off x="7620120" y="685800"/>
            <a:ext cx="5634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09632"/>
                </a:solidFill>
                <a:latin typeface="Arial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409632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304920" y="1142640"/>
            <a:ext cx="853416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ограммное обеспечение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ся 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_______________________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хранящихся на всех устройствах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омпьютер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1523880" y="990720"/>
            <a:ext cx="8534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совокупность програм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долговременной памят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380520" y="990720"/>
            <a:ext cx="8458200" cy="495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перационная систем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бор 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___________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управляющих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__________________________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нешними устройствами и ведущих 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____________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с пользователе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533520" y="762120"/>
            <a:ext cx="81532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             </a:t>
            </a: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програм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ОЗУ, процессором, файл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                       </a:t>
            </a: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диалог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AutoShape 15"/>
          <p:cNvSpPr/>
          <p:nvPr/>
        </p:nvSpPr>
        <p:spPr>
          <a:xfrm>
            <a:off x="1600200" y="685800"/>
            <a:ext cx="6095880" cy="83808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зовите вид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граммного обеспе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16"/>
          <p:cNvSpPr/>
          <p:nvPr/>
        </p:nvSpPr>
        <p:spPr>
          <a:xfrm>
            <a:off x="914400" y="2895480"/>
            <a:ext cx="3124080" cy="91440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истемное П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17"/>
          <p:cNvSpPr/>
          <p:nvPr/>
        </p:nvSpPr>
        <p:spPr>
          <a:xfrm>
            <a:off x="1447920" y="4495680"/>
            <a:ext cx="6172200" cy="91440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истемы программир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18"/>
          <p:cNvSpPr/>
          <p:nvPr/>
        </p:nvSpPr>
        <p:spPr>
          <a:xfrm>
            <a:off x="5257800" y="2743200"/>
            <a:ext cx="3124080" cy="91440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кладное П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19"/>
          <p:cNvSpPr/>
          <p:nvPr/>
        </p:nvSpPr>
        <p:spPr>
          <a:xfrm>
            <a:off x="2286000" y="1752480"/>
            <a:ext cx="152280" cy="990720"/>
          </a:xfrm>
          <a:prstGeom prst="downArrow">
            <a:avLst>
              <a:gd name="adj1" fmla="val 50000"/>
              <a:gd name="adj2" fmla="val 162648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20"/>
          <p:cNvSpPr/>
          <p:nvPr/>
        </p:nvSpPr>
        <p:spPr>
          <a:xfrm>
            <a:off x="4495680" y="1828800"/>
            <a:ext cx="152640" cy="2590920"/>
          </a:xfrm>
          <a:prstGeom prst="downArrow">
            <a:avLst>
              <a:gd name="adj1" fmla="val 50000"/>
              <a:gd name="adj2" fmla="val 424351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21"/>
          <p:cNvSpPr/>
          <p:nvPr/>
        </p:nvSpPr>
        <p:spPr>
          <a:xfrm>
            <a:off x="6781680" y="1752480"/>
            <a:ext cx="152640" cy="914400"/>
          </a:xfrm>
          <a:prstGeom prst="downArrow">
            <a:avLst>
              <a:gd name="adj1" fmla="val 50000"/>
              <a:gd name="adj2" fmla="val 149764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8" dur="2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3" dur="2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8" dur="2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99"/>
                </a:solidFill>
                <a:latin typeface="Arial Black"/>
              </a:rPr>
              <a:t>Найдите и исправьте ошибки</a:t>
            </a: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696080" cy="403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5904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1)  Системные программы –            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это средства, предназначенные для создания ПО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SzPct val="70000"/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Прикладное ПО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руководит слаженной работой всех элементов компьютерной системы как на аппаратном уровне, так и на программном уровне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4"/>
          <p:cNvSpPr/>
          <p:nvPr/>
        </p:nvSpPr>
        <p:spPr>
          <a:xfrm>
            <a:off x="1371600" y="1981080"/>
            <a:ext cx="4343400" cy="0"/>
          </a:xfrm>
          <a:prstGeom prst="line">
            <a:avLst/>
          </a:prstGeom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1295280" y="167652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Системы программир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6"/>
          <p:cNvSpPr/>
          <p:nvPr/>
        </p:nvSpPr>
        <p:spPr>
          <a:xfrm>
            <a:off x="1447920" y="3429000"/>
            <a:ext cx="2209680" cy="0"/>
          </a:xfrm>
          <a:prstGeom prst="line">
            <a:avLst/>
          </a:prstGeom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7"/>
          <p:cNvSpPr/>
          <p:nvPr/>
        </p:nvSpPr>
        <p:spPr>
          <a:xfrm>
            <a:off x="1371600" y="31384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Системное П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5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500"/>
                            </p:stCondLst>
                            <p:childTnLst>
                              <p:par>
                                <p:cTn id="161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62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82" dur="5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Установите соответствие:</a:t>
            </a: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83" name="AutoShape 16"/>
          <p:cNvSpPr/>
          <p:nvPr/>
        </p:nvSpPr>
        <p:spPr>
          <a:xfrm>
            <a:off x="380880" y="4876920"/>
            <a:ext cx="2362320" cy="9144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истемное П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17"/>
          <p:cNvSpPr/>
          <p:nvPr/>
        </p:nvSpPr>
        <p:spPr>
          <a:xfrm>
            <a:off x="5715000" y="4876920"/>
            <a:ext cx="3124080" cy="9144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истем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грамм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18"/>
          <p:cNvSpPr/>
          <p:nvPr/>
        </p:nvSpPr>
        <p:spPr>
          <a:xfrm>
            <a:off x="2971800" y="4876920"/>
            <a:ext cx="2590920" cy="9144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кладное П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16"/>
          <p:cNvSpPr/>
          <p:nvPr/>
        </p:nvSpPr>
        <p:spPr>
          <a:xfrm>
            <a:off x="304920" y="22096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ерацио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17"/>
          <p:cNvSpPr/>
          <p:nvPr/>
        </p:nvSpPr>
        <p:spPr>
          <a:xfrm>
            <a:off x="5715000" y="2209680"/>
            <a:ext cx="3124080" cy="91440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лавиатур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енаж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18"/>
          <p:cNvSpPr/>
          <p:nvPr/>
        </p:nvSpPr>
        <p:spPr>
          <a:xfrm>
            <a:off x="2971800" y="2209680"/>
            <a:ext cx="2590920" cy="91440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ьютер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гр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Установите соответствие:</a:t>
            </a: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90" name="AutoShape 16"/>
          <p:cNvSpPr/>
          <p:nvPr/>
        </p:nvSpPr>
        <p:spPr>
          <a:xfrm>
            <a:off x="380880" y="4876920"/>
            <a:ext cx="2362320" cy="9144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истемное П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17"/>
          <p:cNvSpPr/>
          <p:nvPr/>
        </p:nvSpPr>
        <p:spPr>
          <a:xfrm>
            <a:off x="5715000" y="4876920"/>
            <a:ext cx="3124080" cy="9144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истем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грамм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18"/>
          <p:cNvSpPr/>
          <p:nvPr/>
        </p:nvSpPr>
        <p:spPr>
          <a:xfrm>
            <a:off x="2971800" y="4876920"/>
            <a:ext cx="2590920" cy="9144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кладное П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16"/>
          <p:cNvSpPr/>
          <p:nvPr/>
        </p:nvSpPr>
        <p:spPr>
          <a:xfrm>
            <a:off x="228600" y="2209680"/>
            <a:ext cx="2514600" cy="114300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а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хива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Z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17"/>
          <p:cNvSpPr/>
          <p:nvPr/>
        </p:nvSpPr>
        <p:spPr>
          <a:xfrm>
            <a:off x="5791320" y="2209680"/>
            <a:ext cx="3124080" cy="114300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кстовый редак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18"/>
          <p:cNvSpPr/>
          <p:nvPr/>
        </p:nvSpPr>
        <p:spPr>
          <a:xfrm>
            <a:off x="2895480" y="2209680"/>
            <a:ext cx="2819520" cy="114300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Язы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грамм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аска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омпьютер</cp:lastModifiedBy>
  <dcterms:modified xsi:type="dcterms:W3CDTF">2008-11-24T16:18:08Z</dcterms:modified>
  <cp:revision>5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