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DD52-B7EE-4D55-BE77-4F4142E003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5EBF-7AD3-42FB-A3EA-3CC1519CA8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4670-AAD5-4127-8642-96BD1940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02BE-C6BB-415D-90AD-857118EF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A46-AD20-44B4-91FA-3CE63F22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9790-4AC1-4A20-94A7-BB158E65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1291-44EB-4B12-A002-8955C11E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7769-F181-406B-B90B-8B003314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E5ED-38DA-43A4-A0FB-0158A35B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AA8C-C187-4C19-93D2-B7D025A5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BD1D-05B9-435F-AFA3-27FBF4B2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8951-DA2F-4E39-9224-58EF0CE1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3ABA-E5D0-498A-8E94-7EC854EB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6C37-C39A-4293-87AE-BD3B8D04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8169-4DE2-4167-BE96-69166FB3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EA59-D97A-45EF-849D-8F7F0D3E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7620-AAA1-4A1B-A9C4-47C1F4F8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E806-345D-48DD-B2C3-CF880BD4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BAE5-9371-45F5-B594-E5935A2B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D1F2F-67EB-46B8-A17D-48D8DD63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A534E-AA14-449C-82FC-D50DF547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F46F2-962F-407F-A15B-C221A137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A1E9E-22E2-48D6-81FC-9DE32C05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B3ABB-1331-4AA0-8DAD-39D3B5FC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8436-49F7-454F-8CE1-4F626D52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A3FC7-B6AD-4B49-9B0D-991C31B4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886B5-571E-4632-BA92-C55CA01B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32BCA-0C65-493D-B1E8-606C0A10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9FF53-71C0-45F4-B360-F252B562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CFD6A-FC5A-42A6-AAD2-24F04CC1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46773-EE3D-4F42-A23E-4FB5A33F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594E9-9BA2-4AB0-9209-143B6394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E1D0-B4FC-4E78-BEB5-4E76A90A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2A62-6269-48A6-A0DA-3A06A0FD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6FBB-307B-4815-9248-F6C985EB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4C87-5674-42F6-B43A-29705491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2073-44CA-4178-9F17-3CBFC3D4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C8CF-9B94-4D5D-82F4-2F1F6406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00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A3BD-536B-4EE9-850C-A3F957D0A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00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04FC-422C-4022-835B-42242358F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89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90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91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93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6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97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8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99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0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01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7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138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4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5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6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0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6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87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9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90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9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200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207" name="Oval 121"/>
                <p:cNvSpPr/>
                <p:nvPr/>
              </p:nvSpPr>
              <p:spPr>
                <a:xfrm rot="2828400">
                  <a:off x="4770360" y="2359440"/>
                  <a:ext cx="3146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22"/>
                <p:cNvSpPr/>
                <p:nvPr/>
              </p:nvSpPr>
              <p:spPr>
                <a:xfrm>
                  <a:off x="4869000" y="2256840"/>
                  <a:ext cx="255960" cy="24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123"/>
                <p:cNvSpPr/>
                <p:nvPr/>
              </p:nvSpPr>
              <p:spPr>
                <a:xfrm>
                  <a:off x="4952520" y="2246400"/>
                  <a:ext cx="183960" cy="17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124"/>
                <p:cNvSpPr/>
                <p:nvPr/>
              </p:nvSpPr>
              <p:spPr>
                <a:xfrm>
                  <a:off x="5018040" y="2142720"/>
                  <a:ext cx="228960" cy="22068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59A7-082B-4887-BD9A-2476B0C66F6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26"/>
                </a:solidFill>
                <a:latin typeface="Arial"/>
              </a:rPr>
              <a:t>ФАЙЛЫ И</a:t>
            </a:r>
            <a:br>
              <a:rPr sz="4000"/>
            </a:br>
            <a:r>
              <a:rPr b="1" lang="en-US" sz="4000" spc="-1" strike="noStrike">
                <a:solidFill>
                  <a:srgbClr val="262626"/>
                </a:solidFill>
                <a:latin typeface="Arial"/>
              </a:rPr>
              <a:t>ФАЙЛОВАЯ СИСТЕМА</a:t>
            </a: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Понятие файла, файловой системы, классификаци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Установите соответствие: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97" name="AutoShape 16"/>
          <p:cNvSpPr/>
          <p:nvPr/>
        </p:nvSpPr>
        <p:spPr>
          <a:xfrm>
            <a:off x="380880" y="4876920"/>
            <a:ext cx="23623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н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7"/>
          <p:cNvSpPr/>
          <p:nvPr/>
        </p:nvSpPr>
        <p:spPr>
          <a:xfrm>
            <a:off x="5715000" y="48769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8"/>
          <p:cNvSpPr/>
          <p:nvPr/>
        </p:nvSpPr>
        <p:spPr>
          <a:xfrm>
            <a:off x="2971800" y="4876920"/>
            <a:ext cx="25909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кладн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6"/>
          <p:cNvSpPr/>
          <p:nvPr/>
        </p:nvSpPr>
        <p:spPr>
          <a:xfrm>
            <a:off x="228600" y="2209680"/>
            <a:ext cx="2514600" cy="11430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у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глийскому я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7"/>
          <p:cNvSpPr/>
          <p:nvPr/>
        </p:nvSpPr>
        <p:spPr>
          <a:xfrm>
            <a:off x="5791320" y="220968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зы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т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8"/>
          <p:cNvSpPr/>
          <p:nvPr/>
        </p:nvSpPr>
        <p:spPr>
          <a:xfrm>
            <a:off x="2895480" y="2209680"/>
            <a:ext cx="2819520" cy="11430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ивиру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Что такое файл?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Все программы и данные хранятся в долговременной (внешней) памяти компьютера в виде 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файл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99"/>
                </a:solidFill>
                <a:uFillTx/>
                <a:latin typeface="Arial"/>
              </a:rPr>
              <a:t>Файл</a:t>
            </a: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— это информация, хранящаяся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а внешнем носителе и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бъединенная общим именем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Файловая система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762120" y="17524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 каждом носителе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гибком, жестком или лазерном дис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ожет храниться большое количе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файлов. Порядок хранения файлов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иске определяется установл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файловой системой.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Файловая система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- это функциональна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часть ОС, обеспечивающая выполнен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пераций с файла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505320" y="1253880"/>
            <a:ext cx="4952880" cy="677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539640" y="1219320"/>
            <a:ext cx="2386080" cy="17287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ис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ай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505320" y="1940040"/>
            <a:ext cx="2003400" cy="10080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др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ск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\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508720" y="1940040"/>
            <a:ext cx="2950920" cy="10080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я фай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мя.расши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2925720" y="1752480"/>
            <a:ext cx="579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2133720" y="380988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Как найти нужный фай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99"/>
                </a:solidFill>
                <a:latin typeface="Arial Black"/>
              </a:rPr>
              <a:t>Имя файла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762120" y="16765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мя файла состоит из двух частей, разделенны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очкой: собственно </a:t>
            </a:r>
            <a:r>
              <a:rPr b="1" i="1" lang="ru-RU" sz="2500" spc="-1" strike="noStrike">
                <a:solidFill>
                  <a:srgbClr val="3333cc"/>
                </a:solidFill>
                <a:latin typeface="Arial"/>
              </a:rPr>
              <a:t>имя файла</a:t>
            </a:r>
            <a:r>
              <a:rPr b="0" i="1" lang="ru-RU" sz="2500" spc="-1" strike="noStrike">
                <a:solidFill>
                  <a:srgbClr val="409632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(до 255 символов) 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3300"/>
                </a:solidFill>
                <a:latin typeface="Arial"/>
              </a:rPr>
              <a:t>расширения</a:t>
            </a:r>
            <a:r>
              <a:rPr b="0" i="1" lang="ru-RU" sz="2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(3 символа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ственно имя файлу дает пользователь, а тип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айла обычно задается программой автоматичес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и его создан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Расширение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указывает, какого рода информ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хранится в файле, тип фай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00"/>
                </a:solidFill>
                <a:latin typeface="Arial"/>
              </a:rPr>
              <a:t>proba</a:t>
            </a:r>
            <a:r>
              <a:rPr b="1" lang="ru-RU" sz="4100" spc="-1" strike="noStrike">
                <a:solidFill>
                  <a:srgbClr val="ff7c80"/>
                </a:solidFill>
                <a:latin typeface="Arial"/>
              </a:rPr>
              <a:t>.</a:t>
            </a:r>
            <a:r>
              <a:rPr b="1" lang="ru-RU" sz="3100" spc="-1" strike="noStrike">
                <a:solidFill>
                  <a:srgbClr val="6600ff"/>
                </a:solidFill>
                <a:latin typeface="Arial"/>
              </a:rPr>
              <a:t>tx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4"/>
          <p:cNvSpPr/>
          <p:nvPr/>
        </p:nvSpPr>
        <p:spPr>
          <a:xfrm rot="16200000">
            <a:off x="1257120" y="49903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"/>
          <p:cNvSpPr/>
          <p:nvPr/>
        </p:nvSpPr>
        <p:spPr>
          <a:xfrm rot="16200000">
            <a:off x="2209680" y="51811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685800" y="5638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1600200" y="5638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ши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0000"/>
                </a:solidFill>
                <a:latin typeface="Arial Black"/>
              </a:rPr>
              <a:t>Соглашение 8.3</a:t>
            </a:r>
            <a:endParaRPr b="0" lang="en-US" sz="47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400" y="1904760"/>
            <a:ext cx="871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 соглашению 8.3 имя файла может состоять из дву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астей, разделенных точкой. Первая часть может име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лину до 8 символ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и записи имени файла разрешается использова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олько буквы английского алфавита и цифр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чинаться имя должно с буквы. Пробелы и зна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пинания не допускаются, за исключение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осклицательного знака (!), тильды (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) и симво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дчеркивания (_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Длинные имена файлов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Разрешается использовать до 255 символ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Разрешается использовать символы национальных алфавитов, в частности русско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Разрешается использовать пробелы и другие ранее запрещенные символы, за исключением следующих девяти: / \ : *   ? "&lt; &gt;|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В имени файла можно использовать несколько точек. Расширением имени считаются все символы, стоящие за последней точк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Arial Black"/>
              </a:rPr>
              <a:t>Символы, которые не используют при задании имени файла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300" spc="-1" strike="noStrike">
                <a:solidFill>
                  <a:srgbClr val="000000"/>
                </a:solidFill>
                <a:latin typeface="Arial"/>
              </a:rPr>
              <a:t>/ \ * : ? </a:t>
            </a:r>
            <a:r>
              <a:rPr b="1" lang="en-US" sz="73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7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300" spc="-1" strike="noStrike">
                <a:solidFill>
                  <a:srgbClr val="000000"/>
                </a:solidFill>
                <a:latin typeface="Arial"/>
              </a:rPr>
              <a:t>“ &lt; &gt;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15"/>
          <p:cNvSpPr/>
          <p:nvPr/>
        </p:nvSpPr>
        <p:spPr>
          <a:xfrm>
            <a:off x="1600200" y="685800"/>
            <a:ext cx="6095880" cy="8380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ФАЙ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6"/>
          <p:cNvSpPr/>
          <p:nvPr/>
        </p:nvSpPr>
        <p:spPr>
          <a:xfrm>
            <a:off x="9144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няе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рограм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ициализация (запус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7"/>
          <p:cNvSpPr/>
          <p:nvPr/>
        </p:nvSpPr>
        <p:spPr>
          <a:xfrm>
            <a:off x="1447920" y="4724280"/>
            <a:ext cx="617220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рхивные фай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ет храни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ая инфор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8"/>
          <p:cNvSpPr/>
          <p:nvPr/>
        </p:nvSpPr>
        <p:spPr>
          <a:xfrm>
            <a:off x="52578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йлы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мот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дак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9"/>
          <p:cNvSpPr/>
          <p:nvPr/>
        </p:nvSpPr>
        <p:spPr>
          <a:xfrm>
            <a:off x="228600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1"/>
          <p:cNvSpPr/>
          <p:nvPr/>
        </p:nvSpPr>
        <p:spPr>
          <a:xfrm>
            <a:off x="6781680" y="175248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9"/>
          <p:cNvSpPr/>
          <p:nvPr/>
        </p:nvSpPr>
        <p:spPr>
          <a:xfrm rot="16200000">
            <a:off x="4324320" y="2876760"/>
            <a:ext cx="533520" cy="3009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8480 h 3009600"/>
              <a:gd name="textAreaBottom" fmla="*/ 2931120 h 30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009800" y="3069720"/>
            <a:ext cx="726912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0" y="0"/>
          <a:ext cx="9144000" cy="6857640"/>
        </p:xfrm>
        <a:graphic>
          <a:graphicData uri="http://schemas.openxmlformats.org/drawingml/2006/table">
            <a:tbl>
              <a:tblPr/>
              <a:tblGrid>
                <a:gridCol w="4573440"/>
                <a:gridCol w="4570560"/>
              </a:tblGrid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файл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шир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няемые программ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, com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кстовые фай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xt, rtf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афические фай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mp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f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pg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ng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b-страниц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m, ht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вуковые фай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v, mp3, midi, kar, o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73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еофай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i, mpe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(текст) программы н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зыках программировани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, pas, cp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хивные фай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j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zip, 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380880" y="609480"/>
            <a:ext cx="8305920" cy="52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, что маленький компьютер может сделать имея большую программу, большой компьютер сделает малую, отсюда вывод, что большая программа может действовать безо всякого компьюте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танислав 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апка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аталог) – совокупность файлов (подкаталогов) по одной тематике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560" y="182880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 операционной системе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мест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каталогов используется понятие «папка»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Arial"/>
              </a:rPr>
              <a:t>Папка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– это объект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, предназначенно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для объединения файлов и других папок 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группы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нятие папки шире, чем понятие «каталог». 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Windows на вершине иерархии папок находитс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апка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Рабочий стол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. (Следующий уровен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едставлен папками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Мой компьютер, Корзин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етевое окружение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(если компьютер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дключен к локальной сети)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609480" y="380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На одном компьютере может бы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несколько дисков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аждому дисководу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исваиваетс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однобуквенное имя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А:, В:, С:,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:, 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Логический диск – это физический диск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еальный диск или часть физическог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иска, которому присвоено им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Файловая структура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вся совокупность файлов на диске и взаимосвязей между ними.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8" name="AutoShape 19"/>
          <p:cNvSpPr/>
          <p:nvPr/>
        </p:nvSpPr>
        <p:spPr>
          <a:xfrm>
            <a:off x="213372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1"/>
          <p:cNvSpPr/>
          <p:nvPr/>
        </p:nvSpPr>
        <p:spPr>
          <a:xfrm>
            <a:off x="6629400" y="175248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6"/>
          <p:cNvSpPr/>
          <p:nvPr/>
        </p:nvSpPr>
        <p:spPr>
          <a:xfrm>
            <a:off x="9144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оуровне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8"/>
          <p:cNvSpPr/>
          <p:nvPr/>
        </p:nvSpPr>
        <p:spPr>
          <a:xfrm>
            <a:off x="52578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огоуровне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иерархиче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8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Arial Black"/>
              </a:rPr>
              <a:t>Одноуровневая файловая система</a:t>
            </a:r>
            <a:endParaRPr b="0" lang="en-US" sz="3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76212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дисков с небольшим количеством файлов (до нескольких десятков) удобно применять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одноуровневую файловую систему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когда каталог (оглавление диска) представляет собой линейную последовательность имен файлов. Для отыскания файла на диске достаточно указать лишь имя файл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иск: имя.расшире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etris.ex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одноуровневая файловая система"/>
          <p:cNvPicPr/>
          <p:nvPr/>
        </p:nvPicPr>
        <p:blipFill>
          <a:blip r:embed="rId1"/>
          <a:stretch/>
        </p:blipFill>
        <p:spPr>
          <a:xfrm>
            <a:off x="2917800" y="3886200"/>
            <a:ext cx="561672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rial Black"/>
              </a:rPr>
              <a:t>Многоуровневая иерархическая файловая система</a:t>
            </a:r>
            <a:endParaRPr b="0" lang="en-US" sz="3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62120" y="17524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сли на диске хранятся сотни и тысячи файлов, то дл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добства поиска файлы организуются в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ногоуровневую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иерархическую файловую систему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которая име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древовидную» структуру (имеет вид перевернутого дерева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иск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орневой каталог)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атало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имя.расшире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многоуровневая иерархическая файловая система"/>
          <p:cNvPicPr/>
          <p:nvPr/>
        </p:nvPicPr>
        <p:blipFill>
          <a:blip r:embed="rId1"/>
          <a:stretch/>
        </p:blipFill>
        <p:spPr>
          <a:xfrm>
            <a:off x="2124000" y="3517920"/>
            <a:ext cx="3286080" cy="280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36680"/>
            <a:ext cx="822960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Путь к файлу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последовательность папок, начиная от самой верхней и заканчивая той, в которой непосредственно хранится файл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800240" y="2222640"/>
            <a:ext cx="43434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 чтобы найти файл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ерархической файл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е необход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азать путь к файлу. В пу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файлу вход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ываемые чере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итель "\" лог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диск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и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оженных друг в д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талогов, в последнем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х находится д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й фай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Без-имени-2"/>
          <p:cNvPicPr/>
          <p:nvPr/>
        </p:nvPicPr>
        <p:blipFill>
          <a:blip r:embed="rId1"/>
          <a:stretch/>
        </p:blipFill>
        <p:spPr>
          <a:xfrm>
            <a:off x="457200" y="2286000"/>
            <a:ext cx="4267080" cy="26971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"/>
          <p:cNvSpPr/>
          <p:nvPr/>
        </p:nvSpPr>
        <p:spPr>
          <a:xfrm>
            <a:off x="533520" y="5029200"/>
            <a:ext cx="3584520" cy="119124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C:\Рефераты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C:\Рефераты\Физика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C:\Рефераты\Информатика\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C:\Рисунки\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250920" y="169056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Полное имя файла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– имя логического диска + путь к файлу + имя фай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6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8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4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6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3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2876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Arial"/>
              </a:rPr>
              <a:t>Путь к файлу вместе с именем файл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Arial"/>
              </a:rPr>
              <a:t>называют </a:t>
            </a:r>
            <a:r>
              <a:rPr b="1" lang="ru-RU" sz="2900" spc="-1" strike="noStrike" u="sng">
                <a:solidFill>
                  <a:srgbClr val="000066"/>
                </a:solidFill>
                <a:uFillTx/>
                <a:latin typeface="Arial"/>
              </a:rPr>
              <a:t>полным именем файла</a:t>
            </a:r>
            <a:r>
              <a:rPr b="1" lang="ru-RU" sz="29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Без-имени-2"/>
          <p:cNvPicPr/>
          <p:nvPr/>
        </p:nvPicPr>
        <p:blipFill>
          <a:blip r:embed="rId1"/>
          <a:stretch/>
        </p:blipFill>
        <p:spPr>
          <a:xfrm>
            <a:off x="2428920" y="1752480"/>
            <a:ext cx="4248000" cy="26863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5"/>
          <p:cNvSpPr/>
          <p:nvPr/>
        </p:nvSpPr>
        <p:spPr>
          <a:xfrm>
            <a:off x="428760" y="4479840"/>
            <a:ext cx="8334360" cy="161856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Рефераты\Физика\Оптические явления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Рефераты\Информатика\Интернет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Рефераты\Информатика\Компьютерные вирусы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Рисунки\Закат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Рисунки\ Зима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Иерархии папок Windows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357" name="Picture 5" descr="раб-стол"/>
          <p:cNvPicPr/>
          <p:nvPr/>
        </p:nvPicPr>
        <p:blipFill>
          <a:blip r:embed="rId1"/>
          <a:stretch/>
        </p:blipFill>
        <p:spPr>
          <a:xfrm>
            <a:off x="395280" y="1916280"/>
            <a:ext cx="7920000" cy="40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 Black"/>
              </a:rPr>
              <a:t>Операции с файлами и папками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28240" y="16765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74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Копирование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копия файла помещается в другой каталог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Перемещение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сам файл перемещается в другой каталог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Удаление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запись о файле удаляется из каталога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Переименование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изменяется имя файла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 Black"/>
              </a:rPr>
              <a:t>Выберите допустимые имена файлов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VAN*.DO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N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УКУ.ВМР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.В.ТХ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53416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мпьютер бе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_________________________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это бесполезный хлам, груда желез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457200" y="990720"/>
            <a:ext cx="9601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программного обеспе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 Black"/>
              </a:rPr>
              <a:t>Придумайте имена и типы для файлов, содержащих следующую информацию: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304920" y="1981080"/>
            <a:ext cx="2743200" cy="1015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6095880" y="1981080"/>
            <a:ext cx="2743200" cy="1015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3200400" y="1981080"/>
            <a:ext cx="2743200" cy="1015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228600" y="3352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тография д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3124080" y="342900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цепт орехового печен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5943600" y="34290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н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304920" y="4175280"/>
            <a:ext cx="2743200" cy="1015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6095880" y="4175280"/>
            <a:ext cx="2743200" cy="1015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3200400" y="4175280"/>
            <a:ext cx="2743200" cy="1015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228600" y="55468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чи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4"/>
          <p:cNvSpPr/>
          <p:nvPr/>
        </p:nvSpPr>
        <p:spPr>
          <a:xfrm>
            <a:off x="2895480" y="5334120"/>
            <a:ext cx="3200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продукция кар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. Брюллова «Всадни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5943600" y="56228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пись концерта рок-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Arial Black"/>
              </a:rPr>
              <a:t>Запишите полные имена всех файлов</a:t>
            </a:r>
            <a:endParaRPr b="0" lang="en-US" sz="31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376" name="Picture 4" descr="файловая-система"/>
          <p:cNvPicPr/>
          <p:nvPr/>
        </p:nvPicPr>
        <p:blipFill>
          <a:blip r:embed="rId1"/>
          <a:stretch/>
        </p:blipFill>
        <p:spPr>
          <a:xfrm>
            <a:off x="971640" y="2187720"/>
            <a:ext cx="6191280" cy="4060800"/>
          </a:xfrm>
          <a:prstGeom prst="rect">
            <a:avLst/>
          </a:prstGeom>
          <a:ln w="0">
            <a:noFill/>
          </a:ln>
        </p:spPr>
      </p:pic>
      <p:sp>
        <p:nvSpPr>
          <p:cNvPr id="377" name="WordArt 5"/>
          <p:cNvSpPr txBox="1"/>
          <p:nvPr/>
        </p:nvSpPr>
        <p:spPr>
          <a:xfrm>
            <a:off x="8153280" y="685800"/>
            <a:ext cx="5637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rial Black"/>
              </a:rPr>
              <a:t>Запишите полные имена всех файлов</a:t>
            </a:r>
            <a:endParaRPr b="0" lang="en-US" sz="31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379" name="Picture 3" descr="файловая-система"/>
          <p:cNvPicPr/>
          <p:nvPr/>
        </p:nvPicPr>
        <p:blipFill>
          <a:blip r:embed="rId1"/>
          <a:stretch/>
        </p:blipFill>
        <p:spPr>
          <a:xfrm>
            <a:off x="1835280" y="1773360"/>
            <a:ext cx="4824360" cy="295092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4"/>
          <p:cNvSpPr/>
          <p:nvPr/>
        </p:nvSpPr>
        <p:spPr>
          <a:xfrm>
            <a:off x="250920" y="494172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533520" y="4876920"/>
            <a:ext cx="8207280" cy="131364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Мои документы\Иванов\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Basi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Мои документы\Петров\Письмо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Мои документы\Петров\Рисун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ре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Фильмы\Интересный фильм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WordArt 6"/>
          <p:cNvSpPr txBox="1"/>
          <p:nvPr/>
        </p:nvSpPr>
        <p:spPr>
          <a:xfrm>
            <a:off x="7956720" y="692280"/>
            <a:ext cx="56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3885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 Black"/>
              </a:rPr>
              <a:t>Рефлексия</a:t>
            </a:r>
            <a:br>
              <a:rPr sz="2900"/>
            </a:br>
            <a:r>
              <a:rPr b="0" lang="en-US" sz="29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1" i="1" lang="en-US" sz="2900" spc="-1" strike="noStrike">
                <a:solidFill>
                  <a:srgbClr val="000066"/>
                </a:solidFill>
                <a:latin typeface="Arial"/>
              </a:rPr>
              <a:t>Оцените сегодняшний урок: </a:t>
            </a:r>
            <a:br>
              <a:rPr sz="2900"/>
            </a:br>
            <a:r>
              <a:rPr b="1" i="1" lang="en-US" sz="2900" spc="-1" strike="noStrike">
                <a:solidFill>
                  <a:srgbClr val="000066"/>
                </a:solidFill>
                <a:latin typeface="Arial"/>
              </a:rPr>
              <a:t>0- нет, 1-да.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533160"/>
            <a:ext cx="80773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Вам было интересно на уроке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Вы узнали что-то новое на уроке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Был ли доступен изучавшийся материал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Вы его поняли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Готовы ли вы на следующих уроках применить его на практике?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4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6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80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2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71240" y="37335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 Black"/>
              </a:rPr>
              <a:t>Домашнее задание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 11, конспект лекци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кроссворд, используя новые термины и понятия урок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Постройте дерево каталогов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52280" y="19807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C:\Рисунки\Природа\Небо.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C:\Рисунки\Природа\Снег.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C:\Рисунки\Компьютер\Монитор.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C:\Мои документы\Доклад.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WordArt 8"/>
          <p:cNvSpPr txBox="1"/>
          <p:nvPr/>
        </p:nvSpPr>
        <p:spPr>
          <a:xfrm>
            <a:off x="7956720" y="457200"/>
            <a:ext cx="56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Постройте дерево каталогов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391" name="Picture 4" descr="файловая-сис2"/>
          <p:cNvPicPr/>
          <p:nvPr/>
        </p:nvPicPr>
        <p:blipFill>
          <a:blip r:embed="rId1"/>
          <a:stretch/>
        </p:blipFill>
        <p:spPr>
          <a:xfrm>
            <a:off x="857160" y="1812960"/>
            <a:ext cx="7067520" cy="3898800"/>
          </a:xfrm>
          <a:prstGeom prst="rect">
            <a:avLst/>
          </a:prstGeom>
          <a:ln w="0">
            <a:noFill/>
          </a:ln>
        </p:spPr>
      </p:pic>
      <p:sp>
        <p:nvSpPr>
          <p:cNvPr id="392" name="WordArt 6"/>
          <p:cNvSpPr txBox="1"/>
          <p:nvPr/>
        </p:nvSpPr>
        <p:spPr>
          <a:xfrm>
            <a:off x="7620120" y="685800"/>
            <a:ext cx="56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ся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_____________________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хранящихся на всех устройства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мпьюте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523880" y="990720"/>
            <a:ext cx="8534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совокупность пр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долговременной памя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80520" y="990720"/>
            <a:ext cx="84582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ерационная систем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бор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_________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управляющих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__________________________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нешними устройствами и ведущих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__________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с пользовател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533520" y="762120"/>
            <a:ext cx="8153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пр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ОЗУ, процессором, файл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                    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диалог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15"/>
          <p:cNvSpPr/>
          <p:nvPr/>
        </p:nvSpPr>
        <p:spPr>
          <a:xfrm>
            <a:off x="1600200" y="685800"/>
            <a:ext cx="6095880" cy="8380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зовите ви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граммного обесп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6"/>
          <p:cNvSpPr/>
          <p:nvPr/>
        </p:nvSpPr>
        <p:spPr>
          <a:xfrm>
            <a:off x="914400" y="289548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стемное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7"/>
          <p:cNvSpPr/>
          <p:nvPr/>
        </p:nvSpPr>
        <p:spPr>
          <a:xfrm>
            <a:off x="1447920" y="4495680"/>
            <a:ext cx="617220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стемы программ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8"/>
          <p:cNvSpPr/>
          <p:nvPr/>
        </p:nvSpPr>
        <p:spPr>
          <a:xfrm>
            <a:off x="5257800" y="274320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кладное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9"/>
          <p:cNvSpPr/>
          <p:nvPr/>
        </p:nvSpPr>
        <p:spPr>
          <a:xfrm>
            <a:off x="228600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0"/>
          <p:cNvSpPr/>
          <p:nvPr/>
        </p:nvSpPr>
        <p:spPr>
          <a:xfrm>
            <a:off x="4495680" y="1828800"/>
            <a:ext cx="152640" cy="2590920"/>
          </a:xfrm>
          <a:prstGeom prst="downArrow">
            <a:avLst>
              <a:gd name="adj1" fmla="val 50000"/>
              <a:gd name="adj2" fmla="val 42435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1"/>
          <p:cNvSpPr/>
          <p:nvPr/>
        </p:nvSpPr>
        <p:spPr>
          <a:xfrm>
            <a:off x="6781680" y="175248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99"/>
                </a:solidFill>
                <a:latin typeface="Arial Black"/>
              </a:rPr>
              <a:t>Найдите и исправьте ошибки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904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)  Системные программы – 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это средства, предназначенные для создания П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икладное ПО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руководит слаженной работой всех элементов компьютерной системы как на аппаратном уровне, так и на программном уровн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"/>
          <p:cNvSpPr/>
          <p:nvPr/>
        </p:nvSpPr>
        <p:spPr>
          <a:xfrm>
            <a:off x="1371600" y="1981080"/>
            <a:ext cx="434340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295280" y="16765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истемы программ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447920" y="3429000"/>
            <a:ext cx="220968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1371600" y="31384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истемное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2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2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Установите соответствие: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83" name="AutoShape 16"/>
          <p:cNvSpPr/>
          <p:nvPr/>
        </p:nvSpPr>
        <p:spPr>
          <a:xfrm>
            <a:off x="380880" y="4876920"/>
            <a:ext cx="23623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н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7"/>
          <p:cNvSpPr/>
          <p:nvPr/>
        </p:nvSpPr>
        <p:spPr>
          <a:xfrm>
            <a:off x="5715000" y="48769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8"/>
          <p:cNvSpPr/>
          <p:nvPr/>
        </p:nvSpPr>
        <p:spPr>
          <a:xfrm>
            <a:off x="2971800" y="4876920"/>
            <a:ext cx="25909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кладн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6"/>
          <p:cNvSpPr/>
          <p:nvPr/>
        </p:nvSpPr>
        <p:spPr>
          <a:xfrm>
            <a:off x="304920" y="22096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цио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7"/>
          <p:cNvSpPr/>
          <p:nvPr/>
        </p:nvSpPr>
        <p:spPr>
          <a:xfrm>
            <a:off x="5715000" y="220968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виату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на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8"/>
          <p:cNvSpPr/>
          <p:nvPr/>
        </p:nvSpPr>
        <p:spPr>
          <a:xfrm>
            <a:off x="2971800" y="2209680"/>
            <a:ext cx="259092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Установите соответствие: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90" name="AutoShape 16"/>
          <p:cNvSpPr/>
          <p:nvPr/>
        </p:nvSpPr>
        <p:spPr>
          <a:xfrm>
            <a:off x="380880" y="4876920"/>
            <a:ext cx="23623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н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7"/>
          <p:cNvSpPr/>
          <p:nvPr/>
        </p:nvSpPr>
        <p:spPr>
          <a:xfrm>
            <a:off x="5715000" y="48769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8"/>
          <p:cNvSpPr/>
          <p:nvPr/>
        </p:nvSpPr>
        <p:spPr>
          <a:xfrm>
            <a:off x="2971800" y="4876920"/>
            <a:ext cx="25909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кладн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6"/>
          <p:cNvSpPr/>
          <p:nvPr/>
        </p:nvSpPr>
        <p:spPr>
          <a:xfrm>
            <a:off x="228600" y="2209680"/>
            <a:ext cx="2514600" cy="11430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хив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7"/>
          <p:cNvSpPr/>
          <p:nvPr/>
        </p:nvSpPr>
        <p:spPr>
          <a:xfrm>
            <a:off x="5791320" y="220968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овый ред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8"/>
          <p:cNvSpPr/>
          <p:nvPr/>
        </p:nvSpPr>
        <p:spPr>
          <a:xfrm>
            <a:off x="2895480" y="2209680"/>
            <a:ext cx="2819520" cy="11430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зы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08-11-24T16:18:08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