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41E-2927-48F1-BC1F-287A439E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061-023E-4D0C-84F9-3E8AF6D2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183-B315-4EC6-9C70-0546D2AB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018-6DB2-4DF7-BCF2-11AF2FA6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1FA-620F-448E-BBB4-A89C9EC6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6F8-80F7-4B28-A902-6FAF9A1B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97B-ED96-4D86-8AE8-EEC7B701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B1B-1AEA-400A-9F2C-F1F7F49C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437-0AA9-477E-889D-01AFBA07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83E-A24C-4F44-BE85-741C606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425-CB91-4F4D-9C37-1D2CC11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B63-73EA-4A3B-853C-FE1008EF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1644-EE77-4CCE-8216-F35853853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одержимое 2"/>
          <p:cNvSpPr/>
          <p:nvPr/>
        </p:nvSpPr>
        <p:spPr>
          <a:xfrm>
            <a:off x="28584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ООТНЕСИТЕ ПОРТРЕТЫ С ХАРАКТЕРИСТИКАМИ ГЕРОЕ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00040" y="357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ДЛЯ 3 ГРУП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571680" y="57168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описание, соотнесите  номер описания с портретом (имена изображенных на портрете подпишит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214280"/>
            <a:ext cx="85010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)«Наружность его мне показалась мне замечательной. Он был лет сорока, росту среднего, худощав и широкоплеч. В черной бороде его показывалась проседь; живые большие глаза так и бегали. Лицо го имело выражение довольно приятное, но плутовское».(Пугаче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)«...молодой офицер невысокого роста, с лицом смуглым и отменно некрасивым, но чрезвычайно живым... это был офицер, выписанный из гвардии за поединок. Разговор его был остер и занимателен». (Швабрин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)«…Жизнь моя в Белогорской крепости сделалась для меня не только сносною, но даже и приятною.»(Грине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)«Она была в белом утреннем платье, в ночном чепце и в душегрейке. Ей казалось лет сорок. Лицо ее, полное и румяное, выражало важность и спокойствие, а голубые глаза и легкая улыбка имели прелесть неизъяснимую». (Екатерина I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)«Тут вошла девушка осьмнадцати, круглолицая, румяная, с светло-русыми волосами, гладко зачесанными за уши, которые у ней так и горели» (Маш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)«Я взял на себя вид равнодушный и, обратясь к старику, который был и денег, и белья, и дел рачитель, приказал отдать сто рублей» (Савельич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71680" y="4287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сание портре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F:\НЕ УДАЛЯТЬ 8 А\Маша.bmp"/>
          <p:cNvPicPr/>
          <p:nvPr/>
        </p:nvPicPr>
        <p:blipFill>
          <a:blip r:embed="rId1"/>
          <a:srcRect l="0" t="9177" r="0" b="1375"/>
          <a:stretch/>
        </p:blipFill>
        <p:spPr>
          <a:xfrm>
            <a:off x="5857920" y="571680"/>
            <a:ext cx="2695680" cy="2786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F:\НЕ УДАЛЯТЬ 8 А\Швабрин.bmp"/>
          <p:cNvPicPr/>
          <p:nvPr/>
        </p:nvPicPr>
        <p:blipFill>
          <a:blip r:embed="rId2"/>
          <a:srcRect l="8333" t="8464" r="0" b="8623"/>
          <a:stretch/>
        </p:blipFill>
        <p:spPr>
          <a:xfrm>
            <a:off x="642960" y="571680"/>
            <a:ext cx="3143160" cy="242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F:\НЕ УДАЛЯТЬ 8 А\Савельич.bmp"/>
          <p:cNvPicPr/>
          <p:nvPr/>
        </p:nvPicPr>
        <p:blipFill>
          <a:blip r:embed="rId3"/>
          <a:stretch/>
        </p:blipFill>
        <p:spPr>
          <a:xfrm>
            <a:off x="3286080" y="3500280"/>
            <a:ext cx="2381400" cy="26956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5929200" y="3000240"/>
            <a:ext cx="25718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) И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571920" y="5643720"/>
            <a:ext cx="2571840" cy="785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) И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785880" y="2571840"/>
            <a:ext cx="25718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) И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Русский бунт\екатерина 2.jpg"/>
          <p:cNvPicPr/>
          <p:nvPr/>
        </p:nvPicPr>
        <p:blipFill>
          <a:blip r:embed="rId1"/>
          <a:stretch/>
        </p:blipFill>
        <p:spPr>
          <a:xfrm>
            <a:off x="571680" y="571680"/>
            <a:ext cx="2539800" cy="38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F:\Русский бунт\русский бунт 9.jpg"/>
          <p:cNvPicPr/>
          <p:nvPr/>
        </p:nvPicPr>
        <p:blipFill>
          <a:blip r:embed="rId2"/>
          <a:srcRect l="11254" t="0" r="0" b="0"/>
          <a:stretch/>
        </p:blipFill>
        <p:spPr>
          <a:xfrm>
            <a:off x="3357720" y="642960"/>
            <a:ext cx="3381120" cy="2019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F:\Открытый урок 2\Гринёв.jpg"/>
          <p:cNvPicPr/>
          <p:nvPr/>
        </p:nvPicPr>
        <p:blipFill>
          <a:blip r:embed="rId3"/>
          <a:stretch/>
        </p:blipFill>
        <p:spPr>
          <a:xfrm>
            <a:off x="6286680" y="3357720"/>
            <a:ext cx="2214360" cy="30049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1714680" y="4143240"/>
            <a:ext cx="257148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) И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3929040" y="5143680"/>
            <a:ext cx="2571840" cy="785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) И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3571920" y="2428920"/>
            <a:ext cx="25718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) И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3T07:25:14Z</dcterms:modified>
  <cp:revision>1</cp:revision>
  <dc:subject/>
  <dc:title>Слайд 1</dc:title>
</cp:coreProperties>
</file>