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8BDF-3558-423E-A65D-4432E10E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47E0-B66D-4645-AA99-8C14E7A6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5C28-50A1-4A8E-AA1F-C7A3FB1B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2E26-A9A6-449A-A234-CA45E6EB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165F-662E-4B0A-937A-88E050445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2914-AA24-48D8-99AB-5E4A3ADB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D67E-C590-435C-8CAB-47C85A49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F1CF-6008-48BF-91F6-03017931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C82C-DD9C-45A2-85FF-01664FF6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5CD4-3196-4DEA-8A54-BCDF959D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3D48-BF4B-48CA-A768-5378B18F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D860-9258-416A-B166-DB46C3BA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D448-4D7B-4723-A2ED-8E5B44CB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E9ED-F880-474D-945B-6F4B93C3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8175-3DBB-4D5A-9619-31218F93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A038-92A9-46DA-AA7C-D4DA42D9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7DD3-F0EB-40BB-BDFF-20C78335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F802-7830-487E-ACE6-422CE2FF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90E7-7D25-4F9D-802C-AEC1E55F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E11B-AC92-4341-8253-914F33F5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A8AE-F4E9-4219-85CD-1DD66A06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9BB1-A906-4AB9-8319-FE0038C6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FAB6-C686-4E2C-95BD-AD93283D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DDB5-CA22-45C7-8504-A7FF31D8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407C-F69C-4143-A579-4C345CA668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DE1A-2706-4812-B268-DE471ED8AD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commons.wikimedia.org/w/index.php?title=File:Kiprensky_Pushkin.jpg&amp;filetimestamp=20120911154650&amp;uselang=ru" TargetMode="External"/><Relationship Id="rId3" Type="http://schemas.openxmlformats.org/officeDocument/2006/relationships/image" Target="../media/image17.png"/><Relationship Id="rId4" Type="http://schemas.openxmlformats.org/officeDocument/2006/relationships/hyperlink" Target="http://ru.wikipedia.org/wiki/&#1060;&#1072;&#1081;&#1083;:Johann-Baptist_Lampi_d._&#196;._001.jpg" TargetMode="External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hyperlink" Target="file:///144&amp;ty=85" TargetMode="External"/><Relationship Id="rId8" Type="http://schemas.openxmlformats.org/officeDocument/2006/relationships/image" Target="../media/image17.png"/><Relationship Id="rId9" Type="http://schemas.openxmlformats.org/officeDocument/2006/relationships/hyperlink" Target="file:///&amp;ndsp=37&amp;ved=1t:429,r:1,s:0,i:87" TargetMode="External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торостепенные члены предложения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(на материале повести 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А.С. Пушкина 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«Капитанская дочка»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ГР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«ГРАММАТИЧЕСКОЕ ЛОТО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ЛИНГВИСТИЧЕСКИЙ ЭКСПЕРИМЕН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4" descr="[LI8RK_4-02]_[IL_05]-k"/>
          <p:cNvPicPr/>
          <p:nvPr/>
        </p:nvPicPr>
        <p:blipFill>
          <a:blip r:embed="rId1"/>
          <a:stretch/>
        </p:blipFill>
        <p:spPr>
          <a:xfrm>
            <a:off x="1116000" y="2276640"/>
            <a:ext cx="6858000" cy="44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Ямщик поскакал; но всё поглядывал на восток. Лошади бежали …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(как?).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Ветер час от часу становился сильнее. Облачко обратилось в …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(какую?)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тучу, которая …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(как?)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подымалась, росла и …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(как?)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облегала небо. Пошёл …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(какой?)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снег - и вдруг повалил ...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(как?).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Ветер завыл; сделалась метель. В одно мгновение …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(какое?)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небо смешалось с …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(с каким?)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морем. Всё исчезло. «Ну, барин, -закричал ямщик, - беда: буран!»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Я выглянул из кибитки: всё было мрак и вихрь. Ветер выл с такой …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(с какой?)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выразительностью, что казался одушевленным; снег засыпал меня и Савельича; лошади шли…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(как?)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– и скоро ста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Ямщик поскакал; но всё поглядывал на восток. Лошади бежали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дружно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Ветер час от часу становился сильнее. Облачко обратилось в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белую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тучу, которая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тяжело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подымалась, росла и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постепенно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облегала небо. Пошёл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мелкий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снег - и вдруг повалил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хлопьями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Ветер завыл; сделалась метель. В одно мгновение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тёмное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небо смешалось с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снежным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морем. Всё исчезло. «Ну, барин, -закричал ямщик, - беда: буран!»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Я выглянул из кибитки: всё было мрак и вихрь. Ветер выл с такой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вирепой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выразительностью, что казался одушевленным; снег засыпал меня и Савельича; лошади шли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шагом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– и скоро ста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мщик поскакал; но всё поглядывал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а восток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Лошади бежали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дружно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етер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час от часу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тановился сильнее. Облачко обратилось в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белую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тучу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которая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тяжело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ымалась, росла и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остепенно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легала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б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Пошёл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мелкий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нег - и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друг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валил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хлопьями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етер завыл; сделалась метель. В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дно мгнове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тёмно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ебо смешалось с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нежным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море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Всё исчезло. «Ну, барин, - закричал ямщик, - беда: буран!»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выглянул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з кибитк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всё было мрак и вихрь. Ветер выл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такой свирепой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ыразительностью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что казался одушевленным; снег засыпал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мен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 Савельича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;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лошади шли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шагом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кор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та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0" i="1" lang="ru-RU" sz="4400" spc="-1" strike="noStrike">
                <a:solidFill>
                  <a:srgbClr val="ffffff"/>
                </a:solidFill>
                <a:latin typeface="Monotype Corsiva"/>
              </a:rPr>
              <a:t>Второстепенные члены предложения в художественном стиле помогают нарисовать целостную картину, создать полный образ метели,  делают текст интересным, образным, впечатляющим, более глубоким, конкретным, эмоциональным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8" descr="boi"/>
          <p:cNvPicPr/>
          <p:nvPr/>
        </p:nvPicPr>
        <p:blipFill>
          <a:blip r:embed="rId1"/>
          <a:stretch/>
        </p:blipFill>
        <p:spPr>
          <a:xfrm>
            <a:off x="382680" y="765000"/>
            <a:ext cx="4044960" cy="5400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pugachev"/>
          <p:cNvPicPr/>
          <p:nvPr/>
        </p:nvPicPr>
        <p:blipFill>
          <a:blip r:embed="rId2"/>
          <a:stretch/>
        </p:blipFill>
        <p:spPr>
          <a:xfrm>
            <a:off x="4859280" y="765000"/>
            <a:ext cx="388944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7" descr="d69a39f48732"/>
          <p:cNvPicPr/>
          <p:nvPr/>
        </p:nvPicPr>
        <p:blipFill>
          <a:blip r:embed="rId1"/>
          <a:stretch/>
        </p:blipFill>
        <p:spPr>
          <a:xfrm>
            <a:off x="582480" y="836640"/>
            <a:ext cx="3989520" cy="5400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Пугачев"/>
          <p:cNvPicPr/>
          <p:nvPr/>
        </p:nvPicPr>
        <p:blipFill>
          <a:blip r:embed="rId2"/>
          <a:stretch/>
        </p:blipFill>
        <p:spPr>
          <a:xfrm>
            <a:off x="4932360" y="907920"/>
            <a:ext cx="3816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6840" y="3573360"/>
            <a:ext cx="4475160" cy="25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тр Гринев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 Маша Мироно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7" descr="pp_htm_m14649009"/>
          <p:cNvPicPr/>
          <p:nvPr/>
        </p:nvPicPr>
        <p:blipFill>
          <a:blip r:embed="rId1"/>
          <a:stretch/>
        </p:blipFill>
        <p:spPr>
          <a:xfrm>
            <a:off x="4859280" y="620640"/>
            <a:ext cx="4113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ринев и Швабри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6" descr="images"/>
          <p:cNvPicPr/>
          <p:nvPr/>
        </p:nvPicPr>
        <p:blipFill>
          <a:blip r:embed="rId1"/>
          <a:stretch/>
        </p:blipFill>
        <p:spPr>
          <a:xfrm>
            <a:off x="971640" y="1700280"/>
            <a:ext cx="7129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6840" y="357120"/>
            <a:ext cx="818676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ЧИТАЯ  А. С. ПУШКИНА, МОЖНО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ЕЛИКОЛЕПНЫМ ОБРАЗОМ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СПИТАТЬ В СЕБЕ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 Г. БЕЛИН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4" descr="10454"/>
          <p:cNvPicPr/>
          <p:nvPr/>
        </p:nvPicPr>
        <p:blipFill>
          <a:blip r:embed="rId1"/>
          <a:stretch/>
        </p:blipFill>
        <p:spPr>
          <a:xfrm>
            <a:off x="785880" y="214200"/>
            <a:ext cx="257184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4365360"/>
            <a:ext cx="4038480" cy="17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ТР ГРИНЕВ И ПУГАЧЕ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9" descr="02a4649b346c"/>
          <p:cNvPicPr/>
          <p:nvPr/>
        </p:nvPicPr>
        <p:blipFill>
          <a:blip r:embed="rId1"/>
          <a:stretch/>
        </p:blipFill>
        <p:spPr>
          <a:xfrm>
            <a:off x="4492800" y="692280"/>
            <a:ext cx="4255920" cy="54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РУППОВАЯ РАБО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. Соотнести устаревшие слова с современным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2. Восстановить пословицы и поговорки из повести «Капитанская дочка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3. Соотнести портреты с характеристикой персонажей повест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ООТНЕСТИ УСТАРЕВШИЕ СЛОВА С СОВРЕМЕННЫ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рте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лобитье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азутчик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асти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постат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аловать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черня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азия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нять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2627280" y="184464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3059280" y="2349360"/>
            <a:ext cx="129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6"/>
          <p:cNvSpPr/>
          <p:nvPr/>
        </p:nvSpPr>
        <p:spPr>
          <a:xfrm>
            <a:off x="2484360" y="2924280"/>
            <a:ext cx="22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2411280" y="3429000"/>
            <a:ext cx="22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2484360" y="3933720"/>
            <a:ext cx="187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2700360" y="4508640"/>
            <a:ext cx="1942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1"/>
          <p:cNvSpPr/>
          <p:nvPr/>
        </p:nvSpPr>
        <p:spPr>
          <a:xfrm>
            <a:off x="2484360" y="494172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2"/>
          <p:cNvSpPr/>
          <p:nvPr/>
        </p:nvSpPr>
        <p:spPr>
          <a:xfrm>
            <a:off x="2195640" y="5445000"/>
            <a:ext cx="2087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13"/>
          <p:cNvSpPr/>
          <p:nvPr/>
        </p:nvSpPr>
        <p:spPr>
          <a:xfrm>
            <a:off x="2195640" y="5950080"/>
            <a:ext cx="208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14"/>
          <p:cNvSpPr/>
          <p:nvPr/>
        </p:nvSpPr>
        <p:spPr>
          <a:xfrm>
            <a:off x="6156360" y="5661000"/>
            <a:ext cx="2303280" cy="432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П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15"/>
          <p:cNvSpPr/>
          <p:nvPr/>
        </p:nvSpPr>
        <p:spPr>
          <a:xfrm>
            <a:off x="6084720" y="1484280"/>
            <a:ext cx="2374920" cy="432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ЖБ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Oval 16"/>
          <p:cNvSpPr/>
          <p:nvPr/>
        </p:nvSpPr>
        <p:spPr>
          <a:xfrm>
            <a:off x="6084720" y="2565360"/>
            <a:ext cx="2374920" cy="432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Oval 17"/>
          <p:cNvSpPr/>
          <p:nvPr/>
        </p:nvSpPr>
        <p:spPr>
          <a:xfrm>
            <a:off x="6084720" y="2060640"/>
            <a:ext cx="2374920" cy="4316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ГРАЖД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Oval 18"/>
          <p:cNvSpPr/>
          <p:nvPr/>
        </p:nvSpPr>
        <p:spPr>
          <a:xfrm>
            <a:off x="6084720" y="3573360"/>
            <a:ext cx="2374920" cy="432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ЕДЧ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19"/>
          <p:cNvSpPr/>
          <p:nvPr/>
        </p:nvSpPr>
        <p:spPr>
          <a:xfrm>
            <a:off x="6084720" y="3068640"/>
            <a:ext cx="2374920" cy="4316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ОРЯ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20"/>
          <p:cNvSpPr/>
          <p:nvPr/>
        </p:nvSpPr>
        <p:spPr>
          <a:xfrm>
            <a:off x="6156360" y="4076640"/>
            <a:ext cx="2374920" cy="432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Л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23"/>
          <p:cNvSpPr/>
          <p:nvPr/>
        </p:nvSpPr>
        <p:spPr>
          <a:xfrm>
            <a:off x="6156360" y="4653000"/>
            <a:ext cx="2374920" cy="4316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ЧА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24"/>
          <p:cNvSpPr/>
          <p:nvPr/>
        </p:nvSpPr>
        <p:spPr>
          <a:xfrm>
            <a:off x="6084720" y="5157720"/>
            <a:ext cx="2376720" cy="432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ВЕРЬ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рте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лобитье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азутчик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асти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постат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аловать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черня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азия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нять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2627280" y="1844640"/>
            <a:ext cx="3673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3059280" y="2349360"/>
            <a:ext cx="129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6"/>
          <p:cNvSpPr/>
          <p:nvPr/>
        </p:nvSpPr>
        <p:spPr>
          <a:xfrm>
            <a:off x="2556000" y="2924280"/>
            <a:ext cx="381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7"/>
          <p:cNvSpPr/>
          <p:nvPr/>
        </p:nvSpPr>
        <p:spPr>
          <a:xfrm>
            <a:off x="2340000" y="342900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8"/>
          <p:cNvSpPr/>
          <p:nvPr/>
        </p:nvSpPr>
        <p:spPr>
          <a:xfrm>
            <a:off x="2340000" y="3933720"/>
            <a:ext cx="403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9"/>
          <p:cNvSpPr/>
          <p:nvPr/>
        </p:nvSpPr>
        <p:spPr>
          <a:xfrm>
            <a:off x="2411280" y="4437000"/>
            <a:ext cx="194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2484360" y="4941720"/>
            <a:ext cx="381636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11"/>
          <p:cNvSpPr/>
          <p:nvPr/>
        </p:nvSpPr>
        <p:spPr>
          <a:xfrm>
            <a:off x="2050920" y="544500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2195640" y="5950080"/>
            <a:ext cx="432108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13"/>
          <p:cNvSpPr/>
          <p:nvPr/>
        </p:nvSpPr>
        <p:spPr>
          <a:xfrm>
            <a:off x="6516720" y="1628640"/>
            <a:ext cx="2303280" cy="432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П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14"/>
          <p:cNvSpPr/>
          <p:nvPr/>
        </p:nvSpPr>
        <p:spPr>
          <a:xfrm>
            <a:off x="6588000" y="4797360"/>
            <a:ext cx="2374920" cy="432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ЖБ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Oval 15"/>
          <p:cNvSpPr/>
          <p:nvPr/>
        </p:nvSpPr>
        <p:spPr>
          <a:xfrm>
            <a:off x="4356000" y="3141720"/>
            <a:ext cx="2374920" cy="4316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Oval 16"/>
          <p:cNvSpPr/>
          <p:nvPr/>
        </p:nvSpPr>
        <p:spPr>
          <a:xfrm>
            <a:off x="4427640" y="4292640"/>
            <a:ext cx="2374920" cy="4316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ГРАЖД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Oval 17"/>
          <p:cNvSpPr/>
          <p:nvPr/>
        </p:nvSpPr>
        <p:spPr>
          <a:xfrm>
            <a:off x="6588000" y="2708280"/>
            <a:ext cx="2374920" cy="4316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ЕДЧ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Oval 18"/>
          <p:cNvSpPr/>
          <p:nvPr/>
        </p:nvSpPr>
        <p:spPr>
          <a:xfrm>
            <a:off x="6588000" y="5877000"/>
            <a:ext cx="2374920" cy="4316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ОРЯ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Oval 19"/>
          <p:cNvSpPr/>
          <p:nvPr/>
        </p:nvSpPr>
        <p:spPr>
          <a:xfrm>
            <a:off x="4427640" y="2133720"/>
            <a:ext cx="2374920" cy="4316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Л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Oval 20"/>
          <p:cNvSpPr/>
          <p:nvPr/>
        </p:nvSpPr>
        <p:spPr>
          <a:xfrm>
            <a:off x="4427640" y="5229360"/>
            <a:ext cx="2374920" cy="4316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ЧА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Oval 21"/>
          <p:cNvSpPr/>
          <p:nvPr/>
        </p:nvSpPr>
        <p:spPr>
          <a:xfrm>
            <a:off x="6516720" y="3716280"/>
            <a:ext cx="2376360" cy="432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3" descr="Untitled-1.jpg"/>
          <p:cNvPicPr/>
          <p:nvPr/>
        </p:nvPicPr>
        <p:blipFill>
          <a:blip r:embed="rId1"/>
          <a:stretch/>
        </p:blipFill>
        <p:spPr>
          <a:xfrm>
            <a:off x="0" y="1411200"/>
            <a:ext cx="9144000" cy="54468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ОССТАНОВИТЬ ПОСЛОВИЦЫ И ПОГОВОР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Текст 2"/>
          <p:cNvSpPr/>
          <p:nvPr/>
        </p:nvSpPr>
        <p:spPr>
          <a:xfrm>
            <a:off x="2133720" y="5105520"/>
            <a:ext cx="2133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о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Текст 2"/>
          <p:cNvSpPr/>
          <p:nvPr/>
        </p:nvSpPr>
        <p:spPr>
          <a:xfrm>
            <a:off x="4343400" y="4581360"/>
            <a:ext cx="2133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о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Текст 2"/>
          <p:cNvSpPr/>
          <p:nvPr/>
        </p:nvSpPr>
        <p:spPr>
          <a:xfrm>
            <a:off x="4724280" y="411480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о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Текст 2"/>
          <p:cNvSpPr/>
          <p:nvPr/>
        </p:nvSpPr>
        <p:spPr>
          <a:xfrm>
            <a:off x="1523880" y="37339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о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Текст 2"/>
          <p:cNvSpPr/>
          <p:nvPr/>
        </p:nvSpPr>
        <p:spPr>
          <a:xfrm>
            <a:off x="4343400" y="320040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о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Текст 2"/>
          <p:cNvSpPr/>
          <p:nvPr/>
        </p:nvSpPr>
        <p:spPr>
          <a:xfrm>
            <a:off x="1371600" y="274320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Текст 2"/>
          <p:cNvSpPr/>
          <p:nvPr/>
        </p:nvSpPr>
        <p:spPr>
          <a:xfrm>
            <a:off x="6629400" y="2209680"/>
            <a:ext cx="2133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Текст 2"/>
          <p:cNvSpPr/>
          <p:nvPr/>
        </p:nvSpPr>
        <p:spPr>
          <a:xfrm>
            <a:off x="6629400" y="2209680"/>
            <a:ext cx="2133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о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Текст 2"/>
          <p:cNvSpPr/>
          <p:nvPr/>
        </p:nvSpPr>
        <p:spPr>
          <a:xfrm>
            <a:off x="1371600" y="274320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Текст 2"/>
          <p:cNvSpPr/>
          <p:nvPr/>
        </p:nvSpPr>
        <p:spPr>
          <a:xfrm>
            <a:off x="2916360" y="2205000"/>
            <a:ext cx="2133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Текст 2"/>
          <p:cNvSpPr/>
          <p:nvPr/>
        </p:nvSpPr>
        <p:spPr>
          <a:xfrm>
            <a:off x="1332000" y="2781360"/>
            <a:ext cx="2133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о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Текст 2"/>
          <p:cNvSpPr/>
          <p:nvPr/>
        </p:nvSpPr>
        <p:spPr>
          <a:xfrm>
            <a:off x="2857680" y="2286000"/>
            <a:ext cx="2133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о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ВЕРЬ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реги платье снову, а честь смолод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мь бед – один отв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дет дождик – буду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гриб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удой мир лучше доброй ссо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ь о четырех ногах, да спотыкает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месте жить– вместе и умира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званый гость хуже татар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Рисунок 14" descr="Untitled-2.jpg"/>
          <p:cNvPicPr/>
          <p:nvPr/>
        </p:nvPicPr>
        <p:blipFill>
          <a:blip r:embed="rId1"/>
          <a:stretch/>
        </p:blipFill>
        <p:spPr>
          <a:xfrm>
            <a:off x="0" y="1411200"/>
            <a:ext cx="9144000" cy="54468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ОССТАНОВИ ПОСЛОВИЦЫ И ПОГОВОР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Текст 2"/>
          <p:cNvSpPr/>
          <p:nvPr/>
        </p:nvSpPr>
        <p:spPr>
          <a:xfrm>
            <a:off x="2666880" y="4643280"/>
            <a:ext cx="2133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о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Текст 2"/>
          <p:cNvSpPr/>
          <p:nvPr/>
        </p:nvSpPr>
        <p:spPr>
          <a:xfrm>
            <a:off x="1981080" y="414504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о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Текст 2"/>
          <p:cNvSpPr/>
          <p:nvPr/>
        </p:nvSpPr>
        <p:spPr>
          <a:xfrm>
            <a:off x="2590920" y="3691080"/>
            <a:ext cx="2133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о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Текст 2"/>
          <p:cNvSpPr/>
          <p:nvPr/>
        </p:nvSpPr>
        <p:spPr>
          <a:xfrm>
            <a:off x="1295280" y="31957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о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Текст 2"/>
          <p:cNvSpPr/>
          <p:nvPr/>
        </p:nvSpPr>
        <p:spPr>
          <a:xfrm>
            <a:off x="1371600" y="27385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Текст 2"/>
          <p:cNvSpPr/>
          <p:nvPr/>
        </p:nvSpPr>
        <p:spPr>
          <a:xfrm>
            <a:off x="1981080" y="27385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о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Текст 2"/>
          <p:cNvSpPr/>
          <p:nvPr/>
        </p:nvSpPr>
        <p:spPr>
          <a:xfrm>
            <a:off x="3419640" y="2271600"/>
            <a:ext cx="2133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о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лужи верой и правд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г тебе судь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лг платежом красе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тро вечера мудрене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ржать ухо востр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4" descr="русский бунт 4"/>
          <p:cNvPicPr/>
          <p:nvPr/>
        </p:nvPicPr>
        <p:blipFill>
          <a:blip r:embed="rId6"/>
          <a:stretch/>
        </p:blipFill>
        <p:spPr>
          <a:xfrm>
            <a:off x="5364000" y="1557360"/>
            <a:ext cx="3456000" cy="3097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русский бунт 8"/>
          <p:cNvPicPr/>
          <p:nvPr/>
        </p:nvPicPr>
        <p:blipFill>
          <a:blip r:embed="rId7"/>
          <a:stretch/>
        </p:blipFill>
        <p:spPr>
          <a:xfrm>
            <a:off x="468360" y="3500280"/>
            <a:ext cx="33843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ООТНЕСИ ПОРТРЕТЫ С ХАРАКТЕРИСТИКОЙ ПЕРСОНАЖ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рямоугольник 1"/>
          <p:cNvSpPr/>
          <p:nvPr/>
        </p:nvSpPr>
        <p:spPr>
          <a:xfrm>
            <a:off x="285840" y="1214280"/>
            <a:ext cx="85010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)«Наружность его мне показалась мне замечательной. Он был лет сорока, росту среднего, худощав и широкоплеч. В черной бороде его показывалась проседь; живые большие глаза так и бегали. Лицо го имело выражение довольно приятное, но плутовское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)«...молодой офицер невысокого роста, с лицом смуглым и отменно некрасивым, но чрезвычайно живым... это был офицер, выписанный из гвардии за поединок. Разговор его был остер и занимателен»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)«…Жизнь моя в Белогорской крепости сделалась для меня не только сносною, но даже и приятною.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)«Она была в белом утреннем платье, в ночном чепце и в душегрейке. Ей казалось лет сорок. Лицо ее, полное и румяное, выражало важность и спокойствие, а голубые глаза и легкая улыбка имели прелесть неизъяснимую»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)«Тут вошла девушка осьмнадцати, круглолицая, румяная, с светло-русыми волосами, гладко зачесанными за уши, которые у ней так и горели»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6)«Я взял на себя вид равнодушный и, обратясь к старику, который был и денег, и белья, и дел рачитель, приказал отдать сто рублей»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ямоугольник 2"/>
          <p:cNvSpPr/>
          <p:nvPr/>
        </p:nvSpPr>
        <p:spPr>
          <a:xfrm>
            <a:off x="571680" y="42876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ИСАНИЕ ПОРТРЕ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ек – век царствования Екатерины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В июне 1762 года Екатерин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ришла  к власти, свергнув с престола Петр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своего мужа, который был убит. Дворяне, оказавшие ей помощь, были щедр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знагражде…ы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катерин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равила Россией практически всю вторую половину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толетия. Это время стали называть Екатерининской эпохой, так как  в годы ее правления расширилась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/рритор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государства. Россия вела активную выгодную внешнюю торговлю через порты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…балти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…черноморья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Расходы на войны, содержание двора, развитие науки, просвещени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/сскус/сств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требовало дене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катерин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была умна 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разова…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Он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…давал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большое значение законодательству, считая, что законы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…ютс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для воспитания граждан». В годы ее правл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р…сл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налоги, вся тяжесть легла на плечи крестьян.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…жени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епостных крестьян в это время еще более ухудшилось. Помещики по указам императрицы получили право без суда наказывать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…винившихс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рестьян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в…ри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сякий произвол. Бесправие, нищета толкала крестьян на бунты, которые жесток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…влялис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такой обстановке разнеслись слухи, что император жив, что он появится перед народом, вернет свой престол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каж…т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арицу и помещиков, даст крестьянам свободу и земли. Ведь в народе всегда жила вера в доброго царя. В 1773 году 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…крайни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ренбургских степях среди казачества пошли разговоры, что царь Петр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оявился. Об этом говорили его воззвания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писа…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на простом и понятном для народа языке. Таким человеком был Емельян Пугачев, за которым пошел народ. Восстание охватило большу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/рриторию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длилось полтора года. Оно было жесток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авле…о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8" descr="F:\НЕ УДАЛЯТЬ 8 А\Маша.bmp"/>
          <p:cNvPicPr/>
          <p:nvPr/>
        </p:nvPicPr>
        <p:blipFill>
          <a:blip r:embed="rId1"/>
          <a:srcRect l="0" t="9177" r="0" b="1375"/>
          <a:stretch/>
        </p:blipFill>
        <p:spPr>
          <a:xfrm>
            <a:off x="5857920" y="571680"/>
            <a:ext cx="2695680" cy="2786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F:\НЕ УДАЛЯТЬ 8 А\Швабрин.bmp"/>
          <p:cNvPicPr/>
          <p:nvPr/>
        </p:nvPicPr>
        <p:blipFill>
          <a:blip r:embed="rId2"/>
          <a:srcRect l="8333" t="8464" r="0" b="8623"/>
          <a:stretch/>
        </p:blipFill>
        <p:spPr>
          <a:xfrm>
            <a:off x="642960" y="571680"/>
            <a:ext cx="3143160" cy="24285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" descr="F:\НЕ УДАЛЯТЬ 8 А\Савельич.bmp"/>
          <p:cNvPicPr/>
          <p:nvPr/>
        </p:nvPicPr>
        <p:blipFill>
          <a:blip r:embed="rId3"/>
          <a:stretch/>
        </p:blipFill>
        <p:spPr>
          <a:xfrm>
            <a:off x="3286080" y="3500280"/>
            <a:ext cx="2381400" cy="269568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4"/>
          <p:cNvSpPr/>
          <p:nvPr/>
        </p:nvSpPr>
        <p:spPr>
          <a:xfrm>
            <a:off x="5929200" y="3000240"/>
            <a:ext cx="2571840" cy="78588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) МАША МИРОН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Прямоугольник 5"/>
          <p:cNvSpPr/>
          <p:nvPr/>
        </p:nvSpPr>
        <p:spPr>
          <a:xfrm>
            <a:off x="3571920" y="5643720"/>
            <a:ext cx="2571840" cy="7855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) САВЕЛЬ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оугольник 6"/>
          <p:cNvSpPr/>
          <p:nvPr/>
        </p:nvSpPr>
        <p:spPr>
          <a:xfrm>
            <a:off x="785880" y="2571840"/>
            <a:ext cx="2571840" cy="78588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ШВАБР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F:\Русский бунт\екатерина 2.jpg"/>
          <p:cNvPicPr/>
          <p:nvPr/>
        </p:nvPicPr>
        <p:blipFill>
          <a:blip r:embed="rId1"/>
          <a:stretch/>
        </p:blipFill>
        <p:spPr>
          <a:xfrm>
            <a:off x="571680" y="571680"/>
            <a:ext cx="2539800" cy="38480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F:\Русский бунт\русский бунт 9.jpg"/>
          <p:cNvPicPr/>
          <p:nvPr/>
        </p:nvPicPr>
        <p:blipFill>
          <a:blip r:embed="rId2"/>
          <a:stretch/>
        </p:blipFill>
        <p:spPr>
          <a:xfrm>
            <a:off x="3357720" y="642960"/>
            <a:ext cx="3381120" cy="201924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1" descr="F:\Открытый урок 2\Гринёв.jpg"/>
          <p:cNvPicPr/>
          <p:nvPr/>
        </p:nvPicPr>
        <p:blipFill>
          <a:blip r:embed="rId3"/>
          <a:stretch/>
        </p:blipFill>
        <p:spPr>
          <a:xfrm>
            <a:off x="6286680" y="3357720"/>
            <a:ext cx="2214360" cy="300492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6"/>
          <p:cNvSpPr/>
          <p:nvPr/>
        </p:nvSpPr>
        <p:spPr>
          <a:xfrm>
            <a:off x="1714680" y="4143240"/>
            <a:ext cx="2571480" cy="78588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 ЕКАТЕРИН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Прямоугольник 8"/>
          <p:cNvSpPr/>
          <p:nvPr/>
        </p:nvSpPr>
        <p:spPr>
          <a:xfrm>
            <a:off x="3929040" y="5143680"/>
            <a:ext cx="2571840" cy="7855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 ПЕТР ГРИН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Прямоугольник 9"/>
          <p:cNvSpPr/>
          <p:nvPr/>
        </p:nvSpPr>
        <p:spPr>
          <a:xfrm>
            <a:off x="3571920" y="2428920"/>
            <a:ext cx="2571840" cy="78588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ПУГАЧ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Найти в тексте просмотренный эпизод с Пугачёвым, выписать осложнённое предложение или сложное предложение из этого фрагмента текста и произвести полный синтаксический разбо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Упражнение 103 стр.67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Ответить письменно на вопрос «В чём проявилась связь русского языка, литературы и смежных дисциплин на уроке. Нужны ли подобные уроки и почему?» ( по желанию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СЫЛ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0004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http://commons.wikimedia.org/w/index.php?title=File:Kiprensky_Pushkin.jpg&amp;filetimestamp=20120911154650&amp;uselang=ru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– портрет Пушкин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http://ru.wikipedia.org/wiki/%D0%A4%D0%B0%D0%B9%D0%BB:Johann-Baptist_Lampi_d._%C3%84._001.jpg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– портрет Екатерины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I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google.ru/imgres?imgurl=http://peressa2009.narod2.ru/materiali_k_urokam/a_s_pushkin_kapitanskaya_dochka/Grinev.jpg&amp;imgrefurl=http://desultoryaamina.blogspot.com/&amp;usg=__41g7fUfQvngziXb6KWc6cgxbC8o=&amp;h=275&amp;w=202&amp;sz=45&amp;hl=ru&amp;start=0&amp;zoom=1&amp;tbnid=WS14b0idTMkkFM:&amp;tbnh=140&amp;tbnw=102&amp;ei=z9_AUKmrMYSL4gSNxoG4CA&amp;itbs=1&amp;iact=rc&amp;dur=223&amp;sig=100507537270782271892&amp;page=1&amp;ndsp=1&amp;ved=1t:429,r:0,s:0,i:59&amp;tx=74&amp;ty=73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– портрет Петра Гринева;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google.ru/imgres?hl=ru&amp;newwindow=1&amp;client=firefox-a&amp;hs=ZYM&amp;sa=X&amp;tbo=d&amp;rls=org.mozilla:ru:official&amp;biw=1280&amp;bih=907&amp;tbm=isch&amp;tbnid=p5esathXRzGVmM:&amp;imgrefurl=http://www.liveinternet.ru/users/2010239/post66023387/&amp;docid=NkBcXsks_SRfFM&amp;imgurl=http://img0.liveinternet.ru/images/attach/b/3/17/62/17062877_S.jpg&amp;w=700&amp;h=334&amp;ei=eN_AULLvBYzP4QS9YDwAg&amp;zoom=1&amp;iact=rc&amp;dur=315&amp;sig=100507537270782271892&amp;page=1&amp;tbnh=140&amp;tbnw=280&amp;start=0&amp;ndsp=37&amp;ved=1t:429,r:4,s:0,i:96&amp;tx=</a:t>
            </a:r>
            <a:r>
              <a:rPr b="0" lang="en-US" sz="1200" spc="-1" strike="noStrike" u="sng">
                <a:solidFill>
                  <a:srgbClr val="86d1ec"/>
                </a:solidFill>
                <a:uFillTx/>
                <a:latin typeface="Arial"/>
                <a:hlinkClick r:id="rId7"/>
              </a:rPr>
              <a:t>144&amp;ty=85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– рисунок  дуэли Гринева и Швабрин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google.ru/imgres?hl=ru&amp;newwindow=1&amp;client=firefox-a&amp;hs=ZYM&amp;sa=X&amp;tbo=d&amp;rls=org.mozilla:ru:official&amp;biw=1280&amp;bih=907&amp;tbm=isch&amp;tbnid=Pi6zIIL0l5SZbM:&amp;imgrefurl=http://www.priestt.com/article/rel/religion_1526.html&amp;docid=6bfQATKQOoUwoM&amp;imgurl=http://www.priestt.com/gg_priestt/ee/images_nsad/grushka-05.jpg&amp;w=384&amp;h=241&amp;ei=eN_AULLvBYzP4QS-9YDwAg&amp;zoom=1&amp;iact=hc&amp;vpx=110&amp;vpy=135&amp;dur=89&amp;hovh=178&amp;hovw=284&amp;tx=111&amp;ty=117&amp;sig=100507537270782271892&amp;page=1&amp;tbnh=140&amp;tbnw=233&amp;start=0</a:t>
            </a:r>
            <a:r>
              <a:rPr b="0" lang="en-US" sz="1200" spc="-1" strike="noStrike" u="sng">
                <a:solidFill>
                  <a:srgbClr val="86d1ec"/>
                </a:solidFill>
                <a:uFillTx/>
                <a:latin typeface="Arial"/>
                <a:hlinkClick r:id="rId9"/>
              </a:rPr>
              <a:t>&amp;ndsp=37&amp;ved=1t:429,r:1,s:0,i:87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– портрет Маши Мироновой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google.ru/imgres?hl=ru&amp;newwindow=1&amp;client=firefox-a&amp;tbo=d&amp;rls=org.mozilla:ru:official&amp;biw=1280&amp;bih=907&amp;tbm=isch&amp;tbnid=YVd0LbIrlqEw8M:&amp;imgrefurl=http://www.itoim.kspu.ru/progect_intel/ponomarefa/voina.htm&amp;docid=ycJLFtktXI4GdM&amp;imgurl=http://www.itoim.kspu.ru/progect_intel/ponomarefa/images/dopros.jpg&amp;w=231&amp;h=315&amp;ei=veHAUJTWOsqB4gSN5IG4DA&amp;zoom=1&amp;iact=rc&amp;dur=225&amp;sig=100507537270782271892&amp;page=1&amp;tbnh=140&amp;tbnw=93&amp;start=0&amp;ndsp=36&amp;ved=1t:429,r:24,s:0,i:157&amp;tx=47&amp;ty=59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– рисунок Петра Гринева и Пугачев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СЫЛ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google.ru/imgres?hl=ru&amp;newwindow=1&amp;client=firefoxa&amp;hs=PGE&amp;sa=X&amp;tbo=d&amp;rls=org.mozilla:ru:official&amp;biw=1280&amp;bih=907&amp;tbm=isch&amp;tbnid=Z1VfjMJ3jep2RM:&amp;imgrefurl=http://www.afisha.ru/movie/166803/&amp;docid=1eHGeU4IUzEPoM&amp;imgurl=http://s2.afisha.net/Afisha7Files/UGPhotos/011/011ff1ae44974ba9b29ebd0e61eabeb6/p_F_main.jpg&amp;w=560&amp;h=315&amp;ei=wkvLUOXiI6r44QT43ICACw&amp;zoom=1&amp;iact=hc&amp;vpx=214&amp;vpy=147&amp;dur=188&amp;hovh=168&amp;hovw=300&amp;tx=153&amp;ty=95&amp;sig=100507537270782271892&amp;page=1&amp;tbnh=154&amp;tbnw=257&amp;start=0&amp;ndsp=33&amp;ved=1t:429,r:2,s:0,i:94 – портрет Пугачев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SzPct val="2472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google.ru/imgres?imgurl=http://ote4estvo.ru/uploads/posts/2010-09/1287573307_image002.jpg&amp;imgrefurl=http://ote4estvo.ru/kartiny-russkix-xudozhnikov/379-kartiny-borovikovskogo.html&amp;h=975&amp;w=643&amp;sz=64&amp;tbnid=9e5pTFIAKFjn-M:&amp;tbnh=90&amp;tbnw=59&amp;zoom=1&amp;usg=__TcVQeFpZvVekW16ShIqLxy_DM3Y=&amp;docid=w1Yv4KOJv-zx0M&amp;hl=ru&amp;sa=X&amp;ei=LEzLUIWMOq6O4gTQsoGQDA&amp;ved=0CEEQ9QEwAw&amp;dur=1083 – второй портрет Екатерины II 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crazywalls.narod.ru/kartinki/1620/index.html -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др из фильма «Русский бунт»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crazywalls.narod.ru/kartinki/1618/index.html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-  сцена подготовки к сражению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google.ru/imgres?imgurl=http://www.piplz.ru/photo/Pugachev1.jpg&amp;imgrefurl=http://www.piplz.ru/page-id400.html&amp;h=207&amp;w=186&amp;sz=13&amp;tbnid=YNWru0oxX9jfhM:&amp;tbnh=92&amp;tbnw=83&amp;zoom=1&amp;usg=__LIqNnMf_b81nIPKu3KdGep_LxPE=&amp;docid=PgSWk3l_GXjJkM&amp;hl=ru&amp;sa=X&amp;ei=7E7LUK6rGuuN4gTR7YC4Bw&amp;ved=0CDoQ9QEwAg&amp;dur=318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– Емельян Пугачев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bertalda.livejournal.com/41701.html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- иллюстрация к «Капитанской дочке»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SzPct val="2472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itoim.kspu.ru/progect_intel/ponomarefa/voina.htm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- иллюстрация  на слайде №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itoim.kspu.ru/progect_intel/ponomarefa/voina.htm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- иллюстрация  на слайде №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vgostyahukudesnitsi.blogspot.ru/2010/12/5-22.html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- иллюстрация на слайде №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СПАСИБО ЗА УРОК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716000" y="2349360"/>
            <a:ext cx="4427640" cy="39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 Екатерине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изошл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естьянская вой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773 - 1775 годов под предводительств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мельяна Пугачё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2" descr="5_0_2_1"/>
          <p:cNvPicPr/>
          <p:nvPr/>
        </p:nvPicPr>
        <p:blipFill>
          <a:blip r:embed="rId1"/>
          <a:stretch/>
        </p:blipFill>
        <p:spPr>
          <a:xfrm>
            <a:off x="326880" y="404640"/>
            <a:ext cx="42451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лассики о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«Капитанской дочке»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Капитанская дочка» - лучшая повесть Пушкина»         (Белинский В.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Сравнительно с «Капитанской дочкою» все наши романы и повести кажутся притворною размазней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 Гоголь Н.В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зачье предместье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Оренбурга – Форштадт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626436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Оренбург"/>
          <p:cNvPicPr/>
          <p:nvPr/>
        </p:nvPicPr>
        <p:blipFill>
          <a:blip r:embed="rId1"/>
          <a:stretch/>
        </p:blipFill>
        <p:spPr>
          <a:xfrm>
            <a:off x="395280" y="404640"/>
            <a:ext cx="849780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42840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есть – это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бщественно-моральное достоинство, то, что вызывает и поддерживает общее уважение, чувство гордости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еломудрие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чет, уважени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5084640"/>
            <a:ext cx="4038480" cy="10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ТР ГРИН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3" descr="Гринёв"/>
          <p:cNvPicPr/>
          <p:nvPr/>
        </p:nvPicPr>
        <p:blipFill>
          <a:blip r:embed="rId1"/>
          <a:stretch/>
        </p:blipFill>
        <p:spPr>
          <a:xfrm>
            <a:off x="4716360" y="549360"/>
            <a:ext cx="41799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0:57:14Z</dcterms:created>
  <dc:creator>Гости кабинета</dc:creator>
  <dc:description/>
  <dc:language>en-US</dc:language>
  <cp:lastModifiedBy>Олег</cp:lastModifiedBy>
  <dcterms:modified xsi:type="dcterms:W3CDTF">2012-12-18T18:14:28Z</dcterms:modified>
  <cp:revision>52</cp:revision>
  <dc:subject/>
  <dc:title>Второстепенные члены предложения (на материале повести  А.С. Пушкина  «Капитанская дочка»)</dc:title>
</cp:coreProperties>
</file>