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517C-A1C4-4FB2-AE14-F66FEE8D8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353A-BC7F-4C36-A231-F5BFA5BE9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BEB3-1450-4FD3-8FDA-9D58CB85F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A11A-B532-48D8-AA73-4B31548AD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4CAE5-BA2D-4C84-8494-F22B89920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D2E7C-7B4F-40C3-9363-FAA0BAEC8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61B39-1C40-44D7-99CD-73FE3B502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AB3B5-0BB8-4D36-AC9A-7DAD69197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54E40-5162-49DB-8E07-035FEC733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FEC4C-009E-466A-B500-D631B3F72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D6433-F18D-4585-B13E-3826F815D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F482-267C-4DB5-8009-A66CFF00E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0FFF4-5118-4A61-B1E9-54822A1F3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5EA58-35B0-4E1B-9F0D-A6389BD77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17094-2FA6-4EE5-87C4-FE746C44E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80807-03B6-4329-B3D9-6E8C8D4FA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71C6B-7342-470E-9E2E-0D1E11F6D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325250-2EA0-4965-9F82-AF15C45D3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C1D006-6D6C-4512-B28B-DFEA48B31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206530-FEDE-48A3-88C8-07605F3F2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041394-0771-447C-88E2-9CDDD2212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F57583-3627-40D2-A890-CE94537F0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E6DD-DBA9-4884-9276-3902E040E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1B1A2F-99BF-4B57-A482-F5133A124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1F8C71-1EF0-4A1A-873D-D010E3E3B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599924-365A-4DDF-BA48-5489B191C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A788E7-5030-4920-A2BE-B7FCABD1D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CEA280-4F2B-47C7-9536-BD26C6558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B6D2C9-8251-45F6-9A47-023D363A8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ADA2A1-6143-4396-BCE0-E5A02C444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FF9838-238E-4352-9D48-D0E600C3F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73AEC5-EB1B-477C-B84A-AC4C635E4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4E138F-C91A-40CA-9115-581073D99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2F83-0F88-4489-8098-EE0979ECC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6C1394-34B0-4083-9426-14CAFB3DF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4F1F38-246C-401C-9CFF-AED09EED8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7B4153-723E-41C2-82D3-BE6E95CD3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656361-5CA1-4E1A-8C13-5CA2CE330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13590C-7141-4B6E-876E-7F9B77D9C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9D354D-129D-460D-8447-419D078B2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532E56-A09C-4375-A09D-821C3D18F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071B12-B97F-4A22-8225-E21766F9D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CF9182-F17F-4BE5-9AC4-BD843143A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3DBF1F-85A4-4A47-B94D-03D4657A3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8702-FE37-4948-A7B4-BACE2DC12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A30E12-2034-4B58-B5AE-0C2A2A840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E21B47-F638-4901-8AE6-EF2CE0D03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DF6398-D691-4661-B3C9-E04FE3318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BCE0BB-8BFD-4465-B9EC-4303BDDAD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47D193-BFF9-4177-956B-FC7AA665B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0E7E5B-4FE2-48F8-8B8A-7F265CAEA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30D489-9AC6-4EC8-9FD7-9A88496BF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B870CF-2B86-4B1A-920C-3AD8B06E6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195722-BDAB-4D34-B111-A50601B8C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1EBAF3-6F60-4125-A270-1D81F6463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B2AE-BFB6-49CD-A38F-A69D632E6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D766B9-2C6D-4192-B6BE-1BCD09D9B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6CB9-85B4-4AB3-9474-C004A8138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7092-92B6-44FB-9881-AA0910444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75B1-362B-4C0E-8F2D-B8EDCE9F1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3929D-F6B3-461A-A3BA-61249037033D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2CED9-FA55-493E-B7B6-945279A8640C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1630C-B21F-42A1-BDEE-F76BC457D0BF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02226-994F-4F00-8C70-47F8EA877222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17A98-B299-4A29-8A8E-463FE3641A8C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Содержимое 2"/>
          <p:cNvSpPr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6000" spc="-1" strike="noStrike">
                <a:solidFill>
                  <a:srgbClr val="000000"/>
                </a:solidFill>
                <a:latin typeface="Verdana"/>
              </a:rPr>
              <a:t>СОТНЕСТИ УСТАРЕВШИЕ СЛОВА С СОВРЕМЕННЫМИ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Заголовок 1"/>
          <p:cNvSpPr/>
          <p:nvPr/>
        </p:nvSpPr>
        <p:spPr>
          <a:xfrm>
            <a:off x="500040" y="35712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ЗАДАНИЕ ДЛЯ 1 ГРУППЫ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3"/>
          <p:cNvSpPr/>
          <p:nvPr/>
        </p:nvSpPr>
        <p:spPr>
          <a:xfrm>
            <a:off x="428760" y="1000080"/>
            <a:ext cx="8229600" cy="47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Фортец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Челобитье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Лазутчик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пасти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упостат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Жаловать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ечерня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казия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енять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Line 4"/>
          <p:cNvSpPr/>
          <p:nvPr/>
        </p:nvSpPr>
        <p:spPr>
          <a:xfrm>
            <a:off x="2598840" y="124452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Line 5"/>
          <p:cNvSpPr/>
          <p:nvPr/>
        </p:nvSpPr>
        <p:spPr>
          <a:xfrm>
            <a:off x="3030480" y="17496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Line 6"/>
          <p:cNvSpPr/>
          <p:nvPr/>
        </p:nvSpPr>
        <p:spPr>
          <a:xfrm>
            <a:off x="2455920" y="232416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Line 8"/>
          <p:cNvSpPr/>
          <p:nvPr/>
        </p:nvSpPr>
        <p:spPr>
          <a:xfrm>
            <a:off x="2382840" y="282888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Line 9"/>
          <p:cNvSpPr/>
          <p:nvPr/>
        </p:nvSpPr>
        <p:spPr>
          <a:xfrm>
            <a:off x="2455920" y="333360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Line 10"/>
          <p:cNvSpPr/>
          <p:nvPr/>
        </p:nvSpPr>
        <p:spPr>
          <a:xfrm>
            <a:off x="2671920" y="3908520"/>
            <a:ext cx="194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Line 11"/>
          <p:cNvSpPr/>
          <p:nvPr/>
        </p:nvSpPr>
        <p:spPr>
          <a:xfrm>
            <a:off x="2455920" y="434196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Line 12"/>
          <p:cNvSpPr/>
          <p:nvPr/>
        </p:nvSpPr>
        <p:spPr>
          <a:xfrm>
            <a:off x="2166840" y="4844880"/>
            <a:ext cx="208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Line 13"/>
          <p:cNvSpPr/>
          <p:nvPr/>
        </p:nvSpPr>
        <p:spPr>
          <a:xfrm>
            <a:off x="2166840" y="5349960"/>
            <a:ext cx="208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Oval 14"/>
          <p:cNvSpPr/>
          <p:nvPr/>
        </p:nvSpPr>
        <p:spPr>
          <a:xfrm>
            <a:off x="6127920" y="5060880"/>
            <a:ext cx="2303280" cy="4320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РЕП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Oval 15"/>
          <p:cNvSpPr/>
          <p:nvPr/>
        </p:nvSpPr>
        <p:spPr>
          <a:xfrm>
            <a:off x="6056280" y="884160"/>
            <a:ext cx="2374920" cy="4320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ЛУЖБ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Oval 16"/>
          <p:cNvSpPr/>
          <p:nvPr/>
        </p:nvSpPr>
        <p:spPr>
          <a:xfrm>
            <a:off x="6056280" y="1965240"/>
            <a:ext cx="2374920" cy="4320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БЕД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Oval 17"/>
          <p:cNvSpPr/>
          <p:nvPr/>
        </p:nvSpPr>
        <p:spPr>
          <a:xfrm>
            <a:off x="6056280" y="1460520"/>
            <a:ext cx="2374920" cy="43164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ГРАЖДА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Oval 18"/>
          <p:cNvSpPr/>
          <p:nvPr/>
        </p:nvSpPr>
        <p:spPr>
          <a:xfrm>
            <a:off x="6056280" y="2973240"/>
            <a:ext cx="2374920" cy="4320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ВЕДЧИК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Oval 19"/>
          <p:cNvSpPr/>
          <p:nvPr/>
        </p:nvSpPr>
        <p:spPr>
          <a:xfrm>
            <a:off x="6056280" y="2468520"/>
            <a:ext cx="2374920" cy="4320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КОРЯ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Oval 20"/>
          <p:cNvSpPr/>
          <p:nvPr/>
        </p:nvSpPr>
        <p:spPr>
          <a:xfrm>
            <a:off x="6127920" y="3476520"/>
            <a:ext cx="2374560" cy="4320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КЛОН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Oval 23"/>
          <p:cNvSpPr/>
          <p:nvPr/>
        </p:nvSpPr>
        <p:spPr>
          <a:xfrm>
            <a:off x="6127920" y="4052880"/>
            <a:ext cx="2374560" cy="43164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ЛУЧА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Oval 24"/>
          <p:cNvSpPr/>
          <p:nvPr/>
        </p:nvSpPr>
        <p:spPr>
          <a:xfrm>
            <a:off x="6056280" y="4557600"/>
            <a:ext cx="2376360" cy="4320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РАГ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12-03T07:24:52Z</dcterms:modified>
  <cp:revision>2</cp:revision>
  <dc:subject/>
  <dc:title>Слайд 1</dc:title>
</cp:coreProperties>
</file>