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529-3FFF-4AA4-B235-BED7A26B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293-A780-4253-9884-A019D31E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A04-A2CD-4E6F-95E3-DD8263ED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3F9-217A-4391-9668-6ED3D668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40B4-7160-4B86-BB6D-30544B3E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A622-0850-4C19-B3E0-FED601CE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7A5A-77CC-415D-8300-0B75D725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301B-7593-494B-9ABE-40188E9D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5E04-944B-495F-9329-3E07223A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9774-7699-4619-85FB-8ED0E58D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BDF4-CEAF-480A-AC01-D96E56C7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248-072A-46B7-A456-F8EBCF7F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B186-8C3E-4F2E-A862-3291F36F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009E-45BA-4B4D-8AAE-460CDBF0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3AC9-2BFC-4B14-8278-CE1BC3CF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82BB-8432-417D-BEF2-373D70A2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6499-E27E-4B43-97F7-56054979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81879-593D-4610-BF9A-C03484FD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6D87-A3A4-4A03-BFE0-95AA7D91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2D47D-2AE7-4806-85FF-3965F111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6C4A9-5BC6-455A-B3DB-4994CEDF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7CB93-B200-4B6A-845C-C170EC80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6B9-EC7C-4984-8C17-DBFB17BC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4EDB-3180-4D3F-99C9-BAA467AA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582E2-55F7-4CA1-B301-0E9AE34D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2D89E-5AB0-439D-B5C1-ABC0EFA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ABD7-48D9-45F6-A7A8-B0BA5042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AE5A0-59DD-4440-8E04-51E86FAF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1467-9891-48BF-9658-2B46FD94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02CA8-6ABE-4D8C-B645-AB5BFE53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6DF8B-D448-4310-8AFC-AB628F3B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21DB1-4E40-4C62-AFA0-C015BDA4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658D4-0516-4035-AA53-CBE0D060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0CA-00CC-4605-9521-9EC8C20D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06CB4-68A3-49F0-B45D-24B2CBC4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A9CD-14D1-4B2D-ACB4-804110DA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08CEC-2902-42C4-8146-1B120831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28C92-D172-4374-A266-528005DA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AF99B-DA29-4911-813D-4B265190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AC23-EE45-425C-B6D1-422CA0DB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B5972-3126-44DA-9EA8-5560D33F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1D2CC-F40E-4CAC-8620-688790C2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77B1B-8EA9-4ED1-9FB0-A73F53F9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B27CD-DFBB-4547-95CE-05A46542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9B7-FAA1-473B-B8C6-75E29252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E0511-5EEA-4C66-B03B-21D5F2D7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949D2-7973-4289-BBAC-D49D9872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9E927-8056-494A-B831-50246928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4BDB3-7664-4D42-B0DB-F09937D4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361C8-85A0-40EA-A95D-8D59131B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F527D-816B-4E17-8119-F0578AA2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99CA3-3EB0-47E9-A202-CCF07DB8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6A05B-73B3-4874-A16C-4B267060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578D8-E455-40E7-B882-940DF36C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754DA-CEE0-48AD-A3F1-1E2D4ABE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A87-1EF8-4A37-8000-0E4700B1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69736-B21A-4A57-9C95-3B389979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16A-5CCA-42CB-8F30-AFC5FA2B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0EE-2D9D-4790-96E3-5D8B972F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A35-DF6C-4B1E-A553-48F6556C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1129-859F-4A0B-B745-201C043C9A8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C633-8B43-4A7D-874D-049065DC185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1D72-B732-43B8-BA99-1480A8A80E7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DC84-A8CF-468A-B572-FAE3CD36E44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0C1E-3176-494A-9471-EB8025377F8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одержимое 2"/>
          <p:cNvSpPr/>
          <p:nvPr/>
        </p:nvSpPr>
        <p:spPr>
          <a:xfrm>
            <a:off x="28584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ВСТАВЬТЕ ПОДХОДЯЩИЕ ПО СМЫСЛУ СЛОВА В ПОСЛОВИЦЫ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Заголовок 1"/>
          <p:cNvSpPr/>
          <p:nvPr/>
        </p:nvSpPr>
        <p:spPr>
          <a:xfrm>
            <a:off x="500040" y="3571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ЗАДАНИЕ ДЛЯ 2 ГРУПП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Untitled-1.jpg"/>
          <p:cNvPicPr/>
          <p:nvPr/>
        </p:nvPicPr>
        <p:blipFill>
          <a:blip r:embed="rId1"/>
          <a:srcRect l="1956" t="0" r="2409" b="0"/>
          <a:stretch/>
        </p:blipFill>
        <p:spPr>
          <a:xfrm>
            <a:off x="357120" y="785880"/>
            <a:ext cx="8429760" cy="52959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" descr="Untitled-1.jpg"/>
          <p:cNvPicPr/>
          <p:nvPr/>
        </p:nvPicPr>
        <p:blipFill>
          <a:blip r:embed="rId2"/>
          <a:srcRect l="1956" t="0" r="2409" b="0"/>
          <a:stretch/>
        </p:blipFill>
        <p:spPr>
          <a:xfrm>
            <a:off x="357120" y="785880"/>
            <a:ext cx="8429760" cy="52959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2928960" y="15717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6500880" y="15717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1428840" y="20718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4286160" y="25002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1571760" y="30002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4714920" y="34290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4357800" y="39290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Box 10"/>
          <p:cNvSpPr/>
          <p:nvPr/>
        </p:nvSpPr>
        <p:spPr>
          <a:xfrm>
            <a:off x="2143080" y="43578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F:\Untitled-2.jpg"/>
          <p:cNvPicPr/>
          <p:nvPr/>
        </p:nvPicPr>
        <p:blipFill>
          <a:blip r:embed="rId1"/>
          <a:srcRect l="3115" t="0" r="6557" b="0"/>
          <a:stretch/>
        </p:blipFill>
        <p:spPr>
          <a:xfrm>
            <a:off x="428760" y="963720"/>
            <a:ext cx="8143920" cy="5465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F:\Untitled-2.jpg"/>
          <p:cNvPicPr/>
          <p:nvPr/>
        </p:nvPicPr>
        <p:blipFill>
          <a:blip r:embed="rId2"/>
          <a:srcRect l="3115" t="0" r="6557" b="0"/>
          <a:stretch/>
        </p:blipFill>
        <p:spPr>
          <a:xfrm>
            <a:off x="428760" y="963720"/>
            <a:ext cx="8143920" cy="54655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3500280" y="1785960"/>
            <a:ext cx="21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2000160" y="2357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1428840" y="27860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2714760" y="3286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2071800" y="37148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2786040" y="42148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03T07:24:45Z</dcterms:modified>
  <cp:revision>2</cp:revision>
  <dc:subject/>
  <dc:title>Слайд 1</dc:title>
</cp:coreProperties>
</file>