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5B1A-3EBE-440E-A5A8-885CAE929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2992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963F-02BD-4260-913E-608089200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63F3-05FC-431C-9911-31DEA970A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9BB7-E138-47C3-9C2A-CFDFFD96C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2F36-F750-4466-8A64-D11752668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70DC7-84C4-4FA2-97D1-59C2E98F1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652F-42AC-4E96-A476-4D4A76FCF4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C47F-C50C-46B9-9340-7C19328691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792D-93FF-4313-B1F6-A3C94BE3CB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8D18-26F1-4B94-8A51-7A4938201A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08C7-F28C-4F40-8155-13F26A2A1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16B7-5661-4A37-9B11-DA47961B9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3CF7-D0A0-46AF-B252-82683ED8A8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9868-6568-46FB-B3C0-F2548466D9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2992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9619-9E0C-441E-AB75-9B5ADDDF5E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541C-AB99-4327-83EC-27ED78657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3CFE-A895-413B-975D-B86E61F073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461-23AB-44BD-81C2-536A51C24B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38D-8887-4DF6-BA6E-F789016CCC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498-8EA1-4B31-8D61-2060F57444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213-DD42-401B-83AB-8D3205C1FE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279-5723-403E-9134-4B1E72C16D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DE05-2666-4E55-9344-9F67353BD6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046-5DB2-4193-9662-D28682DBB9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B78-9321-43FA-B207-D0D2F96347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128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12A-B5C3-4E7B-B36C-869C79B7AA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DFB-90A8-49A8-A1BF-44146FAC4D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66320" y="412992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8A8-1752-4388-923F-FCC8F38CAF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128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3DE-5CF1-4485-9B4B-91BF26E7BB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6632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1656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67160" y="4129920"/>
            <a:ext cx="2428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E1B-5774-45F4-B616-DC4B6CFFB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0539-FD49-4BAE-AE2A-3542DBF27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B0C4-8BF0-4BB0-A544-8F8A4543A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877F-5313-45A7-9A7D-8486DB07A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DF04-CDAA-434D-816F-8EFFAB474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2992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E317-45DB-4BE4-ABD5-E71495BB2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29920"/>
            <a:ext cx="75423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0F6D-7239-4331-864D-51C04AD2C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5D5C3F-AD26-4194-B504-57F46295F4C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1DC52E-AD0C-4336-8125-F5BB43C6E7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550789-03B0-4CC3-96F6-6B1C536572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-108000"/>
            <a:ext cx="7086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нформационная этика и правовые основы защиты информ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863960" y="4437000"/>
            <a:ext cx="44960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инфор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Новомальтинская СОШ №13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ев Павел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4500720"/>
            <a:ext cx="449568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СОШ №2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олье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ишнякова Дарья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19280" y="-27000"/>
            <a:ext cx="701028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eaeaea"/>
                </a:solidFill>
                <a:latin typeface="Tahoma"/>
              </a:rPr>
              <a:t>Ресурс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- </a:t>
            </a: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это запас или источник некоторых средств</a:t>
            </a: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2246040" cy="1693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4360" y="407664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якое общество, государство, фирма или частное лицо имеет определенные ресурсы, необходимые для его жизне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9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9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9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9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9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35280" y="836640"/>
            <a:ext cx="67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Информацион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документы или массивы документов в информационных системах (библиотеках, архивах, фондах, банках данных, других информационных системах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450864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РФ «Об информации, информатизации и защите информации», принятый Государственной Думой 25 января 1995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35280" y="836640"/>
            <a:ext cx="67690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являются стратегическими ресурсами наряду с традиционн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ко между информационными ресурсами и всякими иными существует одно важнейшее различие: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сякий ресурс, кроме информационного, после использования исчез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-3024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 основу классификации можно положи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220500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аслевой принцип (по виду науки, промышленности, социальной сферы и т.п., к чему относится информац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 представления (по виду носителей, степени формализованности, наличию дополнительного описания и п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9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9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9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9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9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79280" y="-5172480"/>
            <a:ext cx="8712360" cy="11841480"/>
            <a:chOff x="179280" y="-5172480"/>
            <a:chExt cx="8712360" cy="11841480"/>
          </a:xfrm>
        </p:grpSpPr>
        <p:cxnSp>
          <p:nvCxnSpPr>
            <p:cNvPr id="197" name=""/>
            <p:cNvCxnSpPr>
              <a:stCxn id="198" idx="1"/>
              <a:endCxn id="199" idx="2"/>
            </p:cNvCxnSpPr>
            <p:nvPr/>
          </p:nvCxnSpPr>
          <p:spPr>
            <a:xfrm rot="10800000">
              <a:off x="1921680" y="-5172120"/>
              <a:ext cx="872280" cy="581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"/>
            <p:cNvCxnSpPr>
              <a:stCxn id="201" idx="1"/>
              <a:endCxn id="199" idx="2"/>
            </p:cNvCxnSpPr>
            <p:nvPr/>
          </p:nvCxnSpPr>
          <p:spPr>
            <a:xfrm rot="10800000">
              <a:off x="1921680" y="-4498920"/>
              <a:ext cx="872280" cy="5139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2" name=""/>
            <p:cNvCxnSpPr>
              <a:stCxn id="203" idx="1"/>
              <a:endCxn id="199" idx="2"/>
            </p:cNvCxnSpPr>
            <p:nvPr/>
          </p:nvCxnSpPr>
          <p:spPr>
            <a:xfrm rot="10800000">
              <a:off x="1921680" y="-3830040"/>
              <a:ext cx="872280" cy="446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4" name=""/>
            <p:cNvCxnSpPr>
              <a:stCxn id="205" idx="1"/>
              <a:endCxn id="199" idx="2"/>
            </p:cNvCxnSpPr>
            <p:nvPr/>
          </p:nvCxnSpPr>
          <p:spPr>
            <a:xfrm rot="10800000">
              <a:off x="1921680" y="-3159000"/>
              <a:ext cx="872280" cy="379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6" name=""/>
            <p:cNvCxnSpPr>
              <a:stCxn id="207" idx="1"/>
              <a:endCxn id="199" idx="2"/>
            </p:cNvCxnSpPr>
            <p:nvPr/>
          </p:nvCxnSpPr>
          <p:spPr>
            <a:xfrm rot="10800000">
              <a:off x="1921680" y="-2490120"/>
              <a:ext cx="872280" cy="3129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8" name=""/>
            <p:cNvCxnSpPr>
              <a:stCxn id="209" idx="1"/>
              <a:endCxn id="199" idx="2"/>
            </p:cNvCxnSpPr>
            <p:nvPr/>
          </p:nvCxnSpPr>
          <p:spPr>
            <a:xfrm rot="10800000">
              <a:off x="1921680" y="-1820520"/>
              <a:ext cx="872280" cy="245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0" name=""/>
            <p:cNvCxnSpPr>
              <a:stCxn id="211" idx="1"/>
              <a:endCxn id="199" idx="2"/>
            </p:cNvCxnSpPr>
            <p:nvPr/>
          </p:nvCxnSpPr>
          <p:spPr>
            <a:xfrm rot="10800000">
              <a:off x="1921680" y="-1149480"/>
              <a:ext cx="872280" cy="178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2" name=""/>
            <p:cNvCxnSpPr>
              <a:stCxn id="213" idx="1"/>
              <a:endCxn id="199" idx="2"/>
            </p:cNvCxnSpPr>
            <p:nvPr/>
          </p:nvCxnSpPr>
          <p:spPr>
            <a:xfrm rot="10800000">
              <a:off x="1921680" y="-480240"/>
              <a:ext cx="872280" cy="1118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4" name=""/>
            <p:cNvCxnSpPr>
              <a:stCxn id="215" idx="1"/>
              <a:endCxn id="199" idx="2"/>
            </p:cNvCxnSpPr>
            <p:nvPr/>
          </p:nvCxnSpPr>
          <p:spPr>
            <a:xfrm rot="10800000">
              <a:off x="1921680" y="192960"/>
              <a:ext cx="872280" cy="446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>
              <a:off x="179280" y="189000"/>
              <a:ext cx="5227920" cy="4474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циональные информационные ресурсы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4080" y="860400"/>
              <a:ext cx="5227560" cy="4478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Библиотечные ресурсы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64080" y="1530360"/>
              <a:ext cx="5227560" cy="4478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Архивные ресурсы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64080" y="2201760"/>
              <a:ext cx="5227560" cy="4478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учно-техническая информац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4080" y="2871720"/>
              <a:ext cx="5227560" cy="4478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равовая информац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64080" y="3543480"/>
              <a:ext cx="5227560" cy="4460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Информация государственных (властных) структур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64080" y="4211640"/>
              <a:ext cx="5227560" cy="4460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траслевая информац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64080" y="4881600"/>
              <a:ext cx="5227560" cy="4474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Финансовая и экономическая информац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64080" y="5551560"/>
              <a:ext cx="5227560" cy="4460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Информация о природных ресурсах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64080" y="6221520"/>
              <a:ext cx="5227560" cy="4474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Информация предприятий и учреждени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4000" y="2060640"/>
            <a:ext cx="85690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компьютерных информационных технологий способствует формированию рынка информационных ресур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 – информационные продукты и услу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и на всяком рынке, на рынке информационных товаров и услуг есть свои поставщики(продавцы) и потребители (покупатели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значит и желающие обойти закон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-3024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ынок информационных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5d5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224840" y="0"/>
            <a:ext cx="1919160" cy="2971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274 УК РФ – нарушение правил эксплуатации ЭВМ, системы ЭВМ или их се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7.12 КоАП РФ - нарушение авторских и смежных прав, изобретательских и патентных пра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13.2 КоАП РФ – самовольное подключение к сети электрической связи оконечного оборудов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13.3 КоАП РФ – самовольное проектирование, строительство, изготовление, приобретение, установка или эксплуатация радиоэлектронных средств и (или) высокочастотных устройст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13.4 КоАП РФ – нарушение правил проектирования, строительства, установки, регистрации или эксплуатации радиоэлектронных средств и (или) высокочастотных устройст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13.13 КоАП РФ – незаконная деятельность в области защиты информ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14.1 КоАП РФ – осуществление предпринимательской деятельности без государственной регистрации или без специального разрешения (лицензии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14.2 КоАП РФ – незаконная продажа товаров (иных вещей), свободная реализация которых запрещена или ограничен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14.4 (ч2) КоАП РФ – продажа товаров, выполнение работ либо оказание населению услуг ненадлежащего качества или с нарушением санитарных прави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т.20.24 КоАП РФ – незаконное использование специальных технических средств, предназначенных для негласного получения информации, в частной детективной или охранной деятель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5d5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372440" y="0"/>
            <a:ext cx="1771560" cy="2743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52280"/>
            <a:ext cx="73152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ч.2 ст.138 УК РФ – нарушение тайны переписки, телефонных переговоров, почтовых телеграфных или иных сообщений с использованием СТС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ч.3 ст.138 УК РФ – незаконное производство, сбыт или приобретение в целях сбыта СТ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ст.146 УК РФ – нарушение авторских и смежных прав (распространение не лицензированного программного обеспечения для ЭВМ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ст.165 УК РФ – причинение имущественного ущерба путем обмана или злоупотребления доверием (незаконный доступ к телекоммуникационным сетям, организация незаконных междугородних и международных переговорных пунктов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ст.171 УК РФ – незаконное предпринимательство (оказание услуг связи и провайдерских услуг без лицензии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ст.188 УК РФ – контрабанда (незаконный ввоз крупных партий ограниченных в свободном обороте РЭС и СТС, не лицензированного программного обеспечения для ЭВМ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ст.242 УК РФ – незаконное распространение порнографических материалов или предметов (распространение порнографических материалов в сети Интернет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ст.272 УК РФ – неправомерный доступ к компьютерной информ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ст.273 УК РФ – создание, использование и распространение вредоносных программ для ЭВ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 кем будешь ты?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успевающий человек, уважающи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880" y="2362320"/>
            <a:ext cx="4654800" cy="3460680"/>
            <a:chOff x="380880" y="2362320"/>
            <a:chExt cx="4654800" cy="346068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380880" y="2362320"/>
              <a:ext cx="465480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80880" y="2362320"/>
              <a:ext cx="4654800" cy="34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334120" y="1523880"/>
            <a:ext cx="3124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лоумышлен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10080" y="2362320"/>
            <a:ext cx="2846520" cy="3429000"/>
            <a:chOff x="5410080" y="2362320"/>
            <a:chExt cx="2846520" cy="342900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5410080" y="2362320"/>
              <a:ext cx="28465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410080" y="2362320"/>
              <a:ext cx="28465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352680" y="571500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ыбор за тобой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 вним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ктуальность т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981080"/>
            <a:ext cx="53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всё больше людей вовлекается в информационную сферу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явились люди, которые производят поддельное программное обеспечение, совершают компьютерные преступ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56360" y="2133720"/>
            <a:ext cx="280836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4869000"/>
            <a:ext cx="76327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направленные или непреднамеренные воздействия  на информационную сферу со стороны внешних или же внутренних источников представляют собой угрозы для безопасности человека и об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343400" cy="28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нформационная безопас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стояние защищенности информационной среды общест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беспечивающее ее формирование и развитие в интересах граждан, организаций и государ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8764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63840" y="4786200"/>
            <a:ext cx="58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нформационная безопасность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ть составная часть информационных технологий — области, развивающейся беспрецедентно высокими темп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66680" y="60480"/>
            <a:ext cx="754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Угрозы информационной безопас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981080"/>
            <a:ext cx="5305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грозой (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threat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нимаются характеристики, свойства системы и окружающей среды, которые в соответствующих условиях могут вызвать появление опасного собы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гроза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отенциальная возможность определенным образом нарушить информационную безопас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пытка реализа­ц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угрозы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такой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тот, кто предпринимает такую попытку, —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злоумышленником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енциальные злоумышленники называютс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сточниками угрозы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56360" y="2133720"/>
            <a:ext cx="280836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и разновидности угроз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гроза нарушения конфиденциальност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лючается в том, что информация становится известной тому, кто не располагает полномочиями доступа к 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гроза нарушения целостности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ая включает в себя любое умышленное изменение информации, хранящейся в вычислительной системе или передаваемой из одной системы в другу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гроза отказа служб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икающая всякий раз, когда в результате преднамеренных действий, предпринимаемых другим пользователем или злоумышленником, блокируется доступ к некоторому ресурсу вычислительной системы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60480"/>
            <a:ext cx="8077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Направления защиты компьютерной информации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ми направлениями защиты информации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женерно-техн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49528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щита должна производиться как в интересах держателей информации (собственников, владельцев, пользователей), так и людей, имею­щих непосредственное отношение к ним (авторов, пациентов ме­дицинских учреждений, коммерсантов и т. д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8240" y="228600"/>
            <a:ext cx="88675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10-10-01T01:14:3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